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348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320"/>
            <a:ext cx="3273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5FB30-E741-47D1-A5A8-5DEB8A3BB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960-5D52-4AB5-BD39-5BCC2264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540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44D-9E33-4FAF-8C73-316E4E00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2A2-F425-417E-9E17-F8429CC2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C77-7D03-4AD5-9BB8-DE650C03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EE6-351E-4C3F-9736-90F7772C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D86-0B44-464A-8AA6-B4340C8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A13-F45E-4A13-B36C-8EC789BB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27B-23DD-4A3E-A28E-B156260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51F-213B-4DCA-80A2-E9A70FB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C24-C231-4F48-9FF6-167287A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AD3-E5C1-43E3-80D5-36D5B42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BBF-6E8A-4B15-A598-AA9BEDD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EBAC3-81ED-45B3-AE4A-EDF1958C43D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4240" y="2808360"/>
            <a:ext cx="1481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0560" y="2808360"/>
            <a:ext cx="1730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69960" y="504720"/>
            <a:ext cx="3902040" cy="230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34240" y="144360"/>
            <a:ext cx="281304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0280" y="3672000"/>
            <a:ext cx="3411720" cy="31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46520" y="3311640"/>
            <a:ext cx="2949480" cy="393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885000" y="345600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Медведь из массы для моделировани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228" t="0" r="12492" b="32326"/>
          <a:stretch/>
        </p:blipFill>
        <p:spPr>
          <a:xfrm>
            <a:off x="1871640" y="360360"/>
            <a:ext cx="5910120" cy="65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24807" r="0" b="28516"/>
          <a:stretch/>
        </p:blipFill>
        <p:spPr>
          <a:xfrm>
            <a:off x="247680" y="270000"/>
            <a:ext cx="9513720" cy="333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7136" t="28618" r="25001" b="30480"/>
          <a:stretch/>
        </p:blipFill>
        <p:spPr>
          <a:xfrm>
            <a:off x="809640" y="4032360"/>
            <a:ext cx="364320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36809" t="33378" r="35329" b="27567"/>
          <a:stretch/>
        </p:blipFill>
        <p:spPr>
          <a:xfrm>
            <a:off x="6408720" y="3959280"/>
            <a:ext cx="278784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17189" r="0" b="32327"/>
          <a:stretch/>
        </p:blipFill>
        <p:spPr>
          <a:xfrm>
            <a:off x="808200" y="287280"/>
            <a:ext cx="8030880" cy="304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34665" t="22902" r="30330" b="25661"/>
          <a:stretch/>
        </p:blipFill>
        <p:spPr>
          <a:xfrm>
            <a:off x="792000" y="3456000"/>
            <a:ext cx="3527640" cy="388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30180" t="21819" r="20961" b="21720"/>
          <a:stretch/>
        </p:blipFill>
        <p:spPr>
          <a:xfrm>
            <a:off x="4668840" y="3527280"/>
            <a:ext cx="44038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23238" t="20047" r="19098" b="23756"/>
          <a:stretch/>
        </p:blipFill>
        <p:spPr>
          <a:xfrm>
            <a:off x="6335640" y="4248000"/>
            <a:ext cx="3743280" cy="27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3238" t="21000" r="21759" b="24709"/>
          <a:stretch/>
        </p:blipFill>
        <p:spPr>
          <a:xfrm>
            <a:off x="119160" y="287280"/>
            <a:ext cx="398772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16095" t="19094" r="0" b="18039"/>
          <a:stretch/>
        </p:blipFill>
        <p:spPr>
          <a:xfrm>
            <a:off x="4264200" y="228600"/>
            <a:ext cx="5743440" cy="322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15012" t="0" r="8795" b="0"/>
          <a:stretch/>
        </p:blipFill>
        <p:spPr>
          <a:xfrm rot="16140000">
            <a:off x="1411920" y="2238480"/>
            <a:ext cx="371628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20380" t="14331" r="11043" b="7563"/>
          <a:stretch/>
        </p:blipFill>
        <p:spPr>
          <a:xfrm rot="5400000">
            <a:off x="1539000" y="810000"/>
            <a:ext cx="6912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953" t="0" r="14616" b="15185"/>
          <a:stretch/>
        </p:blipFill>
        <p:spPr>
          <a:xfrm>
            <a:off x="287280" y="1655640"/>
            <a:ext cx="4330800" cy="448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8768" t="21003" r="7413" b="21850"/>
          <a:stretch/>
        </p:blipFill>
        <p:spPr>
          <a:xfrm>
            <a:off x="4753080" y="1655640"/>
            <a:ext cx="4751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6808" t="8618" r="16045" b="5661"/>
          <a:stretch/>
        </p:blipFill>
        <p:spPr>
          <a:xfrm>
            <a:off x="2160720" y="360360"/>
            <a:ext cx="57592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6228" t="0" r="12492" b="32326"/>
          <a:stretch/>
        </p:blipFill>
        <p:spPr>
          <a:xfrm>
            <a:off x="1871640" y="360360"/>
            <a:ext cx="5910120" cy="65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20960" y="360360"/>
            <a:ext cx="621504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8440" y="287280"/>
            <a:ext cx="5767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оритм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" y="1008000"/>
            <a:ext cx="994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выбрать пластилин черного, коричневого или белого цв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2232000"/>
            <a:ext cx="10020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отщипнуть от массы кусочки для ушей и глаз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000" y="3024360"/>
            <a:ext cx="7334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скатать из оставшейся массы ша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00" y="3743280"/>
            <a:ext cx="680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раскатать из шара толстый жг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360" y="4471920"/>
            <a:ext cx="396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)скатать два ша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" y="5186520"/>
            <a:ext cx="82188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)приплюснуть один шар и вытянуть нос -получится голо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00" y="6551640"/>
            <a:ext cx="747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)разделить второй шар на две ча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92000" y="2448000"/>
            <a:ext cx="9288720" cy="10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3) Соединить детал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000" y="287280"/>
            <a:ext cx="8810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)разделить каждую часть еще на две ча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1152360"/>
            <a:ext cx="9816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)раскатать из частей заготовки в форме конус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60" y="1946160"/>
            <a:ext cx="9826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0) придать заготовкам форму задних и передних лап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680" y="3105000"/>
            <a:ext cx="6970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1)слепить из кусочков глаза, 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0" y="3887640"/>
            <a:ext cx="8253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)слепить из кусочка черного цвета но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1280" y="431640"/>
            <a:ext cx="97203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техники безопасности с пластилин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ежь стекой нужное количество пластил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рей кусочек пластилина теплом своих рук, чтобы он стал мягк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кончанию работы хорошо вытри руки сухой мягкой тряпочкой и только потом вымой их с мы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36720" y="863640"/>
            <a:ext cx="772632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итерии оценива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аккурат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закончен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оригинальность оформл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Самостояте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53920" y="750960"/>
            <a:ext cx="847908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1640" y="1224000"/>
            <a:ext cx="907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полнить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640" y="50328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7280" y="720720"/>
            <a:ext cx="94712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1007892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280" y="892080"/>
            <a:ext cx="95248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6360" y="407880"/>
            <a:ext cx="8959680" cy="67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17:48:06Z</dcterms:created>
  <dc:creator/>
  <dc:description/>
  <dc:language>en-US</dc:language>
  <cp:lastModifiedBy/>
  <dcterms:modified xsi:type="dcterms:W3CDTF">2017-12-18T20:28:16Z</dcterms:modified>
  <cp:revision>7</cp:revision>
  <dc:subject/>
  <dc:title/>
</cp:coreProperties>
</file>