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770-977E-4359-A64F-ACD52BB39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25F-0ECD-44FC-89BC-8453EAF64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173-E701-4B33-B86C-0A46E5FB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5C4-B204-4D60-AE40-2166E10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D62-A4CE-430A-A73E-5DE1E039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A27-B9FB-4982-A9C7-D20207ED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6A9F-2381-4871-BA5F-1D10985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C48C-B99A-4C82-9F0D-0021D83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CC5-514B-4337-84D5-DE9FB7C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C538-4E97-4FC3-A8FA-ABF3B73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FEE4-D04C-457E-971D-2587D35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4BE-4E7E-4D9F-B9D2-251649C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C2E9-C580-4596-9256-3CF76EA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5FD-2F65-4B71-9613-2ACE404D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C64-1EC1-4241-97AE-17B8A06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D8B-489C-4A58-B448-CFFD636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2771-41BA-43AF-9E53-04D5F39E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331-4245-4BE9-9E90-BB4DBF40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447-9FD1-4A96-80F2-E4A86D2F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1D2-98D5-4F9D-94A3-D222D9D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F30-EC4B-4CA6-BF65-354E8AF8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94-3BD2-4B74-96E1-9D7FDA03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5A4-A28E-4834-AE66-7031ED8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B4D-F1B5-4A17-AC05-FC2DC21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108-0D32-43EE-AF30-0984E82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F08-D3D2-40EF-B976-6CF2540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0560-0620-4B8D-A055-9765FFBFAD7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23C-4AA8-4771-8924-9F95AF4D02B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v-sidorov.ucoz.com/index/0-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59984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Технология воспитательного шо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4005000"/>
            <a:ext cx="525636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Gothic"/>
              </a:rPr>
              <a:t>«Зал»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24720" cy="5689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я о способе формирования «зала»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все желающие без ограничений, только по пригласительным билетам, только определённое количество представителей от каждого класса и т. д.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пределение структуры «зала»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расположение мест, отведение мест для зрителей, для участников, «групп поддержки», учителей, гостей, для жюри и т. п.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создание настроя «зала»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через слово, действия, оформление, введение правил и т. д.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бращения к «залу», поддерживающие интерес к шоу, вовлекающие зрителей в участие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эмоциональные обращения к «залу», рассчитанные на определённую реакцию зрителей, болельщиков; задания для «зала», обращение к «залу» за помощью и т. д.)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Gothic"/>
              </a:rPr>
              <a:t>Оценивание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6696360" cy="45259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редмет оценивания и критерии оценки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(что и как оценивается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кто и когда оценивает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техника оценивания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(как именно будет происходить оценивание: в баллах или рангах, будут оценивающие сами подсчитывать сумму баллов, или этим займётся специальная счётная комиссия, нужны ли бланки, будут ли вестись судейские протоколы и т. п.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способы предъявления оценок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Оформлени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8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определение предметов оформления (зал, сцена, вход, место для жюри и др.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определение ключевых образов и символов, передающих ценности и эмоции готовящегося шоу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выбор техники исполнения элементов оформления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Этапы проведения воспитательного шоу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запуск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основная част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«задание-оценивание» + сценическое действо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финал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11280" y="1052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Gothic"/>
              </a:rPr>
              <a:t>Виды оцен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8360" y="2708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оценивание жю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76720" y="371628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диноличное оцен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2708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ценивание з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1403280" y="1773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4500720" y="1844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508720" y="1700280"/>
            <a:ext cx="158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971640" y="765000"/>
            <a:ext cx="74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оу – это сценическое действо, и необходимо использовать соответствующие ему законы, связанные с завязкой, развитием, сценическим конфликтом, кульминацией, развяз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504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Значение шоу-технологии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638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ысокий эмоциональный уровень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остигается большая результативность воспитательной акц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хватывает большое количество дете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плачивает коллектив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пределение обязанностей будет проходить организованне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звитие критического мышления,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20000" cy="10843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Внеклассное мероприятие к 23 февраля «А ну-ка, мальчики!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64360" cy="452592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создать атмосферу праздника в игре-соревновании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оспитывать чувство патриотизма, уважения к профессии военного, желания служить в арм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познакомить детей с родами войск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развитие памяти, внимания, организованности, самостоятельности, умений согласовывать интересы в процессе преодоления определенных, соответствующих возрастным особенностям, трудностей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формирование коллектива, исключение разобщенности мальчиков и девочек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Подготовка к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8800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пределение с тематикой праздника, выбор формы его проведения (игра-соревнование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Изготовление сувениров для пап, дедушек на уроках труда, приглашений на праздник на уроках рисования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Разучивание стихов, загадок для участников игры на военную тему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формление класса (на стенде приколоты, вырезанные из цветной бумаги облака и изготовленные своими руками планеры из белой бумаги), подготовка мест для соревнующихся команд мальчиков, для жюри (приглашенные папы, дедушки), для зрителей (девочки)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Девочки готовят поздравления мальчикам. Оформленные поздравления помещаются на закрытой доске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Подготовка отличительных знаков командам, музыкального сопровожде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826920" y="1341360"/>
            <a:ext cx="7705800" cy="30200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оспитатель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это одно из средств воспитания, 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 воспитуемых к общечеловеческим культур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Проведение воспитательного шоу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396108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1 конкурс: «Кто быстрее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2 конкурс: «Лучшая память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3 конкурс: «Передача «секретного» сообщения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4 конкурс: «Путь следования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5 конкурс: «Портрет диверсанта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6 конкурс: «Сложи пословицы»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7 конкурс: «Маскировка»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Gothic"/>
              </a:rPr>
              <a:t>Оценив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172872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Оценивание проводит жюри, которое определяет победителя по сумме набранных баллов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7189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Вопросы к беседе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понравился ли вам праздник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что понравилось вам больше всего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что, на ваш взгляд, можно было бы исправить, сделать по-другому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что нового вы узнали о профессии военного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вызывает ли у вас эта профессия уважение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хотели бы вы служить в армии, быть военным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что вам не понравилось в празднике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411280" y="2205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Gothic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569440" cy="60483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1. Бабанский Ю. К. «Методические основы оптимизации учебно-воспитательного процесса» 1982г. – 480с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2. Орехова В. А.Педагогика в вопросах и ответах: учебн. Пособие. – М.: КНОРУС, 2006. – 147с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3. Поляков С.Д. Педагогическая инноватика: от идеи до практики / С.Д. Поляков – М.: Центр «Педагогический поиск», 2007. – 176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4. Поляков, С.Д. Технологии воспитания: Учеб.-метод. пособие / С.Д. Полякова. – М.:Гуманист. изд. центр ВЛАДОС, 2003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5. Селевко, Г.К. Воспитательные технологии. / Г.К Селевко. – М: НИИ школьных технологий, 2005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6. Советова Е. В.. Эффективные образовательные технологии. – Ростов н/Дону: Феникс, 2007. – 285с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7. Сидоров С.В. Сайт педагога-исследователя [Электронный ресурс]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sv-sidorov.ucoz.com/index/0-2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 (дата обращения: 29.03.2013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24000" y="836640"/>
            <a:ext cx="806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entury Gothic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entury Gothic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olyakovcd"/>
          <p:cNvPicPr/>
          <p:nvPr/>
        </p:nvPicPr>
        <p:blipFill>
          <a:blip r:embed="rId1"/>
          <a:stretch/>
        </p:blipFill>
        <p:spPr>
          <a:xfrm>
            <a:off x="611280" y="1052640"/>
            <a:ext cx="3473280" cy="4608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140360" y="836640"/>
            <a:ext cx="4032000" cy="4848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Поляков Сергей Данилович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профессор кафедры психологии Ульяновского государственного педагогического университета, доктор педагогических наук, один из главных исследователей проблем воспитания в современной российской школ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685440"/>
            <a:ext cx="83534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Признаки воспитательных технологий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тносительная массовость использования как гарантия воспроизводимости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устойчивость, типичность, которую можно выделить и назвать при описании этапов и алгоритмизации работы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тносительно высокая гарантированность определённого результата воспита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Особенности шоу-технологии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деление участников на выступающих («сцену») и зрителей («зал»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соревновательность на сцене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заготовленный организаторами сценарий шоу-программ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91920"/>
            <a:ext cx="7791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Этапы реализации шоу-технологии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подготовка шоу-программы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проведение воспитательного шоу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Gothic"/>
              </a:rPr>
              <a:t>Задачи организатора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52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зработка или поиск сценария шоу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ределение ответственности за режиссуру, использование технических средств (аудио- и видеотехники, освещения) и т. д.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подготовка «сцены», «зала», ведущего, процедуры оценивания, оформления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«Сцена»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решение о главном принципе отбора участников «сцены»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сбор участников, объяснение им задач, выбор формы шоу, настрой на участие, если надо – формирование команд, «домашних заданий»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помощь в подготовке «сцены» к участию в шо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Ведущий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ешение о ведущем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зработка программы ведения шоу и образа ведущего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епетиция ведения шоу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7:06:28Z</dcterms:created>
  <dc:creator>Loner-XP</dc:creator>
  <dc:description/>
  <dc:language>en-US</dc:language>
  <cp:lastModifiedBy>admin</cp:lastModifiedBy>
  <dcterms:modified xsi:type="dcterms:W3CDTF">2017-12-18T20:16:50Z</dcterms:modified>
  <cp:revision>4</cp:revision>
  <dc:subject/>
  <dc:title>Технология воспитательного шо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