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6.jpeg" ContentType="image/jpeg"/>
  <Override PartName="/ppt/media/image37.wmf" ContentType="image/x-wmf"/>
  <Override PartName="/ppt/media/image30.jpeg" ContentType="image/jpeg"/>
  <Override PartName="/ppt/media/image31.png" ContentType="image/png"/>
  <Override PartName="/ppt/media/image38.wmf" ContentType="image/x-wmf"/>
  <Override PartName="/ppt/media/image7.jpeg" ContentType="image/jpeg"/>
  <Override PartName="/ppt/media/image28.jpeg" ContentType="image/jpeg"/>
  <Override PartName="/ppt/media/image43.jpeg" ContentType="image/jpeg"/>
  <Override PartName="/ppt/media/image47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4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3.wmf" ContentType="image/x-wmf"/>
  <Override PartName="/ppt/media/image4.png" ContentType="image/png"/>
  <Override PartName="/ppt/media/image12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A9C-D87D-458E-8203-D5548570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3C5-976B-4388-A6FE-0513D70C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6FE-1D11-4C32-87CC-A7DB12C4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C78-DD9E-4007-B549-33F251AC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7C91-3132-4EC6-8AB3-6874D012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5B3B-7106-4D8D-9FEF-E95AB38B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B0C3-C766-4CC4-8047-4C401081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D4A1-992C-4812-A1A9-17F8DD6D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3260-51D7-4601-B9E4-F7EBE844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516D-994A-48BB-B7D8-C692C2B4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5015-3A8D-47BD-B86E-A03CEDCD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962-C239-4941-8D2D-2B979153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4CC1-F701-4B2C-A608-898EDBFD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BF31-EC39-49F1-B720-E2FA78CD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7164-2390-420E-9DBE-4F729DBA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5934-B35B-4376-9E0C-8AE99269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8024-E231-4926-855E-BCDD75D9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287-3C06-49E3-9964-3988B7BD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B8B-6E1C-4039-900C-28E46DFA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352-131E-4BE1-BA4C-8D0F7F10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DC9-F06E-4A47-98F3-CD4709D5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7751-25E2-48A9-A287-9C93DE01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A41-6C50-4D52-9B49-06DED551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B71-4B01-49A7-AC77-B6878DA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FBB2-4929-4D59-8877-AAF90F77F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EBFE-C616-411C-838D-82E5AACBF6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0160" y="0"/>
            <a:ext cx="51382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йонная научно-практическая конферен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Первые шаги в наук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71560" y="3284640"/>
            <a:ext cx="691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следовательская 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кция: би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растная категория 14-16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ы: Енина Екатерина, Лапо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банский р-он, п. Абан, Абанская МБОУ №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: Турова Любовь Анатольевна, учитель би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58920" y="1916280"/>
            <a:ext cx="70167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ffff"/>
                  </a:solidFill>
                  <a:miter/>
                </a:ln>
                <a:solidFill>
                  <a:srgbClr val="4beaff"/>
                </a:solidFill>
                <a:latin typeface="Times New Roman"/>
              </a:rPr>
              <a:t>Великое счастье - хорошо видеть.</a:t>
            </a:r>
            <a:endParaRPr b="0" lang="en-US" sz="1800" spc="1" strike="noStrike">
              <a:ln w="19080">
                <a:solidFill>
                  <a:srgbClr val="66ffff"/>
                </a:solidFill>
                <a:miter/>
              </a:ln>
              <a:solidFill>
                <a:srgbClr val="4beaff"/>
              </a:solidFill>
              <a:latin typeface="Times New Roman"/>
              <a:ea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2232000" cy="1952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79960" y="5725440"/>
            <a:ext cx="70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провождение врача-окулист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онович Галины Михайловны и Нестеровой Елены Иванов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0920" y="1773360"/>
            <a:ext cx="8642160" cy="4681440"/>
          </a:xfrm>
          <a:prstGeom prst="rect">
            <a:avLst/>
          </a:prstGeom>
          <a:solidFill>
            <a:srgbClr val="99f3ff"/>
          </a:solidFill>
          <a:ln w="9360">
            <a:solidFill>
              <a:srgbClr val="99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26920" y="549360"/>
            <a:ext cx="727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f3ff"/>
                </a:solidFill>
                <a:latin typeface="Times New Roman"/>
              </a:rPr>
              <a:t>результаты медицинского осмотра</a:t>
            </a:r>
            <a:endParaRPr b="0" lang="en-US" sz="1800" spc="1" strike="noStrike">
              <a:ln w="0">
                <a:noFill/>
              </a:ln>
              <a:solidFill>
                <a:srgbClr val="99f3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-324000" y="2565360"/>
          <a:ext cx="392760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2565360"/>
                    <a:ext cx="392760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45584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175280" y="2692440"/>
          <a:ext cx="4628880" cy="26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5280" y="2692440"/>
                    <a:ext cx="462888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1052640"/>
            <a:ext cx="8604000" cy="5400720"/>
          </a:xfrm>
          <a:prstGeom prst="rect">
            <a:avLst/>
          </a:prstGeom>
          <a:solidFill>
            <a:srgbClr val="4bea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8007120" cy="72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тин Суссман «Программа улучшения зрения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тин Брофман «Улучшите ваше зрени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.А Утехин Правила выполнения гимнастики «Зоркость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лана Троицкая «Избавиться от очков-убийц навсегда!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Г. Демирчоглян «Как сохранить и улучшить зрение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гарет Д. Корбет «Искусство правильного зрения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П.Биран «Великое счастье – хорошо видеть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ка Ю. З. Розенблюма, К. А. Мац и Н. И. Лохти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ка Э. С. Аветис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закарим С. Норбеков «Опыт дурака, или Ключ к прозрению: Как избавиться от очков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ександр и Ирина Медведевы «10 основных способов укрепления и восстановления зрения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ка У. Г. Бейт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,Афонин,В.Травинка «Как прекрасен этот мир- посмотр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мдес Хаксли «Как вернуть зрени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 Дроздов «Г,Шечко и его метод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32000" y="476280"/>
            <a:ext cx="698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beaff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методики восстановления зрения</a:t>
            </a:r>
            <a:endParaRPr b="0" lang="en-US" sz="1800" spc="1" strike="noStrike">
              <a:ln w="9360">
                <a:solidFill>
                  <a:srgbClr val="4beaff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332000" y="333360"/>
            <a:ext cx="668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beaff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программа восстановления зрения</a:t>
            </a:r>
            <a:endParaRPr b="0" lang="en-US" sz="1800" spc="1" strike="noStrike">
              <a:ln w="9360">
                <a:solidFill>
                  <a:srgbClr val="4beaff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773360"/>
            <a:ext cx="4248000" cy="40579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КИ – ЭТО ТУП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ТИЧЕСКИЕ КОСТЫЛИ ПРОПИСАННЫЕ ВРАЧАМИ НАВСЕГД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ки наносят вред, обездвиживают гл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ужно снять очки и дать возможность глазам видеть или заменить их на более слаб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РНИ СЕБЕ ЗРЕНИ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75680" y="1341360"/>
            <a:ext cx="308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само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массаж глаз и л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1480" y="2276640"/>
            <a:ext cx="35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водные процедуры для гл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43640" y="321300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пальм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501336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соляр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2400" y="5877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тренировка мышц гла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«эфирные глазки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400536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eaff"/>
                </a:solidFill>
                <a:latin typeface="Arial"/>
              </a:rPr>
              <a:t>«пиратские оч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4920" y="1312560"/>
            <a:ext cx="4319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ЛЬМИНГ- это биофорез гл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ем 3-5мин каждый час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 пальмингом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комплимент своим глаз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представить расслабление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представить что-то однородно-черное, темн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приятное воспомин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При выходе из пальминга  с закрытыми глазами  носом рисовать буквы пессимумы  (которые вы видите хуж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492360" y="333360"/>
            <a:ext cx="251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beaff"/>
                  </a:solidFill>
                  <a:miter/>
                </a:ln>
                <a:solidFill>
                  <a:srgbClr val="4beaff"/>
                </a:solidFill>
                <a:latin typeface="Times New Roman"/>
              </a:rPr>
              <a:t>пальминг</a:t>
            </a:r>
            <a:endParaRPr b="0" lang="en-US" sz="1800" spc="1" strike="noStrike">
              <a:ln w="9360">
                <a:solidFill>
                  <a:srgbClr val="4beaff"/>
                </a:solidFill>
                <a:miter/>
              </a:ln>
              <a:solidFill>
                <a:srgbClr val="4beaff"/>
              </a:solidFill>
              <a:latin typeface="Times New Roman"/>
              <a:ea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48360" y="981000"/>
            <a:ext cx="3421080" cy="2565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3635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40212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РАТСКИЕ ОЧКИ- одно из самых мощных упражн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итать, писать, смотреть телевизор, работать на компьютере, ходить дома , на природе, на отдыхе в одноглазых пиратских очках ,при этом зрение тренируется в обоих глазах, через 30минут делать пальминг и менять повязку с глаза на глаз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771640" y="189000"/>
            <a:ext cx="379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beaff"/>
                  </a:solidFill>
                  <a:miter/>
                </a:ln>
                <a:solidFill>
                  <a:srgbClr val="4beaff"/>
                </a:solidFill>
                <a:latin typeface="Times New Roman"/>
              </a:rPr>
              <a:t>"пиратские очки"</a:t>
            </a:r>
            <a:endParaRPr b="0" lang="en-US" sz="1800" spc="1" strike="noStrike">
              <a:ln w="9360">
                <a:solidFill>
                  <a:srgbClr val="4beaff"/>
                </a:solidFill>
                <a:miter/>
              </a:ln>
              <a:solidFill>
                <a:srgbClr val="4beaff"/>
              </a:solidFill>
              <a:latin typeface="Times New Roman"/>
              <a:ea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148360" y="1413000"/>
            <a:ext cx="34480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445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ЛЯРИЗАЦИЯ ГЛАЗ – обработка глаз солнечным или иным  светом- одно из наилучших упражнений  для восстановления зрения и расслабления глазодвигательных  мыш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ставляете глаза, закрытые веками, солнечному свет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16000" y="404640"/>
            <a:ext cx="30956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beaff"/>
                  </a:solidFill>
                  <a:miter/>
                </a:ln>
                <a:solidFill>
                  <a:srgbClr val="4beaff"/>
                </a:solidFill>
                <a:latin typeface="Times New Roman"/>
              </a:rPr>
              <a:t>соляризация</a:t>
            </a:r>
            <a:endParaRPr b="0" lang="en-US" sz="1800" spc="1" strike="noStrike">
              <a:ln w="9360">
                <a:solidFill>
                  <a:srgbClr val="4beaff"/>
                </a:solidFill>
                <a:miter/>
              </a:ln>
              <a:solidFill>
                <a:srgbClr val="4beaff"/>
              </a:solidFill>
              <a:latin typeface="Times New Roman"/>
              <a:ea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211640" y="4437000"/>
            <a:ext cx="2771640" cy="2130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3492720" cy="2287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084720" y="2565360"/>
            <a:ext cx="28800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0071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плекс упражнений для тренировки мышц гл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627280" y="0"/>
            <a:ext cx="424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beaff"/>
                  </a:solidFill>
                  <a:miter/>
                </a:ln>
                <a:solidFill>
                  <a:srgbClr val="4beaff"/>
                </a:solidFill>
                <a:latin typeface="Times New Roman"/>
              </a:rPr>
              <a:t>"эфирные глазки"</a:t>
            </a:r>
            <a:endParaRPr b="0" lang="en-US" sz="1800" spc="1" strike="noStrike">
              <a:ln w="9360">
                <a:solidFill>
                  <a:srgbClr val="4beaff"/>
                </a:solidFill>
                <a:miter/>
              </a:ln>
              <a:solidFill>
                <a:srgbClr val="4beaff"/>
              </a:solidFill>
              <a:latin typeface="Times New Roman"/>
              <a:ea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4190760" cy="2185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3851280" cy="2262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700360" y="4221000"/>
            <a:ext cx="32749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ражнения делать медленно, не резко, без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ражнений лучше меньше, но чаще. Лучше 6 раз по 5 минут, чем один раз по 30 мин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кого сильная близорукость больше –4 выполнять не более 3-4 раз повторов каждого упражнения, постепенно наращив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обая осторожность для тех , у кого было отслоение сетча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484360" y="26028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Times New Roman"/>
              </a:rPr>
              <a:t>предупреждения!!!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87280" y="691920"/>
            <a:ext cx="4021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484360" y="260280"/>
            <a:ext cx="47116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4beaff"/>
                </a:solidFill>
                <a:latin typeface="Times New Roman"/>
              </a:rPr>
              <a:t>реализация программы</a:t>
            </a:r>
            <a:endParaRPr b="0" lang="en-US" sz="1800" spc="1" strike="noStrike">
              <a:ln w="9360">
                <a:solidFill>
                  <a:srgbClr val="66ffff"/>
                </a:solidFill>
                <a:miter/>
              </a:ln>
              <a:solidFill>
                <a:srgbClr val="4bea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56360" y="765000"/>
            <a:ext cx="21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ру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580000" y="1268280"/>
            <a:ext cx="3024360" cy="2847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4103640" cy="3078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339640" y="4221000"/>
            <a:ext cx="45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тивация: все хотели улучшить зр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63640" y="46530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нали метод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440" y="501336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умели делать упраж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5800" y="501336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ли делать упраж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6520" y="537372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регулярно делали упраж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37800" y="537372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гулярно делали упраж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34520" y="57340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4160" y="573408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ло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68360" y="595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ульта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21080" y="62373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45440" y="623736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лучшение -5 до 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411280" y="6165720"/>
            <a:ext cx="165600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5640" y="6165720"/>
            <a:ext cx="9367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007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едрение программы по восстановлению зрения в режим школьного д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гулярное проведение упражнений в особо отведенное время во время занятий во всех класс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знакомить родителей с нашей програм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учение детей правильному пользованию глаз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пространить памятки по профилактике з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411280" y="189000"/>
            <a:ext cx="446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4beaff"/>
                </a:solidFill>
                <a:latin typeface="Times New Roman"/>
              </a:rPr>
              <a:t>перспектива работы</a:t>
            </a:r>
            <a:endParaRPr b="0" lang="en-US" sz="1800" spc="1" strike="noStrike">
              <a:ln w="9360">
                <a:solidFill>
                  <a:srgbClr val="66ffff"/>
                </a:solidFill>
                <a:miter/>
              </a:ln>
              <a:solidFill>
                <a:srgbClr val="4bea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87280" y="2060640"/>
            <a:ext cx="7267680" cy="20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как прекрасен этот мир -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посмотри!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732720" y="3789360"/>
            <a:ext cx="19717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71640" y="2708280"/>
            <a:ext cx="770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42920" y="2708280"/>
            <a:ext cx="7489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660066"/>
                    </a:gs>
                    <a:gs pos="50000">
                      <a:srgbClr val="cc00cc"/>
                    </a:gs>
                    <a:gs pos="100000">
                      <a:srgbClr val="660066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отличного вам зрения!!!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660066"/>
                  </a:gs>
                  <a:gs pos="50000">
                    <a:srgbClr val="cc00cc"/>
                  </a:gs>
                  <a:gs pos="100000">
                    <a:srgbClr val="660066"/>
                  </a:gs>
                </a:gsLst>
                <a:lin ang="5400000"/>
              </a:gradFill>
              <a:effectLst>
                <a:outerShdw dist="107932" dir="189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3470400" cy="234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3992400" cy="278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76720" y="2492280"/>
            <a:ext cx="2762280" cy="1860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364000" y="333360"/>
            <a:ext cx="3494160" cy="262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79280" y="595440"/>
            <a:ext cx="35528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3816360" cy="2860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4118040" cy="2824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788000" y="3573360"/>
            <a:ext cx="3504960" cy="2739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195640" y="4437000"/>
            <a:ext cx="2058840" cy="2211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87280" y="333360"/>
            <a:ext cx="1600200" cy="1017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0" y="4797360"/>
            <a:ext cx="20955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50040" y="4067280"/>
            <a:ext cx="3300120" cy="2136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692440" cy="1698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059280" y="3573360"/>
            <a:ext cx="1995480" cy="2440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50920" y="1052640"/>
            <a:ext cx="2539800" cy="2628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132000" y="549360"/>
            <a:ext cx="2540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80000" y="692280"/>
            <a:ext cx="3168720" cy="3025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380040" cy="211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708360" y="1197000"/>
            <a:ext cx="2217600" cy="3720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79280" y="2421000"/>
            <a:ext cx="3284640" cy="2477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940360" y="4076640"/>
            <a:ext cx="3005280" cy="2319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476360" y="5013360"/>
            <a:ext cx="3089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4069080" cy="2573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3492360" cy="2273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292720" y="549360"/>
            <a:ext cx="2824200" cy="2251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403280" y="620640"/>
            <a:ext cx="315756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837720" y="1904760"/>
          <a:ext cx="8007480" cy="4190760"/>
        </p:xfrm>
        <a:graphic>
          <a:graphicData uri="http://schemas.openxmlformats.org/drawingml/2006/table"/>
        </a:graphic>
      </p:graphicFrame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132000" y="260280"/>
            <a:ext cx="287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4beaff"/>
                </a:solidFill>
                <a:latin typeface="Times New Roman"/>
              </a:rPr>
              <a:t>анкетирование</a:t>
            </a:r>
            <a:endParaRPr b="0" lang="en-US" sz="1800" spc="1" strike="noStrike">
              <a:ln w="9360">
                <a:solidFill>
                  <a:srgbClr val="66ffff"/>
                </a:solidFill>
                <a:miter/>
              </a:ln>
              <a:solidFill>
                <a:srgbClr val="4bea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9280" y="981000"/>
            <a:ext cx="8785440" cy="5688000"/>
          </a:xfrm>
          <a:prstGeom prst="rect">
            <a:avLst/>
          </a:prstGeom>
          <a:solidFill>
            <a:srgbClr val="99f3ff"/>
          </a:solidFill>
          <a:ln w="9360">
            <a:solidFill>
              <a:srgbClr val="99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-324000" y="476280"/>
          <a:ext cx="471672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476280"/>
                    <a:ext cx="47167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067280" y="260280"/>
          <a:ext cx="4859280" cy="324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60280"/>
                    <a:ext cx="485928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68360" y="2705040"/>
          <a:ext cx="3630600" cy="242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705040"/>
                    <a:ext cx="3630600" cy="24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 txBox="1"/>
          <p:nvPr/>
        </p:nvSpPr>
        <p:spPr>
          <a:xfrm>
            <a:off x="1116000" y="260280"/>
            <a:ext cx="727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3ff"/>
                  </a:solidFill>
                  <a:miter/>
                </a:ln>
                <a:solidFill>
                  <a:srgbClr val="4beaff"/>
                </a:solidFill>
                <a:latin typeface="Times New Roman"/>
              </a:rPr>
              <a:t>результаты анкетирования</a:t>
            </a:r>
            <a:endParaRPr b="0" lang="en-US" sz="1800" spc="1" strike="noStrike">
              <a:ln w="9360">
                <a:solidFill>
                  <a:srgbClr val="99f3ff"/>
                </a:solidFill>
                <a:miter/>
              </a:ln>
              <a:solidFill>
                <a:srgbClr val="4bea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0" y="2349360"/>
          <a:ext cx="4183200" cy="279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349360"/>
                    <a:ext cx="41832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843280" y="4329000"/>
          <a:ext cx="3790800" cy="2529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3280" y="4329000"/>
                    <a:ext cx="3790800" cy="25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68360" y="4724280"/>
            <a:ext cx="253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растные периоды ухудшения зр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5:50:50Z</dcterms:created>
  <dc:creator>Пользователь</dc:creator>
  <dc:description/>
  <dc:language>en-US</dc:language>
  <cp:lastModifiedBy>Пользователь</cp:lastModifiedBy>
  <dcterms:modified xsi:type="dcterms:W3CDTF">2009-03-05T09:58:33Z</dcterms:modified>
  <cp:revision>8</cp:revision>
  <dc:subject/>
  <dc:title>Слайд 1</dc:title>
</cp:coreProperties>
</file>