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953-0E2C-48D1-AAA0-923B025A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D2D-1411-4995-80D4-70A7886E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B41-3A31-4CC8-962F-3C01D95B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119-2146-416B-857B-C3A881D3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837-841D-4589-A042-10F7EBF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7C2-831A-4006-8F93-726A7940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24F-3A46-403A-A64B-8141ADF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FD0-6157-41FE-A0F6-9BF4F24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99A-91C8-4A43-B26A-C9424AA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443-6FB2-4FD0-8F5E-CA297B7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763-3A74-467D-A3B3-ADF3A64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6B3-54EB-4877-B24C-1FF6D35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611E-2975-47F3-A7A5-DA9792B39E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Содержимое 4" descr="28.jpg"/>
          <p:cNvPicPr/>
          <p:nvPr/>
        </p:nvPicPr>
        <p:blipFill>
          <a:blip r:embed="rId1"/>
          <a:stretch/>
        </p:blipFill>
        <p:spPr>
          <a:xfrm>
            <a:off x="468360" y="2133720"/>
            <a:ext cx="3906720" cy="337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537372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имова Елена Никола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ая поч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ail, e-mail, от англ. electronic mail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 технология и предоставляемые ею услуги по пересылке и получению электронных сообщений (называемых «письма» или «электронные письма») по распределённой (в том числе глобальной) компьютерной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есть, электронная почта – это служба пересылки сообщений между абонентами в сети Интер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нцип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нная почта похожа на обыкновенную почт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вместо бумаги и ручки вы используете клавиатур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ирая текст письма в окне почтовой программы или брауз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ли почтовых отделений выступают почтовые серверы, а почтальонами служат каналы Интернета. Почтовые серверы хранят электронные почтовые ящики пользователей. Как только пользователь заглянет в свой почтовый ящик, он сразу увидит поступившие пись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овый серв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это мощный компьютер, а как мы знаем вся информация на компьютере хранится в виде файлов. Поэтому электронный ящик – это не что иное, как некоторая область на жестком диске компьютера (дисковое пространство), выделенная под хранение входящих и исходящих писем конкретного пользова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 электронной почты выглядит так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[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мя пользователя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@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[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мя почтового сервера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[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мен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) –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мвол-раздели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юсы и мину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электронной почты есть неоспоримые достоинств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корость пересылки пис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одновременной отправки одного и того же письма сразу нескольким получателя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 письму можно прикрепить файл любого формата, например, аудио, видео или фотограф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юбой человек в состоянии освоить работу с электронной поч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надежность доставки электронных пис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549360"/>
            <a:ext cx="77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есть свои недостат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возможно утаить адрес вашего ящика электронной почты, поэтому очень сложно защититься от такого явления как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м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ассовая рассылка писем рекламного характера, часто содержащих вирусы или имеющая цель выманить деньги или личные данные пользовател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ие на размер одного сообщения и на общий размер электронного ящика. По мере развития компьютерной техники эти ограничения становятся все менее заметными, но все же на большинстве интернет-порталов, предоставляющих возможность пользования электронной почтой, они е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1</cp:lastModifiedBy>
  <dcterms:modified xsi:type="dcterms:W3CDTF">2017-11-28T07:22:18Z</dcterms:modified>
  <cp:revision>9</cp:revision>
  <dc:subject/>
  <dc:title>Слайд 1</dc:title>
</cp:coreProperties>
</file>