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F3E-4D7E-4634-8FFD-B2CF58B0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75D-044C-46BF-B632-C2D040F5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43A-7587-4787-A857-D565287A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BB0-EBA7-4B55-BDAA-82AF22A8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B3F-52FE-4873-927D-D81D8369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B14-2851-4056-8B51-B3F0FB4A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903-8BBC-4DB7-BB08-02A0B19E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4E0-0323-4823-911E-86BBD72D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E40-1AA9-45ED-9210-6A96D477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774-17D6-49F5-B5E7-13877FE8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259-0A3E-4285-936A-801A842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736-EE1C-4901-85AF-7E30F2AF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905C-D126-491F-B40E-E7A9814A0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boben.ru/hhj/16/linii_siniy_fon_odnotonnyy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62400" y="868320"/>
            <a:ext cx="461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dce6f2"/>
                </a:solidFill>
                <a:latin typeface="Calibri"/>
              </a:rPr>
              <a:t>Колибр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4507920" y="4638600"/>
            <a:ext cx="42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Выполнила ученица 4 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МБОУ СШ № 85 г. Ульян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Землянко Елиза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Классный руководитель: Быкова 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freeppt.ru/Prew/WaveSlaid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447920" y="48769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Колибри  — семейство мелких птиц, единственное в отряде колибриобра́зных. Известно более 330 видов. Происходят из Америки (от Южной Аляски и Лабрадора до Огненной Земли). Единственная в мире птица, способная летать назад. Наименьший вид— колибри-пчёлка водится на Кубе, длиной почти 7 см и весом менее 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hdwallpapersdownload.org/wp-content/uploads/2015/02/hummingbird-Bird-Wallpaper-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3d-hdwallpaper.com/bulk_images/desktop-hummingbird-pictures-wallpap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freeppt.ru/Prew/WaveSlaid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457200" y="53802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Перышки колибри так красивы, что похожи на драгоценные камни. На солнце они переливаются и меняют свою окраску. Но смелости этой птицы можно позавидовать: она бесстрашно нападает даже на змей, если враг подбирается к гнезд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_e89d_d0cba707_XL"/>
          <p:cNvPicPr/>
          <p:nvPr/>
        </p:nvPicPr>
        <p:blipFill>
          <a:blip r:embed="rId2"/>
          <a:stretch/>
        </p:blipFill>
        <p:spPr>
          <a:xfrm>
            <a:off x="609480" y="0"/>
            <a:ext cx="777240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либри"/>
          <p:cNvPicPr/>
          <p:nvPr/>
        </p:nvPicPr>
        <p:blipFill>
          <a:blip r:embed="rId3"/>
          <a:stretch/>
        </p:blipFill>
        <p:spPr>
          <a:xfrm>
            <a:off x="228600" y="0"/>
            <a:ext cx="8686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freeppt.ru/Prew/WaveSlaid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533520" y="5486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Чтобы удержаться на месте, колибри вынужден совершать более 50 взмахов крыльями в секунду . Колибри не только удивительно красивые и интересные птицы, но они еще и выполняют важную роль в природе — опыляют цветки, когда пьют нект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6"/>
          <p:cNvPicPr/>
          <p:nvPr/>
        </p:nvPicPr>
        <p:blipFill>
          <a:blip r:embed="rId2"/>
          <a:stretch/>
        </p:blipFill>
        <p:spPr>
          <a:xfrm>
            <a:off x="228600" y="0"/>
            <a:ext cx="8496360" cy="541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15"/>
          <p:cNvPicPr/>
          <p:nvPr/>
        </p:nvPicPr>
        <p:blipFill>
          <a:blip r:embed="rId3"/>
          <a:stretch/>
        </p:blipFill>
        <p:spPr>
          <a:xfrm>
            <a:off x="228600" y="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boben.ru/hhj/16/linii_siniy_fon_odnotonnyy_2560x1600.jpg"/>
          <p:cNvPicPr/>
          <p:nvPr/>
        </p:nvPicPr>
        <p:blipFill>
          <a:blip r:embed="rId1"/>
          <a:stretch/>
        </p:blipFill>
        <p:spPr>
          <a:xfrm>
            <a:off x="-426960" y="8381880"/>
            <a:ext cx="12695040" cy="1295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freeppt.ru/Prew/WaveSlaidPre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533520" y="22096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В чаще леса, в гуще мрака</a:t>
            </a:r>
            <a:br>
              <a:rPr sz="2000"/>
            </a:b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Луч рассветный задрожал.</a:t>
            </a:r>
            <a:br>
              <a:rPr sz="2000"/>
            </a:b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Там колибри, искра-птаха –</a:t>
            </a:r>
            <a:br>
              <a:rPr sz="2000"/>
            </a:b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Словно маленький пож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515400" y="762120"/>
            <a:ext cx="16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7375e"/>
                </a:solidFill>
                <a:latin typeface="Calibri"/>
              </a:rPr>
              <a:t>Стих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3352680" y="4724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Колибри снует </a:t>
            </a:r>
            <a:br>
              <a:rPr sz="1800"/>
            </a:b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Меж цветов неустанно –</a:t>
            </a:r>
            <a:br>
              <a:rPr sz="1800"/>
            </a:b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Она принимает душистые ванны.</a:t>
            </a:r>
            <a:br>
              <a:rPr sz="1800"/>
            </a:b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И вдоволь набрав аромата и света,</a:t>
            </a:r>
            <a:br>
              <a:rPr sz="1800"/>
            </a:b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Она улетит разноцветной ракет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P1020966"/>
          <p:cNvPicPr/>
          <p:nvPr/>
        </p:nvPicPr>
        <p:blipFill>
          <a:blip r:embed="rId3"/>
          <a:stretch/>
        </p:blipFill>
        <p:spPr>
          <a:xfrm>
            <a:off x="4610160" y="1676520"/>
            <a:ext cx="4533840" cy="2705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29757"/>
          <p:cNvPicPr/>
          <p:nvPr/>
        </p:nvPicPr>
        <p:blipFill>
          <a:blip r:embed="rId4"/>
          <a:stretch/>
        </p:blipFill>
        <p:spPr>
          <a:xfrm>
            <a:off x="304920" y="403848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boben.ru/hhj/16/linii_siniy_fon_odnotonnyy_2560x1600.jpg"/>
          <p:cNvPicPr/>
          <p:nvPr/>
        </p:nvPicPr>
        <p:blipFill>
          <a:blip r:embed="rId1"/>
          <a:stretch/>
        </p:blipFill>
        <p:spPr>
          <a:xfrm>
            <a:off x="-426960" y="8381880"/>
            <a:ext cx="12695040" cy="12954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freeppt.ru/Prew/WaveSlaidPre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3519360" y="762120"/>
            <a:ext cx="245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7375e"/>
                </a:solidFill>
                <a:latin typeface="Calibri"/>
              </a:rPr>
              <a:t>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1156320" y="281952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Откуда происходят колибри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4514040" y="281952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Из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082880" y="365760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Сколько взмахов колибри совершает в секун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257160" y="36576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Более 50 взма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703800" y="449568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Какую роль колибри совершают в 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5276160" y="449568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Опыляют цветы, когда пьют нек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://freeppt.ru/Prew/WaveSlaid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1719720" y="2895480"/>
            <a:ext cx="595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17375e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86426d108708"/>
          <p:cNvPicPr/>
          <p:nvPr/>
        </p:nvPicPr>
        <p:blipFill>
          <a:blip r:embed="rId2"/>
          <a:stretch/>
        </p:blipFill>
        <p:spPr>
          <a:xfrm>
            <a:off x="228600" y="365760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big_imgspi-b"/>
          <p:cNvPicPr/>
          <p:nvPr/>
        </p:nvPicPr>
        <p:blipFill>
          <a:blip r:embed="rId3"/>
          <a:stretch/>
        </p:blipFill>
        <p:spPr>
          <a:xfrm>
            <a:off x="4648320" y="365760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колибри"/>
          <p:cNvPicPr/>
          <p:nvPr/>
        </p:nvPicPr>
        <p:blipFill>
          <a:blip r:embed="rId4"/>
          <a:stretch/>
        </p:blipFill>
        <p:spPr>
          <a:xfrm>
            <a:off x="0" y="0"/>
            <a:ext cx="4305240" cy="2857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474841"/>
          <p:cNvPicPr/>
          <p:nvPr/>
        </p:nvPicPr>
        <p:blipFill>
          <a:blip r:embed="rId5"/>
          <a:stretch/>
        </p:blipFill>
        <p:spPr>
          <a:xfrm>
            <a:off x="5105520" y="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7T16:28:01Z</dcterms:created>
  <dc:creator>лиза</dc:creator>
  <dc:description/>
  <dc:language>en-US</dc:language>
  <cp:lastModifiedBy>User</cp:lastModifiedBy>
  <dcterms:modified xsi:type="dcterms:W3CDTF">2017-12-19T17:20:36Z</dcterms:modified>
  <cp:revision>16</cp:revision>
  <dc:subject/>
  <dc:title>Слайд 1</dc:title>
</cp:coreProperties>
</file>