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5DD-572F-4A89-BBBD-CFEFB624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38F-DABB-4D21-9068-DF36B11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7AD-B2C3-4F62-8FE1-78C2176D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4DA-6946-49CF-8532-2D8410BC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324-90D4-48BF-8B67-CB350FDD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1B7-0BAF-4435-89A8-F5B3B23C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CC2-D166-407F-A416-717845C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5ED-E623-4930-9982-E366D55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FDF-67BE-44AC-9F89-268478B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E2B-849C-4B50-AA81-62F06F8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7A3-B62A-4801-B399-3FC6B7F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6DF-81EC-4C27-AEE2-4255CB7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AA8-A5CE-4661-AF92-356D94D33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ак назвать всё, что изображено на фотографиях, одним слов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Табличка 4"/>
          <p:cNvSpPr/>
          <p:nvPr/>
        </p:nvSpPr>
        <p:spPr>
          <a:xfrm>
            <a:off x="1835280" y="5857920"/>
            <a:ext cx="5429160" cy="1000080"/>
          </a:xfrm>
          <a:custGeom>
            <a:avLst/>
            <a:gdLst>
              <a:gd name="textAreaLeft" fmla="*/ 117720 w 5429160"/>
              <a:gd name="textAreaRight" fmla="*/ 5311440 w 5429160"/>
              <a:gd name="textAreaTop" fmla="*/ 117720 h 1000080"/>
              <a:gd name="textAreaBottom" fmla="*/ 882360 h 1000080"/>
            </a:gdLst>
            <a:ahLst/>
            <a:rect l="textAreaLeft" t="textAreaTop" r="textAreaRight" b="textAreaBottom"/>
            <a:pathLst>
              <a:path w="1172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3626" y="21600"/>
                </a:lnTo>
                <a:arcTo wR="3600" hR="3600" stAng="10800000" swAng="5400000"/>
                <a:lnTo>
                  <a:pt x="11722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 Black"/>
              </a:rPr>
              <a:t>Это учре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g1.liveinternet.ru/images/foto/b/2/700/1853700/f_8387617.jpg"/>
          <p:cNvPicPr/>
          <p:nvPr/>
        </p:nvPicPr>
        <p:blipFill>
          <a:blip r:embed="rId1"/>
          <a:stretch/>
        </p:blipFill>
        <p:spPr>
          <a:xfrm>
            <a:off x="3203640" y="1125360"/>
            <a:ext cx="2838240" cy="19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scienceport.ru/sites/default/files/3_76.jpg"/>
          <p:cNvPicPr/>
          <p:nvPr/>
        </p:nvPicPr>
        <p:blipFill>
          <a:blip r:embed="rId2"/>
          <a:stretch/>
        </p:blipFill>
        <p:spPr>
          <a:xfrm>
            <a:off x="0" y="1101600"/>
            <a:ext cx="2857680" cy="20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http://files.adme.ru/files/comment/part_432/4310155_1291891782.jpg"/>
          <p:cNvPicPr/>
          <p:nvPr/>
        </p:nvPicPr>
        <p:blipFill>
          <a:blip r:embed="rId3"/>
          <a:stretch/>
        </p:blipFill>
        <p:spPr>
          <a:xfrm>
            <a:off x="6195960" y="328608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http://www.pionertur.ru/assets/images/KARTINKI/moscow/muzey.jpg"/>
          <p:cNvPicPr/>
          <p:nvPr/>
        </p:nvPicPr>
        <p:blipFill>
          <a:blip r:embed="rId4"/>
          <a:stretch/>
        </p:blipFill>
        <p:spPr>
          <a:xfrm>
            <a:off x="6267600" y="1071720"/>
            <a:ext cx="26622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http://static.diary.ru/userdir/6/6/0/4/660465/38564563.jpg"/>
          <p:cNvPicPr/>
          <p:nvPr/>
        </p:nvPicPr>
        <p:blipFill>
          <a:blip r:embed="rId5"/>
          <a:stretch/>
        </p:blipFill>
        <p:spPr>
          <a:xfrm>
            <a:off x="0" y="3357720"/>
            <a:ext cx="285264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s52.radikal.ru/i137/0912/66/8514c75de805.jpg"/>
          <p:cNvPicPr/>
          <p:nvPr/>
        </p:nvPicPr>
        <p:blipFill>
          <a:blip r:embed="rId6"/>
          <a:stretch/>
        </p:blipFill>
        <p:spPr>
          <a:xfrm>
            <a:off x="3071880" y="3340080"/>
            <a:ext cx="29289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еат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</a:rPr>
              <a:t>Большой теа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4716360" y="256536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Детский музыкальный театр им Натальи Са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http://s52.radikal.ru/i137/0912/66/8514c75de805.jpg"/>
          <p:cNvPicPr/>
          <p:nvPr/>
        </p:nvPicPr>
        <p:blipFill>
          <a:blip r:embed="rId1"/>
          <a:stretch/>
        </p:blipFill>
        <p:spPr>
          <a:xfrm>
            <a:off x="0" y="1357200"/>
            <a:ext cx="45640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http://www.muzklondike.ru/u/image/Teatr_imSatc.jpg"/>
          <p:cNvPicPr/>
          <p:nvPr/>
        </p:nvPicPr>
        <p:blipFill>
          <a:blip r:embed="rId2"/>
          <a:stretch/>
        </p:blipFill>
        <p:spPr>
          <a:xfrm>
            <a:off x="6143760" y="500040"/>
            <a:ext cx="2714400" cy="18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://mosday.ru/photos/45_1078.jpg"/>
          <p:cNvPicPr/>
          <p:nvPr/>
        </p:nvPicPr>
        <p:blipFill>
          <a:blip r:embed="rId3"/>
          <a:stretch/>
        </p:blipFill>
        <p:spPr>
          <a:xfrm>
            <a:off x="4638600" y="3857760"/>
            <a:ext cx="45054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Театр зверей имени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www.ugolokdurova.ru/files/imagecache/fullsize/STR_8193.JPG"/>
          <p:cNvPicPr/>
          <p:nvPr/>
        </p:nvPicPr>
        <p:blipFill>
          <a:blip r:embed="rId1"/>
          <a:stretch/>
        </p:blipFill>
        <p:spPr>
          <a:xfrm>
            <a:off x="5391000" y="765000"/>
            <a:ext cx="3753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www.yourmoscow.ru/picture/iddoc/p_durova_1/$file/durova_b1.jpg"/>
          <p:cNvPicPr/>
          <p:nvPr/>
        </p:nvPicPr>
        <p:blipFill>
          <a:blip r:embed="rId2"/>
          <a:stretch/>
        </p:blipFill>
        <p:spPr>
          <a:xfrm>
            <a:off x="0" y="1714680"/>
            <a:ext cx="4762440" cy="35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www.ugolokdurova.ru/files/imagecache/fullsize/STR_1167.jpg"/>
          <p:cNvPicPr/>
          <p:nvPr/>
        </p:nvPicPr>
        <p:blipFill>
          <a:blip r:embed="rId3"/>
          <a:stretch/>
        </p:blipFill>
        <p:spPr>
          <a:xfrm>
            <a:off x="4867200" y="4000680"/>
            <a:ext cx="42768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8000" y="549360"/>
            <a:ext cx="399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Библиот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15920" y="472428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Библиотека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Л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780000" y="587700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 Black"/>
              </a:rPr>
              <a:t>Российская Государственная детская библиот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g1.liveinternet.ru/images/attach/c/0/53/118/53118682_Rossiyskaya_gosudarstvennaya_biblioteka_8.jpg"/>
          <p:cNvPicPr/>
          <p:nvPr/>
        </p:nvPicPr>
        <p:blipFill>
          <a:blip r:embed="rId1"/>
          <a:stretch/>
        </p:blipFill>
        <p:spPr>
          <a:xfrm>
            <a:off x="4716360" y="2714760"/>
            <a:ext cx="4427640" cy="310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shkolazhizni.ru/img/content/i39/39322_or.jpg"/>
          <p:cNvPicPr/>
          <p:nvPr/>
        </p:nvPicPr>
        <p:blipFill>
          <a:blip r:embed="rId2"/>
          <a:stretch/>
        </p:blipFill>
        <p:spPr>
          <a:xfrm>
            <a:off x="0" y="0"/>
            <a:ext cx="4921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На какие две группы их можно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Табличка 3"/>
          <p:cNvSpPr/>
          <p:nvPr/>
        </p:nvSpPr>
        <p:spPr>
          <a:xfrm>
            <a:off x="0" y="1197000"/>
            <a:ext cx="4357800" cy="914400"/>
          </a:xfrm>
          <a:custGeom>
            <a:avLst/>
            <a:gdLst>
              <a:gd name="textAreaLeft" fmla="*/ 107640 w 4357800"/>
              <a:gd name="textAreaRight" fmla="*/ 4250160 w 435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29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9308" y="21600"/>
                </a:lnTo>
                <a:arcTo wR="3600" hR="3600" stAng="10800000" swAng="5400000"/>
                <a:lnTo>
                  <a:pt x="1029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абличка 4"/>
          <p:cNvSpPr/>
          <p:nvPr/>
        </p:nvSpPr>
        <p:spPr>
          <a:xfrm>
            <a:off x="4859280" y="1268280"/>
            <a:ext cx="4284720" cy="914400"/>
          </a:xfrm>
          <a:custGeom>
            <a:avLst/>
            <a:gdLst>
              <a:gd name="textAreaLeft" fmla="*/ 107640 w 4284720"/>
              <a:gd name="textAreaRight" fmla="*/ 4177080 w 4284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11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583" y="21600"/>
                </a:lnTo>
                <a:arcTo wR="3600" hR="3600" stAng="10800000" swAng="5400000"/>
                <a:lnTo>
                  <a:pt x="10118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Учрежден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5"/>
          <p:cNvSpPr/>
          <p:nvPr/>
        </p:nvSpPr>
        <p:spPr>
          <a:xfrm>
            <a:off x="214200" y="2500200"/>
            <a:ext cx="3214800" cy="500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 Black"/>
                <a:ea typeface="Arial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214200" y="3214800"/>
            <a:ext cx="3357720" cy="571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гимн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214200" y="4071960"/>
            <a:ext cx="342900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  <a:ea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5572080" y="2357280"/>
            <a:ext cx="321480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5643720" y="3143160"/>
            <a:ext cx="307152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0"/>
          <p:cNvSpPr/>
          <p:nvPr/>
        </p:nvSpPr>
        <p:spPr>
          <a:xfrm>
            <a:off x="5643720" y="3929040"/>
            <a:ext cx="3143160" cy="7858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2"/>
          <p:cNvSpPr/>
          <p:nvPr/>
        </p:nvSpPr>
        <p:spPr>
          <a:xfrm>
            <a:off x="214200" y="4929120"/>
            <a:ext cx="335772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3"/>
          <p:cNvSpPr/>
          <p:nvPr/>
        </p:nvSpPr>
        <p:spPr>
          <a:xfrm>
            <a:off x="285840" y="5715000"/>
            <a:ext cx="3143160" cy="6285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 Black"/>
                <a:ea typeface="Arial"/>
              </a:rPr>
              <a:t>кон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5643720" y="5929200"/>
            <a:ext cx="3214440" cy="714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 Black"/>
                <a:ea typeface="Arial"/>
              </a:rPr>
              <a:t>выставочный 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5"/>
          <p:cNvSpPr/>
          <p:nvPr/>
        </p:nvSpPr>
        <p:spPr>
          <a:xfrm>
            <a:off x="5572080" y="4857840"/>
            <a:ext cx="3286080" cy="7142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концерт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После школы дети идут учиться 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колледжи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техникумы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университеты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где вместе со знаниями приобретают профессию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www.edu-inform.ru/upload/iblock/160/16039d9a82ad874249f200f5792a9329.jpg"/>
          <p:cNvPicPr/>
          <p:nvPr/>
        </p:nvPicPr>
        <p:blipFill>
          <a:blip r:embed="rId1"/>
          <a:stretch/>
        </p:blipFill>
        <p:spPr>
          <a:xfrm>
            <a:off x="4932360" y="432576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nam-pokursu.ru/public/files/images/pk19-2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trainclub.ru/images/news/brynskiy_zd_kolledz.jpg"/>
          <p:cNvPicPr/>
          <p:nvPr/>
        </p:nvPicPr>
        <p:blipFill>
          <a:blip r:embed="rId3"/>
          <a:stretch/>
        </p:blipFill>
        <p:spPr>
          <a:xfrm>
            <a:off x="0" y="4229280"/>
            <a:ext cx="3500280" cy="26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aktualno.ru/images/content_news/22_Glavniii_sait_5190_ptu_625x415_big.jpg"/>
          <p:cNvPicPr/>
          <p:nvPr/>
        </p:nvPicPr>
        <p:blipFill>
          <a:blip r:embed="rId4"/>
          <a:stretch/>
        </p:blipFill>
        <p:spPr>
          <a:xfrm>
            <a:off x="4929120" y="1512720"/>
            <a:ext cx="400068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нсерва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mk.ru/upload/iblock_mk/475/ee/70/7e/DETAIL_PICTURE_556031.jpg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643280" y="1989000"/>
            <a:ext cx="42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  <a:ea typeface="Arial"/>
              </a:rPr>
              <a:t>Универси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ttp://img1.liveinternet.ru/images/attach/c/2/69/388/69388398_mgu1.jpg"/>
          <p:cNvPicPr/>
          <p:nvPr/>
        </p:nvPicPr>
        <p:blipFill>
          <a:blip r:embed="rId2"/>
          <a:stretch/>
        </p:blipFill>
        <p:spPr>
          <a:xfrm>
            <a:off x="4548240" y="3286080"/>
            <a:ext cx="459576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 Black"/>
                <a:ea typeface="Arial"/>
              </a:rPr>
              <a:t>Музе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000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Много сотен лет назад люди начали собирать и хранить вещи, чем – то им дорогие и памятные. Такие собрания, или коллекции, оружия, книг, украшения во времена Древней Руси хранили в соборах и монастырях и почти никому не показывали. Только в 1719 году при </a:t>
            </a:r>
            <a:r>
              <a:rPr b="1" lang="ru-RU" sz="3000" spc="-1" strike="noStrike">
                <a:solidFill>
                  <a:srgbClr val="10253f"/>
                </a:solidFill>
                <a:latin typeface="Arial Black"/>
                <a:ea typeface="Arial"/>
              </a:rPr>
              <a:t>Петре Первом 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открыли в Петербурге </a:t>
            </a:r>
            <a:r>
              <a:rPr b="1" lang="ru-RU" sz="3000" spc="-1" strike="noStrike">
                <a:solidFill>
                  <a:srgbClr val="953735"/>
                </a:solidFill>
                <a:latin typeface="Arial Black"/>
                <a:ea typeface="Arial"/>
              </a:rPr>
              <a:t>Кунсткамеру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 –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собрание диковинок для всеобщего обозрения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 Это был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первый русский музей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С тех пор у нас появилось немало государственных музеев. В них собраны картины, скульптуры, рукописи, самые различные вещи. Музеи бывают разные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Зо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в них чучела животных, коллекции насекомых и бабочек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Ге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там собраны образцы минералов. Есть музеи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ботан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истор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театр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музык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 Black"/>
                <a:ea typeface="Arial"/>
              </a:rPr>
              <a:t>Музей изобразительных искусств имени А.С. Пушкина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img1.liveinternet.ru/images/attach/c/0/48/91/48091443_Gosudarstvennnuyy_muzey_Pushkina.jpg"/>
          <p:cNvPicPr/>
          <p:nvPr/>
        </p:nvPicPr>
        <p:blipFill>
          <a:blip r:embed="rId1"/>
          <a:stretch/>
        </p:blipFill>
        <p:spPr>
          <a:xfrm>
            <a:off x="0" y="836640"/>
            <a:ext cx="4992840" cy="3744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0" y="472428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Хранятся бесценные художественные сокровища – картины и скульп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ttp://newsoffice.ru/wp-content/uploads/1b.jpg"/>
          <p:cNvPicPr/>
          <p:nvPr/>
        </p:nvPicPr>
        <p:blipFill>
          <a:blip r:embed="rId2"/>
          <a:stretch/>
        </p:blipFill>
        <p:spPr>
          <a:xfrm>
            <a:off x="5359320" y="4076640"/>
            <a:ext cx="378468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ttp://lifeglobe.net/media/entry/338/0_1155_2ec6452d_XL_1.jpg"/>
          <p:cNvPicPr/>
          <p:nvPr/>
        </p:nvPicPr>
        <p:blipFill>
          <a:blip r:embed="rId3"/>
          <a:stretch/>
        </p:blipFill>
        <p:spPr>
          <a:xfrm>
            <a:off x="5407200" y="1052640"/>
            <a:ext cx="373680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http://img1.liveinternet.ru/images/attach/c/1/59/895/59895123_The_State_Tretyakov_Gallery.jpg"/>
          <p:cNvPicPr/>
          <p:nvPr/>
        </p:nvPicPr>
        <p:blipFill>
          <a:blip r:embed="rId1"/>
          <a:stretch/>
        </p:blipFill>
        <p:spPr>
          <a:xfrm>
            <a:off x="4357800" y="836640"/>
            <a:ext cx="4786200" cy="3195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0" y="907920"/>
            <a:ext cx="41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Галерея основана купцом Павлом Третьяк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Экспозиция музея посвящена русскому искусству: это живописные картины, скульптуры, иконы, образцы декоративно-прикладн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ttp://www.greenwich-hotel.ru/blog/public/images/galleryblock/67/b_d5860e0797691d22a8ed0cfc525bbdcc.jpg"/>
          <p:cNvPicPr/>
          <p:nvPr/>
        </p:nvPicPr>
        <p:blipFill>
          <a:blip r:embed="rId2"/>
          <a:stretch/>
        </p:blipFill>
        <p:spPr>
          <a:xfrm>
            <a:off x="1785960" y="4324320"/>
            <a:ext cx="3805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Оружейная пал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oblvesti.ru/images/photos/medium/article6998.jpg"/>
          <p:cNvPicPr/>
          <p:nvPr/>
        </p:nvPicPr>
        <p:blipFill>
          <a:blip r:embed="rId1"/>
          <a:stretch/>
        </p:blipFill>
        <p:spPr>
          <a:xfrm>
            <a:off x="285840" y="4500720"/>
            <a:ext cx="3311280" cy="212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combeta.ru/UPLOAD/Image/image001%285%29.jpg"/>
          <p:cNvPicPr/>
          <p:nvPr/>
        </p:nvPicPr>
        <p:blipFill>
          <a:blip r:embed="rId2"/>
          <a:stretch/>
        </p:blipFill>
        <p:spPr>
          <a:xfrm>
            <a:off x="0" y="714240"/>
            <a:ext cx="4857840" cy="357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i046.radikal.ru/0710/5f/0656bcf71d55.jpg"/>
          <p:cNvPicPr/>
          <p:nvPr/>
        </p:nvPicPr>
        <p:blipFill>
          <a:blip r:embed="rId3"/>
          <a:stretch/>
        </p:blipFill>
        <p:spPr>
          <a:xfrm>
            <a:off x="4929120" y="3786120"/>
            <a:ext cx="258768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s44.radikal.ru/i106/1102/69/f2d367ebe73d.jpg"/>
          <p:cNvPicPr/>
          <p:nvPr/>
        </p:nvPicPr>
        <p:blipFill>
          <a:blip r:embed="rId4"/>
          <a:stretch/>
        </p:blipFill>
        <p:spPr>
          <a:xfrm>
            <a:off x="5857920" y="928800"/>
            <a:ext cx="3049560" cy="2695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2:27:29Z</dcterms:created>
  <dc:creator>Лена</dc:creator>
  <dc:description/>
  <dc:language>en-US</dc:language>
  <cp:lastModifiedBy>Sosh1kab26</cp:lastModifiedBy>
  <dcterms:modified xsi:type="dcterms:W3CDTF">2017-02-17T06:31:38Z</dcterms:modified>
  <cp:revision>97</cp:revision>
  <dc:subject/>
  <dc:title>Культура и образование</dc:title>
</cp:coreProperties>
</file>