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AB8E-F953-49D1-A6BF-EF4549FCD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E4A5-0B9C-4098-80E7-B41145DE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04BE-276D-4697-BF8A-734E66C2B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6C8A-D4E8-4EA6-BA21-E553ECE95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9F2F-BE1D-405B-8FDB-10383EEB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544B-D49A-4DEB-88CA-647824EC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EABF-6436-4BA2-AA85-D93E6B1C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A1B8-73F9-4E21-B4E4-EF7BA7F5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C302-B6F5-4BE7-A8A0-1D73AD70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D6CA-A7FE-435D-90DB-39ABCB37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35F4-D90E-4D59-958A-AB80268D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FEAE-BBD0-423B-A7D9-5941EF05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325F2-6597-40D6-9176-EF87158E29A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50560"/>
            <a:ext cx="90709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800" spc="-1" strike="noStrike">
                <a:solidFill>
                  <a:srgbClr val="ff3333"/>
                </a:solidFill>
                <a:latin typeface="Arial"/>
              </a:rPr>
              <a:t>Математические фокусы от фокусника Матима (μάθημα)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blipFill rotWithShape="0">
            <a:blip r:embed="rId2">
              <a:alphaModFix amt="50000"/>
            </a:blip>
            <a:stretch/>
          </a:blipFill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я-проект по матема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ницы 7 А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овской Александ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ный руководитель и преподаватель — Красникова Галина Дмитри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36000"/>
            <a:ext cx="906768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гновенное умнож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7280" y="792000"/>
            <a:ext cx="9647280" cy="6810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вайте начнем с одного из моих любимых трюков: как умножать в уме любое двузначное число на 11. Это очень легко, если вы знаете секрет.Представьте следующую задачу: 32 ×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ее решения нужно просто сложить цифры 3 + 2 = 5, а затем поместить пятерку между двойкой и тройкой. Вот и наше решение: 3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может быть легче? Теперь попробуйте 53 ×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кольку 5 + 3 = 8, ответ достаточно прост: 5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ще пример. Не подглядывая и не записывая, скажите, чему равно: 81 × 11? У вас получилось 891? Поздравляю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пока не слишком воодушевляйтесь: я показал лишь половину того, что необходимо знать. Допустим, задача такая: 85 ×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мотря на то что 8 + 5 = 13, ответ НЕ 8135! Как и прежде цифра 3 ставится между цифрами 8 и 5, но 1 добавляется к цифре 8 для получения правильного ответа 93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т еще пример. Попробуйте перемножить 57 × 11. Так как 5 + 7 = 12, ответ: 6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о ли использовать этот метод для умножения трехзначных (или более «значных») чисел на 11? Безусловно. Например, для задачи 314 × 11 ответ все еще будет начинаться с 3 и заканчиваться на 4. Так как 3 + 1 = 4 и 1 + 4 =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, ответ будет равен 345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130320"/>
            <a:ext cx="906768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зведение во вторую (в квадрат) и большие степ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000" y="1035000"/>
            <a:ext cx="9791640" cy="701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вы, наверное, знаете, квадрат числа — это заданное число, умноженное само на себя. Например, квадратом 7 будет 7 × 7, то есть 49. Позже я научу вас простому способу, который позволит без труда вычислять квадрат любого двузначного и трехзначного (и состоящего из большего количества знаков) чис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т метод особенно легко применять, если число заканчивается на 5. Поэтому опробуем его прямо сейч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Ответ должен начинаться с результата умножения первой цифры возводимого в квадрат числа на цифру, большую на единицу, чем первая циф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твет заканчивается на 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имер, чтобы возвести в квадрат число 35, мы просто умножаем первую цифру (3) на 4, то есть на единицу большую цифру, после чего добавляем 25. Так как 3 × 4 = 12, следовательно, ответ — 1225. Таким образом, 35 × 35 = 1225. Проделанные шаги можно представить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5 × 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× 4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 × 5 =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 12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16000" y="216000"/>
            <a:ext cx="9647280" cy="719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насчет возведения в квадрат числа 85? Так как 8 × 9 = 72, мы мгновенно получаем ответ: 85 × 85 = 722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применить похожий прием при умножении двузначных чисел, начинающихся с одинаковых первых цифр, сумма вторых цифр которых равняется 10. Ответ будет состоять из числа, полученного с помощью вышеописанного метода (первая цифра умножается на цифру, на единицу большую), и произведения вторых цифр чисел, участвующих в умножении. Например, попробуем умножить 83 на 87. (Оба числа начинаются на 8, а сумма последних цифр 3 + 7 = 10.) Так как 8 × 9 = 72 и 3 × 7 = 21, ответ — 722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обным образом получаем из 84 × 86 = 72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ерь ваша очередь. Попробуйте вычислить 26 × 24. С чего начинается ответ? С 2 × 3 = 6 . Чем заканчивается? 6 × 4 = 24. Значит, 26 × 24 = 6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ните, что использовать этот метод можно, только если первые цифры чисел одинаковы, а последние дают в сумме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6360" y="109080"/>
            <a:ext cx="906768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ОПРЕДЕЛИТЬ ДЕНЬ НЕДЕЛИ 1 ЯНВАРЯ ЛЮБОГО ГОДА В XXI ВЕ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16000" y="1224000"/>
            <a:ext cx="9647280" cy="6191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ачала ознакомьтесь с представленной таблиц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едельник -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торник –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а –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тверг –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ятница –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ббота –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кресенье – 7 или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44360" y="144360"/>
            <a:ext cx="9864720" cy="7344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имер, давайте выясним, каким днем недели будет 1 января 2030 года. Возьмите две последние цифры года и представьте себе, что это ваш счет в ресторане (в данном случае 30 долларов.) Теперь добавьте 25% чаевых, но излишки в центах оставьте себе. (Это можно вычислить, дважды разделив счет пополам и отбросив всю «мелочь». Половина от 30 равна 15, а половина от 15 — 7,50. Оставив излишки себе, получим чаевые в размере 7 долларов.) Отсюда следует, что ваш счет плюс чаевые составляет 37 долларов. Чтобы определить день недели, вычитаем из этой суммы наиболее близкое к ней (но не большее) произведение числа 7 (0, 7, 14, 21, 28, 35, 42, 49, …) и получаем в результате порядковый номер дня. В данном примере, 37 – 35 = 2, значит, 1 января 2030 года приходится на второй день недели, то есть на втор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ой день недели 1 января 2043 го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чет: 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евые: + 10 = 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едение цифры 7: – 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= четвер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ключение: если год високосный, уберите 1 доллар из суммы чаевых, высчитанных ранее. Например, для 1 января 2032 года 25% от счета на 32 доллара будут равны 8 долларам чаевых. Вычитание 1 дает в итоге 32 + 7 = 39. Вычитание наибольшего по отношению к сумме счета произведения 7 дает 39 – 35 = 4. Итак, 1 января 2032 года приходится на четвертый день недели, четвер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7960" y="109440"/>
            <a:ext cx="906768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СТРАСЕНСОРНАЯ МАТЕМА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791640"/>
            <a:ext cx="10080720" cy="67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росите добровольца в аудитории загадать любое число, состоящее из одной-двух цифр. Затем скажите, что никоим образом не можете знать, что это за число, и предложите сделать следующ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Удвойте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рибавьте 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Разделите сумму на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Вычтите из нее исходное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росите: «Думаете ли вы сейчас о цифре 6?» Опробуйте этот трюк сначала на себе и увидите, что данная последовательность вычислений всегда в итоге приводит к цифре 6, какое бы число вы изначально ни выбр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овторении данного приема попросите добровольца прибавить другое число на втором шаге (скажем, 18). Итоговый ответ будет половиной этого числа (а именно 9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4436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АГИЯ ЧИСЛА 108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5640" y="791640"/>
            <a:ext cx="9791640" cy="669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ющий трюк существует уже не одно столетие. Сделайте так, чтобы человек из аудитории достал ручку и бумаг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и тайно записал трехзначное число, цифры которого идут в порядке уменьшения (например, 851 или 973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записал число в обратном порядке и вычел его из исходно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к полученному ответу добавил его же, только в обратном поряд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онце последовательности магическим образом появится ответ 1089, какое бы число ни выбрал доброволец. На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51 – 158 = 693 + 396 = 10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10080720" cy="755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пользуя число 1089 из предыдущего примера, вручите добровольцу калькулятор и попросите умножить 1089 на любое трехзначное число, не называя его. (Предположим, он тайно умножил 1089 × 256 = 278 784) Теперь поинтересуйтесь, сколько цифр в полученном ответе. Ответ — 6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тем попросите: «Громко назовите пять из этих шести цифр в любом порядке. Я попытаюсь определить недостающую». Предположим, доброволец громко перечисляет: «Два…четыре… семь… восемь… восемь». Вы вежливо говорите ему, что он пропустил цифру 7. Секрет основан на том, что число кратно 9 тогда, и только тогда, когда сумма составляющих его цифр кратна 9. Так как 1 + 0 + 8 + 9 = 18 кратно 9, значит, число 1089 кратно 9. Поэтому 1089 при умножении на любое целое число даст кратное 9. И раз уж прозвучавшие цифры в сумме дают 29, и следующее кратное 9, большее 29, это 36, то наш доброволец пропустил число 7 (так как 29 + 7 = 36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чём же секрет таких фокусов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се эти фокусы построены на закономерностях, свойствах фигур и чисел. Однако составить свои фокусы довольно сложн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накомств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7640" y="1800000"/>
            <a:ext cx="4425840" cy="4989240"/>
          </a:xfrm>
          <a:prstGeom prst="rect">
            <a:avLst/>
          </a:prstGeom>
          <a:solidFill>
            <a:srgbClr val="0066cc">
              <a:alpha val="20000"/>
            </a:srgbClr>
          </a:solidFill>
          <a:ln w="0">
            <a:noFill/>
          </a:ln>
        </p:spPr>
        <p:txBody>
          <a:bodyPr lIns="0" rIns="0" tIns="2124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Матема́т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наука о структурах, порядке и отношениях, исторически сложившаяся на основе операций подсчёта, измерения и описания формы объ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атематики есть и свои «математические фокус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ними нас познакомит фокусник Матима. В переводе с греческого его имя означает «Ур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262480" y="1768320"/>
            <a:ext cx="42055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 же такое «математические фокусы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76360" y="1882440"/>
            <a:ext cx="9215280" cy="5173560"/>
          </a:xfrm>
          <a:prstGeom prst="rect">
            <a:avLst/>
          </a:prstGeom>
          <a:solidFill>
            <a:srgbClr val="0066cc">
              <a:alpha val="20000"/>
            </a:srgbClr>
          </a:solidFill>
          <a:ln w="0">
            <a:noFill/>
          </a:ln>
        </p:spPr>
        <p:txBody>
          <a:bodyPr lIns="0" rIns="0" tIns="1764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и фокусами с числами можно удивлять друзей за столом, в долгой поездке или летним днем в тени ветвистой яблони. Смысл этих фокусов состоит в отгадывании чисел, задуманных зрителями, или в каких-нибудь операциях над н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вное — это то, что фокусник знает секрет: особые свойства чисел. Все эти чудеса основаны на математических закономерностях, свойствах фигур и чисел. Такие фокусы вы сможете проделывать на уроках алгебры и геомет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хотя вместо цифр, геометрических фигур в некоторых фокусах мы будем использовать различные предметы, все они связаны с числами. Вначале попробуйте проделать самые простые фокусы на обыкновенное угады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ько помните: эти фокусы с цифрами будут получаться только тогда, когда вы научитесь быстро считать в уме. Поэтому начинать советуем с тренировки в устном счете, причем от меньших цифр к больш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атематический фокус - Угадай чис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solidFill>
            <a:srgbClr val="0066cc">
              <a:alpha val="20000"/>
            </a:srgbClr>
          </a:solidFill>
          <a:ln w="0">
            <a:noFill/>
          </a:ln>
        </p:spPr>
        <p:txBody>
          <a:bodyPr lIns="0" rIns="0" tIns="2304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одержание фокус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росите любого зрителя задумать чис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этого число он должен умножить на 2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бавить к результату 8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делить результат на 2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уманное число отня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зультате вы смело называете число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84720" y="1440000"/>
            <a:ext cx="8672400" cy="558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гаданный день рожд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5289840"/>
          </a:xfrm>
          <a:prstGeom prst="rect">
            <a:avLst/>
          </a:prstGeom>
          <a:solidFill>
            <a:srgbClr val="0066cc">
              <a:alpha val="20000"/>
            </a:srgbClr>
          </a:solidFill>
          <a:ln w="0">
            <a:noFill/>
          </a:ln>
        </p:spPr>
        <p:txBody>
          <a:bodyPr lIns="0" rIns="0" tIns="1944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держание этого математического фокус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зовите любого желающего и предложите ему умножить на 2 число дня своего ро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ем пусть зритель сложит получившееся произведение и число 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перь пусть умножит на 50 полученную сум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этому результату необходимо прибавить номер месяца рождения (июль — 7, январь —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лух назвать полученное чис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з секунду вы называете день и месяц рождения зри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256360" y="2948040"/>
            <a:ext cx="4700520" cy="3027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33440" y="7272360"/>
            <a:ext cx="9070920" cy="434880"/>
          </a:xfrm>
          <a:prstGeom prst="rect">
            <a:avLst/>
          </a:prstGeom>
          <a:solidFill>
            <a:srgbClr val="0066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120" bIns="0" anchor="t">
            <a:noAutofit/>
          </a:bodyPr>
          <a:p>
            <a:pPr marL="42876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се очень просто. В уме от того числа, которое назвал зритель, отнимите 250 У вас должно выйти трехзначное или четырехзначное число. Первая и вторая цифры — день рождения, две последние — месяц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кус с загаданным числ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5516640"/>
          </a:xfrm>
          <a:prstGeom prst="rect">
            <a:avLst/>
          </a:prstGeom>
          <a:solidFill>
            <a:srgbClr val="0066cc">
              <a:alpha val="20000"/>
            </a:srgbClr>
          </a:solidFill>
          <a:ln w="0">
            <a:noFill/>
          </a:ln>
        </p:spPr>
        <p:txBody>
          <a:bodyPr lIns="0" rIns="0" tIns="2304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дложите своим зрителям задумать двузначное числ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еперь пусть они умножат число его десятков на 2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бавят к этому произведению число 5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множат эту сумму на 5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 полученному произведению прибавят 10 и число единиц того числа, которое задумал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111640" y="2592360"/>
            <a:ext cx="4918320" cy="3024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184720" y="7128000"/>
            <a:ext cx="4425840" cy="360360"/>
          </a:xfrm>
          <a:prstGeom prst="rect">
            <a:avLst/>
          </a:prstGeom>
          <a:solidFill>
            <a:srgbClr val="0066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120" bIns="0" anchor="t">
            <a:noAutofit/>
          </a:bodyPr>
          <a:p>
            <a:pPr marL="42876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усть любой зритель скажет, что у него получилось. Вычтите из полученного результата число 35 (лучше сделать это в уме или на калькуляторе, не посвящая в свои действия зрителей), и вы сможете назвать задуманное зрителями число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екрет фокус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5070600"/>
          </a:xfrm>
          <a:prstGeom prst="rect">
            <a:avLst/>
          </a:prstGeom>
          <a:solidFill>
            <a:srgbClr val="0066cc">
              <a:alpha val="20000"/>
            </a:srgbClr>
          </a:solidFill>
          <a:ln w="0">
            <a:noFill/>
          </a:ln>
        </p:spPr>
        <p:txBody>
          <a:bodyPr lIns="0" rIns="0" tIns="1764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это выглядит в реальном фокусе? Например, зритель задумал число 38: 3 десятка и 8 един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ножаем 3 на 2, получается 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бавляем к 6 число 5, получаем 11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ножаем эту сумму на 5, получаем 5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бавляем 10 и получаем 6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бавляем число единиц (8) задуманного числа. Получаем 73, вычитаем 3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итоге задуманное число — 3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151600" y="2838600"/>
            <a:ext cx="4425840" cy="285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колько ле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solidFill>
            <a:srgbClr val="0066cc">
              <a:alpha val="20000"/>
            </a:srgbClr>
          </a:solidFill>
          <a:ln w="0">
            <a:noFill/>
          </a:ln>
        </p:spPr>
        <p:txBody>
          <a:bodyPr lIns="0" rIns="0" tIns="2124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так, предложите товарищу умножить его возраст на пять. Пусть к полученной сумме он прибавит восемь, а результат умножит на два. Из этого числа нужно вычесть шесть, а полученную сумму умножить на 10. Из результата Вы вычитаете 100 и на 100 же делите. Перед Вами - возраст собесед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008680" y="2801880"/>
            <a:ext cx="4927320" cy="31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пять пят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solidFill>
            <a:srgbClr val="0066cc">
              <a:alpha val="20000"/>
            </a:srgbClr>
          </a:solidFill>
          <a:ln w="0">
            <a:noFill/>
          </a:ln>
        </p:spPr>
        <p:txBody>
          <a:bodyPr lIns="0" rIns="0" tIns="2124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ожите собеседнику загадать любое число,хоть семизначное (ему же сложнее будет, Вам - без разницы). После этого нужно прибавить к этому числу следующее по порядку число, а к нему прибавить девять. Далее - пусть поделит число на два и отнимет загаданное число. То число, которое получится, Вы легко угадае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151600" y="2878200"/>
            <a:ext cx="4425840" cy="277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7T08:58:42Z</dcterms:created>
  <dc:creator>Александра Осовская</dc:creator>
  <dc:description/>
  <dc:language>en-US</dc:language>
  <cp:lastModifiedBy/>
  <cp:revision>1</cp:revision>
  <dc:subject/>
  <dc:title/>
</cp:coreProperties>
</file>