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223-2822-4084-AF07-9E5FAFF06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C7B1-8648-4B2D-871A-CA1D727A9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7DC1-FB33-4BD3-86B0-886D1ECC2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017-3795-4BF7-8602-11AD3AA61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4732-2BE5-4B9D-9604-D8A44BF46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BC05-E5A3-472C-9510-CBF5B30A1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1BC8-54B5-4501-B477-A25D5E056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3379-D89F-4016-A78E-F25E157F5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C0F5-4F97-47B0-8E8F-516ED1EA0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3CE-8C0E-4BEE-9E76-2932D5E54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E9D1-C744-49B2-8DF6-3A443BA8B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96F4-556B-4744-85EC-B05864080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F79B-A91C-4E7D-AFB1-0AD7D4CBD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8007-61D6-4675-A99C-EB6DBAD90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C37-32F2-4324-924D-A8A1C8AFA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17CF-C1C8-4DD3-89FE-BC9CD67F6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C58-24D8-4219-875E-EEB7E54C2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7298-6CA2-4B41-8E61-983D8AC43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4D62-0836-4AE3-A16C-158DE6673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9DA-17DF-4293-BB46-115008B6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32B-2A16-45E6-86E8-02E10C51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D5B-6085-49FF-9D1D-2F83DB7E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41E-1B53-4107-9443-45B868DD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515-7452-4354-B71C-71153007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2F4-CC72-456A-9BE1-6E545FC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B7E-C3C3-4A2F-8EDC-58EC6932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FFE-CA9C-46C8-B780-EF368EF7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A48-D1CC-41FC-B7BD-D9293F2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F1F-30C3-4AFA-92B7-2DF0162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047-B697-466C-B12E-AD58A5A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662-A88C-4D85-AD49-E19489A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5FA4-26D4-44D3-A851-07CFB888387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791676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Мое педагогическое кред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286160" y="2857680"/>
            <a:ext cx="438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Рисунок 4" descr="uT1MphmYp6w.jpg"/>
          <p:cNvPicPr/>
          <p:nvPr/>
        </p:nvPicPr>
        <p:blipFill>
          <a:blip r:embed="rId1"/>
          <a:srcRect l="0" t="0" r="50307" b="21848"/>
          <a:stretch/>
        </p:blipFill>
        <p:spPr>
          <a:xfrm>
            <a:off x="324000" y="981000"/>
            <a:ext cx="4066920" cy="5877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4572000" y="2492280"/>
            <a:ext cx="437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ушова Лола Мирзомахмад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871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урок: пробудить в ребенке веру в свои возможности и желание учиться и твори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SB2RB1B3X_s.jpg"/>
          <p:cNvPicPr/>
          <p:nvPr/>
        </p:nvPicPr>
        <p:blipFill>
          <a:blip r:embed="rId1"/>
          <a:srcRect l="0" t="19551" r="0" b="32152"/>
          <a:stretch/>
        </p:blipFill>
        <p:spPr>
          <a:xfrm>
            <a:off x="1403280" y="1484280"/>
            <a:ext cx="6201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14200" y="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4  урок:   каждый ребенок талантлив, талантлив по-своем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Рисунок 3" descr="mvkSng19Jaw.jpg"/>
          <p:cNvPicPr/>
          <p:nvPr/>
        </p:nvPicPr>
        <p:blipFill>
          <a:blip r:embed="rId1"/>
          <a:srcRect l="0" t="20601" r="1429" b="24801"/>
          <a:stretch/>
        </p:blipFill>
        <p:spPr>
          <a:xfrm>
            <a:off x="2771640" y="1268280"/>
            <a:ext cx="54565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миропо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нимать ребенка таким , какой он е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ыть справедливым и последова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меть прощать и щад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учать и воспитывать одновремен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ыть интересным челове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692360" y="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Верю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16000" y="714240"/>
            <a:ext cx="60483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что учителя бываю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987640" y="1214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любимыми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Рисунок 5" descr="C4ovhSswTvc.jpg"/>
          <p:cNvPicPr/>
          <p:nvPr/>
        </p:nvPicPr>
        <p:blipFill>
          <a:blip r:embed="rId1"/>
          <a:srcRect l="0" t="19551" r="0" b="36352"/>
          <a:stretch/>
        </p:blipFill>
        <p:spPr>
          <a:xfrm>
            <a:off x="1042920" y="1716120"/>
            <a:ext cx="65534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50920" y="3571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колледжи –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родным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Рисунок 3" descr="lwKbPublNKQ.jpg"/>
          <p:cNvPicPr/>
          <p:nvPr/>
        </p:nvPicPr>
        <p:blipFill>
          <a:blip r:embed="rId1"/>
          <a:stretch/>
        </p:blipFill>
        <p:spPr>
          <a:xfrm>
            <a:off x="971640" y="1413000"/>
            <a:ext cx="75960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1916280"/>
            <a:ext cx="24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Благодар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03640" y="64296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стоящи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08000" y="142920"/>
            <a:ext cx="58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лезы на выпускных вечерах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012000" y="907920"/>
            <a:ext cx="2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0" y="2214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искренн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Содержимое 2" descr="DSC05205.JPG"/>
          <p:cNvPicPr/>
          <p:nvPr/>
        </p:nvPicPr>
        <p:blipFill>
          <a:blip r:embed="rId1"/>
          <a:stretch/>
        </p:blipFill>
        <p:spPr>
          <a:xfrm>
            <a:off x="2214720" y="1214280"/>
            <a:ext cx="67150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14292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Уро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акими, на которые идут с удовольствием, на которых понятно и интересно, а дети чувствуют себя спокойно и комфортно, и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сове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ывают такими, которым следуют и которых жду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4" descr="aTDf4UH-yVY.jpg"/>
          <p:cNvPicPr/>
          <p:nvPr/>
        </p:nvPicPr>
        <p:blipFill>
          <a:blip r:embed="rId1"/>
          <a:srcRect l="0" t="30052" r="4721" b="30052"/>
          <a:stretch/>
        </p:blipFill>
        <p:spPr>
          <a:xfrm>
            <a:off x="1403280" y="2378160"/>
            <a:ext cx="6553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57280" y="-214560"/>
            <a:ext cx="478656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я хочу бы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37864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в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есной для окружающих, уверенной в своей необходимости близки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боящейся признавать свои ошибк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стной прежде всего перед собой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меющей удивлять и вдохновлять 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самое главное –счастли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5" descr="xY4Jr8zAXAY.jpg"/>
          <p:cNvPicPr/>
          <p:nvPr/>
        </p:nvPicPr>
        <p:blipFill>
          <a:blip r:embed="rId1"/>
          <a:srcRect l="0" t="19551" r="-434" b="32152"/>
          <a:stretch/>
        </p:blipFill>
        <p:spPr>
          <a:xfrm>
            <a:off x="3760920" y="692280"/>
            <a:ext cx="53830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40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900"/>
                            </p:stCondLst>
                            <p:childTnLst>
                              <p:par>
                                <p:cTn id="3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400"/>
                            </p:stCondLst>
                            <p:childTnLst>
                              <p:par>
                                <p:cTn id="3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900"/>
                            </p:stCondLst>
                            <p:childTnLst>
                              <p:par>
                                <p:cTn id="3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400"/>
                            </p:stCondLst>
                            <p:childTnLst>
                              <p:par>
                                <p:cTn id="3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900"/>
                            </p:stCondLst>
                            <p:childTnLst>
                              <p:par>
                                <p:cTn id="3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400"/>
                            </p:stCondLst>
                            <p:childTnLst>
                              <p:par>
                                <p:cTn id="3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900"/>
                            </p:stCondLst>
                            <p:childTnLst>
                              <p:par>
                                <p:cTn id="3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педагогическое кред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то я несу с собой: добро иль вред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ишь знают небеса, не мне суд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о только хочется оставить в жизни сле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 не дай Бог, хоть как-то наслед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ка эффективности стиля педагогическ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 общения педагога с деть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Ю. Вьюнков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утверждения и соотнесите их с собственным опытом работы. Оцените каждое утверждение в соответствии с градацией отве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бсолютно верно — 2 бал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, верно — 1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да ни нет — 0 б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бщем, нет — 1 балл нет, неверно — 2 бал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197000"/>
            <a:ext cx="3635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ушова Лола Мирзомахмад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а рождения: 04.04.1999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ка ЧПК №1 (Учитель начальных классов и ДО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с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H7wC-7YkSZI.jpg"/>
          <p:cNvPicPr/>
          <p:nvPr/>
        </p:nvPicPr>
        <p:blipFill>
          <a:blip r:embed="rId1"/>
          <a:srcRect l="0" t="20601" r="5165" b="24801"/>
          <a:stretch/>
        </p:blipFill>
        <p:spPr>
          <a:xfrm>
            <a:off x="3871800" y="1268280"/>
            <a:ext cx="52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умею выдержать паузу после формулировки проблемы, вопроса, чтобы не мешать детям думать, принимать решение.(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е веду ребенка за руку в решении проблемы, вопроса, задания. Свое общение с детьми начинаю с вопроса: «Что скажете?», «Что думаете?», «О чем молчите?» (1 бал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Я могу выбрать нужную меру помощи, чтобы каждый ребенок смог выполнить работу относительно самостоятельно.(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Я никогда не повторяю ответы детей, литературно формулируя их мысль. (1 бал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У меня на занятиях дети имеют возможность задать вопрос, высказаться, чувствуют себя спокойно и естественно.( 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Я считаюсь с желанием детей продолжить тот или иной вид работы, если они испытывают состояние вдохновения, творчества, даже если увеличение объемов работы не предусмотрено планом деятельности.(1 бал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Я принимаю ошибки детей, так как их ошибки являются источником вопросов, проблем, обсуждаемых группой. ( 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Я владею активными методами и формами работы (игровыми, тренинговыми, театрализацией и др.). (1 бал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Я владею методами сохранения нервно-психического здоровья детей. (1 бал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Я могу снять раздражение, гнев, агрессию у ребенка, умею переключить его внимание. (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.Я являюсь для своих детей (воспитанников) товарищем, единомышленником, равноправным партнером в их делах.( 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.Я стараюсь познать своих детей. Даю понять, что вижу их достоинства независимо от их успехов. (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.Я умею насытить жизнь детей в своей группе разнообразной творческой деятельностью, чтобы каждый имел возможность реализовать себя.(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Я учу ребят анализировать поведение, чувства, поступки не только литературных героев, но и свои, своих товарищей, взрослых людей. (1 бал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.Я поощряю интеллигентное и открытое выражение детьми своих чувств.(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.Я развиваю у детей способность видеть и ценить индивидуальность других.(2 бал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ботка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ите баллы по каждому утверждению, а полученную сумму разделите на 20 (количество вопросов). Итоговое число свидетельствует об уровне эффективности Вашего педагогическ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личество баллов от 2 до 1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демократичный педагог, который владеет условиями организации обучения, направленными на общее развитие воспитанников. Вам успешно удается учитывать в своей работе индивидуальные особенности ребенка. Умеете стимулировать развитие коллектива. Ваши воспитанники испытывают интерес к общению с Вами. Однако подумайте, не является ли Ваше мнение о себе следствием завышенной самооценки, проявившейся в Ваших ответах на вопрос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личество баллов от 1 до 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осознаете основные условия организации обучения и непосредственного общения с детьми. Чтобы осознание перешло в каждодневную практику, Вам следует создавать ситуации для развития детской самостоятельности, индивидуального творчества, больше поощрять инициативу, направленную на освоение ребятами знаний и опы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ровень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личество баллов от 0 до —0,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следует серьезно переосмыслить свое общение с детьми. Для некоторых Ваш стиль общения подходит, но другие могут испытывать неуверенность в общении с Вами. Проанализируйте те утверждения, которые Вы не приняли. Что вызвало Ваше несогласие? На какие позиции Вы могли бы уже сейчас взглянуть по-другому? Начинайте действов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ровень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личество баллов от —1 до —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из двух: Вы или авторитарны, или же, наоборот, излишне опекаете детей. В обои случаях им трудно общаться и работать с Вами. Для создания атмосферы, способствующей максимальному развитию личности каждого воспитанника, Вам имеет смысл изменить стиль общения, сложившийся в группе. Если Вы готовы это сделать, начинайте с переосмысления любой из обозначенных выше пози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мократический ст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19664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полностью согласна в том, что у меня демократический стиль. При демократическом стиле общение и деятельность строятся на творческом сотрудничестве. Совместная деятельность мотивируется мной, я прислушиваюсь к мнению детей, поддерживает право воспитанника на свою позицию, поощряет активность, обсуждает замысел, способы и ход деятельности Этот стиль характеризуется положительно-эмоциональной атмосферой взаимодействия, доброжелательностью, доверием, требовательностью и уважением, учетом индивидуальности ли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21420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Мой первый урок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785880"/>
            <a:ext cx="82864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ревога, страх, неуверенность… получится ли? Смогу ли «дотронуться до сердца» каждого, не станут ли мои слова Пустот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7ksuIZR_hIA.jpg"/>
          <p:cNvPicPr/>
          <p:nvPr/>
        </p:nvPicPr>
        <p:blipFill>
          <a:blip r:embed="rId1"/>
          <a:srcRect l="0" t="18900" r="0" b="38451"/>
          <a:stretch/>
        </p:blipFill>
        <p:spPr>
          <a:xfrm>
            <a:off x="1763640" y="2049480"/>
            <a:ext cx="63374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Кредо» означает убеждение, мировоззрение, ве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 что я верю? К чему стремлю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ро нести, добру учи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иться цели через труд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юбовью истине служить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называю это </a:t>
            </a:r>
            <a:r>
              <a:rPr b="1" i="1" lang="ru-RU" sz="3200" spc="-1" strike="noStrike">
                <a:solidFill>
                  <a:srgbClr val="c00000"/>
                </a:solidFill>
                <a:latin typeface="Comic Sans MS"/>
              </a:rPr>
              <a:t>мудростью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призвание – уч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907560"/>
            <a:ext cx="2879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меня «учитель» – это жизнь. Когда я провожу уроки на практике, я не работаю учителем, я живу учителем. Мне нравится быть уч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c5iprAvHFE4.jpg"/>
          <p:cNvPicPr/>
          <p:nvPr/>
        </p:nvPicPr>
        <p:blipFill>
          <a:blip r:embed="rId1"/>
          <a:srcRect l="0" t="19551" r="-2302" b="24801"/>
          <a:stretch/>
        </p:blipFill>
        <p:spPr>
          <a:xfrm>
            <a:off x="3203640" y="1197000"/>
            <a:ext cx="55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–  буду первой учительниц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1600200"/>
            <a:ext cx="31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одители доверят мне самое дорогое, что у них есть, – своих детей .  И от меня, первого учителя, зависит, как сложится школьная жизнь ребё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SPJ8aR1KDtY.jpg"/>
          <p:cNvPicPr/>
          <p:nvPr/>
        </p:nvPicPr>
        <p:blipFill>
          <a:blip r:embed="rId1"/>
          <a:srcRect l="0" t="19551" r="-434" b="25850"/>
          <a:stretch/>
        </p:blipFill>
        <p:spPr>
          <a:xfrm>
            <a:off x="3400560" y="1303200"/>
            <a:ext cx="57434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628640"/>
            <a:ext cx="546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ногому я научилас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 своих наставнико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еще более - своих товарищ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 более всего у своих ученик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Талму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Рисунок 3" descr="vIZKeW9lptM.jpg"/>
          <p:cNvPicPr/>
          <p:nvPr/>
        </p:nvPicPr>
        <p:blipFill>
          <a:blip r:embed="rId1"/>
          <a:srcRect l="0" t="29402" r="0" b="29000"/>
          <a:stretch/>
        </p:blipFill>
        <p:spPr>
          <a:xfrm>
            <a:off x="4356000" y="260280"/>
            <a:ext cx="43131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 урок, преподнесенный  учащимися: настоящий учитель тот, кто способен спуститься с высот своих знаний до незнания ученика и вместе с ним совершить восхожд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Рисунок 4" descr="XZhJ9CyaXGo.jpg"/>
          <p:cNvPicPr/>
          <p:nvPr/>
        </p:nvPicPr>
        <p:blipFill>
          <a:blip r:embed="rId1"/>
          <a:srcRect l="0" t="22050" r="-878" b="24402"/>
          <a:stretch/>
        </p:blipFill>
        <p:spPr>
          <a:xfrm>
            <a:off x="1332000" y="2276640"/>
            <a:ext cx="676908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476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 урок:   преподавание и общение должны быть искренни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Рисунок 4" descr="wo1a2yGzVEg.jpg"/>
          <p:cNvPicPr/>
          <p:nvPr/>
        </p:nvPicPr>
        <p:blipFill>
          <a:blip r:embed="rId1"/>
          <a:srcRect l="0" t="19551" r="0" b="18501"/>
          <a:stretch/>
        </p:blipFill>
        <p:spPr>
          <a:xfrm>
            <a:off x="2411280" y="1320840"/>
            <a:ext cx="50245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2:28Z</dcterms:created>
  <dc:creator>Дилярка</dc:creator>
  <dc:description/>
  <dc:language>en-US</dc:language>
  <cp:lastModifiedBy>Prickov</cp:lastModifiedBy>
  <dcterms:modified xsi:type="dcterms:W3CDTF">2017-12-01T16:32:33Z</dcterms:modified>
  <cp:revision>71</cp:revision>
  <dc:subject/>
  <dc:title>Мое педагогическое кредо</dc:title>
</cp:coreProperties>
</file>