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0B6-26B1-4070-A5E4-49D86C90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6F7-753E-4E85-ADA9-AAF1506C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72AD-10BC-40AF-9410-01AA8A68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8C78-05D8-4740-AB54-65CE45D1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0F5EC-4706-4DB1-A838-20C3137D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24FAB-D181-4CCC-A9F1-5DF5CC06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300AB-EE0A-48E0-913B-89D5E6BF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D73CE-0121-4084-B632-FFA3539B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E3E45-F2BF-4E82-9C52-A634E89F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A9936-881E-4A20-A40E-8643694B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C67AB-A1AE-499F-80AE-4FAC26AA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B92E-2145-4014-A428-E1E4B3C0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0B3C6-7E0C-4185-9C16-4D117607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C725C-1CBB-4672-9C71-912B010A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EB963-A819-456C-8A28-E5DECF15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AAE5B-8375-4243-BBE4-9FCB341B6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90041-0A7A-4B1C-9E78-2D2576AE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7AE2-35AC-478F-B584-A3C64BEB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D025-1B3D-48BD-9A33-E8977DAE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D1A1-E3F8-4999-BAE8-C2DB2A7C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F2CC-99AE-45D0-B583-1EDBFDA9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BD50-92D8-445C-9F9B-0AD40328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67FD-5513-41A7-A246-27EDAD7B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E97F-9EC2-41F4-828D-6312477E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7272-14AD-4289-B51D-086476060E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E1FD-F081-4882-89C7-61D03C0403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 – Б клас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ОКРУЖАЮЩИЙ  МИР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rcRect l="6683" t="0" r="11406" b="693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4898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ЩЕГО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urier New"/>
              </a:rPr>
              <a:t>ВОРОБЕЙ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СИНИЦ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26920" y="0"/>
            <a:ext cx="7417080" cy="68151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ДЯТЕ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СОРОК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22046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Tahoma"/>
              </a:rPr>
              <a:t>ПТИЦЫ</a:t>
            </a:r>
            <a:endParaRPr b="0" lang="en-US" sz="1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СНЕГИРЬ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СВИРИСТЕЛЬ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ПОПОЛЗЕНЬ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8T17:22:29Z</dcterms:created>
  <dc:creator>Admin</dc:creator>
  <dc:description/>
  <dc:language>en-US</dc:language>
  <cp:lastModifiedBy>Admin</cp:lastModifiedBy>
  <dcterms:modified xsi:type="dcterms:W3CDTF">2017-12-18T17:53:14Z</dcterms:modified>
  <cp:revision>19</cp:revision>
  <dc:subject/>
  <dc:title>ВОРОБЕЙ</dc:title>
</cp:coreProperties>
</file>