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B09-D401-44E7-993F-3133A01C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EA1-4565-4794-9B7B-2526C780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244-89F8-4B61-B016-8CA4E5C2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365-9B5A-49F9-A47C-5B3A4645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E92-A2C0-4FD0-AA17-F0480553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ECB-E8DE-4CD8-B1EB-C0C4FC44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733-1F24-4F30-8870-0A78B368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8B2-7993-43C8-83A0-738DF01A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B96-B58B-4787-9DFA-70F27509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EB2-6668-42D8-8F7F-D3BAFE1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9E1-7C49-4464-9C43-1E73053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569-DC2B-4F17-AF25-38883D5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AF6-A07C-4D75-A588-A7C1B7B30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828360" cy="737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«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Песенка друзей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а-ла-ла-ла-ла-ла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Е-е-е-е-е е-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12349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4149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1. Ничего на свете лучше нету,</a:t>
            </a:r>
            <a:br>
              <a:rPr sz="6000"/>
            </a:b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Чем бродить друзьям по белу свету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24000" y="-12600"/>
            <a:ext cx="975708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96720" y="407628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Тем, кто дружен, </a:t>
            </a:r>
            <a:br>
              <a:rPr sz="6000"/>
            </a:b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Не страшны тревоги,</a:t>
            </a:r>
            <a:br>
              <a:rPr sz="6000"/>
            </a:br>
            <a:r>
              <a:rPr b="1" lang="ru-RU" sz="6000" spc="-1" strike="noStrike" u="sng">
                <a:solidFill>
                  <a:srgbClr val="000099"/>
                </a:solidFill>
                <a:uFillTx/>
                <a:latin typeface="Arial"/>
              </a:rPr>
              <a:t>Нам любые дороги дорог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а-ла-ла-ла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Е-е-е-е-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93236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Мы своё призванье не забудем,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Смех и радость мы приносим людям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82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739960"/>
            <a:ext cx="92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3300"/>
                </a:solidFill>
                <a:latin typeface="Arial"/>
              </a:rPr>
              <a:t>Нам дворцов заманчивые своды</a:t>
            </a:r>
            <a:br>
              <a:rPr sz="6600"/>
            </a:br>
            <a:r>
              <a:rPr b="1" lang="en-US" sz="6600" spc="-1" strike="noStrike" u="sng">
                <a:solidFill>
                  <a:srgbClr val="663300"/>
                </a:solidFill>
                <a:uFillTx/>
                <a:latin typeface="Arial"/>
              </a:rPr>
              <a:t>Не заменят никогда своб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а-ла-ла-ла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Е-е-е-е-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8960" y="2572920"/>
            <a:ext cx="484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  </a:t>
            </a:r>
            <a:br>
              <a:rPr sz="5400"/>
            </a:b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3. Наш ковёр - цветочная поляна,</a:t>
            </a:r>
            <a:br>
              <a:rPr sz="5400"/>
            </a:b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   Наши   стены - сосны великаны</a:t>
            </a:r>
            <a:r>
              <a:rPr b="1" lang="en-US" sz="66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5103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50560" y="2349000"/>
            <a:ext cx="87138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7000" spc="-1" strike="noStrike">
                <a:solidFill>
                  <a:srgbClr val="0000ff"/>
                </a:solidFill>
                <a:latin typeface="Arial"/>
              </a:rPr>
              <a:t>Наша крыша –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00ff"/>
                </a:solidFill>
                <a:latin typeface="Arial"/>
              </a:rPr>
              <a:t>небо </a:t>
            </a:r>
            <a:r>
              <a:rPr b="1" i="1" lang="en-US" sz="7000" spc="-1" strike="noStrike">
                <a:solidFill>
                  <a:srgbClr val="0000cc"/>
                </a:solidFill>
                <a:latin typeface="Arial"/>
              </a:rPr>
              <a:t>голубое</a:t>
            </a:r>
            <a:r>
              <a:rPr b="0" lang="en-US" sz="65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Наше счастье - жить такой судьбою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9T06:41:36Z</dcterms:created>
  <dc:creator>Татьяна</dc:creator>
  <dc:description/>
  <dc:language>en-US</dc:language>
  <cp:lastModifiedBy>Татаренко О.Ю.</cp:lastModifiedBy>
  <dcterms:modified xsi:type="dcterms:W3CDTF">2017-12-19T19:39:03Z</dcterms:modified>
  <cp:revision>8</cp:revision>
  <dc:subject/>
  <dc:title>3 отряд «Песенка друзей»</dc:title>
</cp:coreProperties>
</file>