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DD07-31B1-431C-8A89-2F79F5358B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70A3-726D-4E84-A0DC-E379082D790B}" type="slidenum">
              <a:rPr b="0" lang="ru-RU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6737-1D32-4C88-8FE7-8A42CB70881A}" type="slidenum">
              <a:rPr b="0" lang="ru-RU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CCD4-DF1F-4A82-825F-48D581706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53C6-5C63-42AB-84B5-E257A3B8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76AB-BA83-4FE8-BF95-B223C2826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A312-E751-428C-AF27-5679D26C8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F54A-2435-44DE-BD32-E2090ED6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D0F9-CDD6-43BB-8645-3AB9FC164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727E-35A9-4037-A797-F623F8DE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9B5E-8DA9-4928-B88D-C95205EC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6B01-42BC-4677-89BA-97918E2E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46C6-545C-4260-962D-82AB02E6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DB3C-C357-477E-90BC-33452DA0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B621-86DC-4DD4-BC97-B824E41F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c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4526-2789-47F7-B7F5-4C17C6A61723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5.xml"/><Relationship Id="rId3" Type="http://schemas.openxmlformats.org/officeDocument/2006/relationships/hyperlink" Target="file:///Esho%20do%20vojni_%5Btorrents.ru%5D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4.jpeg"/><Relationship Id="rId3" Type="http://schemas.openxmlformats.org/officeDocument/2006/relationships/slide" Target="slide15.xml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slide" Target="slide17.xml"/><Relationship Id="rId7" Type="http://schemas.openxmlformats.org/officeDocument/2006/relationships/slide" Target="slide22.xml"/><Relationship Id="rId8" Type="http://schemas.openxmlformats.org/officeDocument/2006/relationships/slide" Target="slide20.xml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../&#1041;&#1080;&#1086;&#1075;&#1088;&#1072;&#1092;&#1080;&#1095;&#1077;&#1089;&#1082;&#1080;&#1077;%20&#1092;&#1072;&#1082;&#1090;&#1099;.doc" TargetMode="External"/><Relationship Id="rId3" Type="http://schemas.openxmlformats.org/officeDocument/2006/relationships/hyperlink" Target="file:///../&#1041;&#1080;&#1086;&#1075;&#1088;&#1072;&#1092;&#1080;&#1095;&#1077;&#1089;&#1082;&#1080;&#1077;%20&#1092;&#1072;&#1082;&#1090;&#1099;.doc" TargetMode="External"/><Relationship Id="rId4" Type="http://schemas.openxmlformats.org/officeDocument/2006/relationships/hyperlink" Target="file:///../&#171;%20&#1053;&#1091;&#1078;&#1085;&#1086;%20&#1083;&#1080;%20&#1079;&#1085;&#1072;&#1090;&#1100;%20&#1080;&#1084;&#1077;&#1085;&#1072;%20&#1085;&#1072;&#1096;&#1080;&#1093;%20%20&#1079;&#1077;&#1084;&#1083;&#1103;&#1082;&#1086;&#1074;%20-%20&#1087;&#1086;&#1101;&#1090;&#1086;&#1074;&#187;.wmv" TargetMode="External"/><Relationship Id="rId5" Type="http://schemas.openxmlformats.org/officeDocument/2006/relationships/hyperlink" Target="file:///../&#171;%20&#1053;&#1091;&#1078;&#1085;&#1086;%20&#1083;&#1080;%20&#1079;&#1085;&#1072;&#1090;&#1100;%20&#1080;&#1084;&#1077;&#1085;&#1072;%20&#1085;&#1072;&#1096;&#1080;&#1093;%20%20&#1079;&#1077;&#1084;&#1083;&#1103;&#1082;&#1086;&#1074;%20-%20&#1087;&#1086;&#1101;&#1090;&#1086;&#1074;&#187;.wmv" TargetMode="External"/><Relationship Id="rId6" Type="http://schemas.openxmlformats.org/officeDocument/2006/relationships/hyperlink" Target="file:///../&#171;%20&#1053;&#1091;&#1078;&#1085;&#1086;%20&#1083;&#1080;%20&#1079;&#1085;&#1072;&#1090;&#1100;%20&#1080;&#1084;&#1077;&#1085;&#1072;%20&#1085;&#1072;&#1096;&#1080;&#1093;%20%20&#1079;&#1077;&#1084;&#1083;&#1103;&#1082;&#1086;&#1074;%20-%20&#1087;&#1086;&#1101;&#1090;&#1086;&#1074;&#187;.wmv" TargetMode="External"/><Relationship Id="rId7" Type="http://schemas.openxmlformats.org/officeDocument/2006/relationships/hyperlink" Target="file:///../&#171;%20&#1053;&#1091;&#1078;&#1085;&#1086;%20&#1083;&#1080;%20&#1079;&#1085;&#1072;&#1090;&#1100;%20&#1080;&#1084;&#1077;&#1085;&#1072;%20&#1085;&#1072;&#1096;&#1080;&#1093;%20%20&#1079;&#1077;&#1084;&#1083;&#1103;&#1082;&#1086;&#1074;%20-%20&#1087;&#1086;&#1101;&#1090;&#1086;&#1074;&#187;.wmv" TargetMode="External"/><Relationship Id="rId8" Type="http://schemas.openxmlformats.org/officeDocument/2006/relationships/hyperlink" Target="file:///../&#171;%20&#1053;&#1091;&#1078;&#1085;&#1086;%20&#1083;&#1080;%20&#1079;&#1085;&#1072;&#1090;&#1100;%20&#1080;&#1084;&#1077;&#1085;&#1072;%20&#1085;&#1072;&#1096;&#1080;&#1093;%20%20&#1079;&#1077;&#1084;&#1083;&#1103;&#1082;&#1086;&#1074;%20-%20&#1087;&#1086;&#1101;&#1090;&#1086;&#1074;&#187;.wmv" TargetMode="External"/><Relationship Id="rId9" Type="http://schemas.openxmlformats.org/officeDocument/2006/relationships/slide" Target="slide5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5.xml"/><Relationship Id="rId3" Type="http://schemas.openxmlformats.org/officeDocument/2006/relationships/hyperlink" Target="file:///../&#1050;&#1086;&#1083;&#1087;&#1072;&#1096;&#1077;&#1074;&#1089;&#1082;&#1080;&#1081;%20&#1091;&#1085;&#1080;&#1074;&#1077;&#1088;&#1089;&#1080;&#1090;&#1077;&#1090;.doc" TargetMode="External"/><Relationship Id="rId4" Type="http://schemas.openxmlformats.org/officeDocument/2006/relationships/hyperlink" Target="file:///../&#1050;&#1086;&#1083;&#1087;&#1072;&#1096;&#1077;&#1074;&#1089;&#1082;&#1080;&#1081;%20&#1091;&#1085;&#1080;&#1074;&#1077;&#1088;&#1089;&#1080;&#1090;&#1077;&#1090;.doc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&#1055;&#1088;&#1086;&#1080;&#1079;&#1074;&#1077;&#1076;&#1077;&#1085;&#1080;&#1103;%20&#1042;.&#1051;&#1080;&#1087;&#1072;&#1090;&#1086;&#1074;&#1072;.doc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" Target="slide5.xml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Derevenskij.detektiv.1968.DivX.DVDRip.BestVideo.mp4/" TargetMode="Externa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Проект</a:t>
            </a:r>
            <a:br>
              <a:rPr sz="4400"/>
            </a:b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«Писатели родного края»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2590560"/>
            <a:ext cx="4267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Писателю- земляку посвящается…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50" name="Picture 5" descr="https://i.livelib.ru/boocover/1001493341/200/154d/Vil_Lipatov__Gluhaya_myata.jpg"/>
          <p:cNvPicPr/>
          <p:nvPr/>
        </p:nvPicPr>
        <p:blipFill>
          <a:blip r:embed="rId1"/>
          <a:stretch/>
        </p:blipFill>
        <p:spPr>
          <a:xfrm>
            <a:off x="5181480" y="1981080"/>
            <a:ext cx="33991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C:\Users\kab\Desktop\845944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864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7543800" y="60199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РАЗДЕЛЫ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228600" y="2286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00000"/>
                </a:solidFill>
                <a:uFillTx/>
                <a:latin typeface="Arial"/>
              </a:rPr>
              <a:t>Серая мышь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C95D-F1B2-43CC-AE5F-F804CFC4802B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789A-C55E-4CA4-93E5-88BB50FF6EB5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94" name="Picture 2" descr="C:\Users\kab\Desktop\iz_k_f_i_eto_vse_o_nem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8"/>
          <p:cNvSpPr/>
          <p:nvPr/>
        </p:nvSpPr>
        <p:spPr>
          <a:xfrm>
            <a:off x="7467480" y="60958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РАЗДЕЛЫ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52280" y="1522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00000"/>
                </a:solidFill>
                <a:uFillTx/>
                <a:latin typeface="Arial"/>
              </a:rPr>
              <a:t>И это всё о нём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99" name="Picture 4" descr="C:\Users\kab\Desktop\scrshot2.jpg"/>
          <p:cNvPicPr/>
          <p:nvPr/>
        </p:nvPicPr>
        <p:blipFill>
          <a:blip r:embed="rId1"/>
          <a:stretch/>
        </p:blipFill>
        <p:spPr>
          <a:xfrm>
            <a:off x="-152280" y="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7391520" y="6019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РАЗДЕЛЫ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0" y="152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Ещё до войны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800000"/>
                </a:solidFill>
                <a:uFillTx/>
                <a:latin typeface="Calibri"/>
              </a:rPr>
              <a:t>Воспоминания о писателе: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2C62-1E83-4098-82CC-E56F7815F408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E5DD-D20B-40C8-9D4A-DC18B78CBE16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5" name="Picture 2" descr="C:\Users\kab\Desktop\Масс_Анна_Владимировна_001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1295280"/>
            <a:ext cx="3206520" cy="3733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:\Users\kab\Desktop\Fink_L.A.-P001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34120" y="1371600"/>
            <a:ext cx="3430440" cy="36576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9"/>
          <p:cNvSpPr/>
          <p:nvPr/>
        </p:nvSpPr>
        <p:spPr>
          <a:xfrm>
            <a:off x="7391520" y="60199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800000"/>
                </a:solidFill>
                <a:uFillTx/>
                <a:latin typeface="Arial"/>
              </a:rPr>
              <a:t>РАЗДЕЛЫ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304920" y="50292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Анна Масс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5867280" y="50292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Лев Адольфович Финк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0" name="Picture 13" descr="Картинки по запросу Митин, Генрих Алексеевич"/>
          <p:cNvPicPr/>
          <p:nvPr/>
        </p:nvPicPr>
        <p:blipFill>
          <a:blip r:embed="rId5"/>
          <a:stretch/>
        </p:blipFill>
        <p:spPr>
          <a:xfrm>
            <a:off x="2819520" y="2286000"/>
            <a:ext cx="2960640" cy="38289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4"/>
          <p:cNvSpPr/>
          <p:nvPr/>
        </p:nvSpPr>
        <p:spPr>
          <a:xfrm>
            <a:off x="2819520" y="60958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Генрих Митин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800000"/>
                </a:solidFill>
                <a:uFillTx/>
                <a:latin typeface="Arial"/>
              </a:rPr>
              <a:t>Анна Масс: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Липатов был коренаст, густоволос, мужиковат. Приехал в Москву из Сибири. В широкоскулом лице проглядывали черты бабушки монголки. В узковатых светлых, немного исподлобья, глазах — умная насмешка и сдержанность. Трогательно обожал свою дочку Таню. Каждая новая публикация его произведений была событием, жадно читалась и обсуждалась.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B38F-B4D4-4746-A9AE-A241BD3CE36C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5" name="Номер слайда 4"/>
          <p:cNvSpPr/>
          <p:nvPr/>
        </p:nvSpPr>
        <p:spPr>
          <a:xfrm>
            <a:off x="640080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6D49-C027-4C73-B342-772DD11F795B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6477120" y="60199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800000"/>
                </a:solidFill>
                <a:uFillTx/>
                <a:latin typeface="Arial"/>
              </a:rPr>
              <a:t>ВОСПОМИНАНИЯ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800000"/>
                </a:solidFill>
                <a:uFillTx/>
                <a:latin typeface="Calibri"/>
              </a:rPr>
              <a:t>Л.А. Финк: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Его герои — шоферы и трактористы, сплавщики и лесорубы, строители и речники. Он пишет о них постоянно и в то же время не повторяясь, пишет очень достоверно, не пытаясь спрятать даже их человеческое несовершенство и в то же время не скрывая своей влюбленности в них. Пожалуй, самое явное свойство таланта Липатова — отличное знание самых разных человеческих характеров.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5267-2705-4EDA-84EF-000F8370350C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4FA0-3FE0-418B-A5BA-D9418926ABD3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6095880" y="60199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800000"/>
                </a:solidFill>
                <a:uFillTx/>
                <a:latin typeface="Arial"/>
              </a:rPr>
              <a:t>ВОСПОМИНАНИЯ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800000"/>
                </a:solidFill>
                <a:uFillTx/>
                <a:latin typeface="Calibri"/>
              </a:rPr>
              <a:t>Генрих Митин: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Писатель уже знал свой срок  пребывания  на земле - не более 15 лет, как сказали  врачи.  То  ли  они  лукавили,  то  ли смерть, но срок оказался длиною всего в два года. Роман  "Лев  на  лужайке", начатый в 1978 году, Липатов дописывал в 1979-м в больнице, откуда не вышел. Успел все-таки поставить точку, обогнав  смерть!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6172200" y="5943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800000"/>
                </a:solidFill>
                <a:uFillTx/>
                <a:latin typeface="Arial"/>
              </a:rPr>
              <a:t>ВОСПОМИНАНИЯ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800000"/>
                </a:solidFill>
                <a:uFillTx/>
                <a:latin typeface="Arial"/>
              </a:rPr>
              <a:t>Анкетирование:</a:t>
            </a:r>
            <a:br>
              <a:rPr sz="4400"/>
            </a:br>
            <a:br>
              <a:rPr sz="1200"/>
            </a:br>
            <a:r>
              <a:rPr b="1" lang="ru-RU" sz="1200" spc="-1" strike="noStrike" u="sng">
                <a:solidFill>
                  <a:srgbClr val="800000"/>
                </a:solidFill>
                <a:uFillTx/>
                <a:latin typeface="Arial"/>
              </a:rPr>
              <a:t> Знакомы ли вы с творчеством Липатова?</a:t>
            </a:r>
            <a:endParaRPr b="0" lang="en-US" sz="1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27" name="Object 8" descr=""/>
          <p:cNvPicPr/>
          <p:nvPr/>
        </p:nvPicPr>
        <p:blipFill>
          <a:blip r:embed="rId1"/>
          <a:stretch/>
        </p:blipFill>
        <p:spPr>
          <a:xfrm>
            <a:off x="0" y="1347840"/>
            <a:ext cx="910764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Знаете, что он наш земляк?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29" name="Содержимое 5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534520" cy="5029200"/>
          </a:xfrm>
          <a:prstGeom prst="rect">
            <a:avLst/>
          </a:prstGeom>
          <a:ln w="0">
            <a:noFill/>
          </a:ln>
        </p:spPr>
      </p:pic>
      <p:sp>
        <p:nvSpPr>
          <p:cNvPr id="130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83CC-CA48-4826-B6DD-6098852C61AB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9DFD-8AB8-4418-9CBE-756E38510F96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Хотели бы вы узнать о его творчестве больше?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33" name="Содержимое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3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AB9F-B497-48D1-8013-B356F8ECB055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98AA-F54A-4593-A37F-6F0F85D3ACAF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800000"/>
                </a:solidFill>
                <a:uFillTx/>
                <a:latin typeface="Arial"/>
              </a:rPr>
              <a:t>Цель проекта: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Расширить и углубить знания одноклассников о жизни и творчестве писателей родного края;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Исследовать жизнь и творчество Виля Липатова;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Выявить жизненную позицию писателя;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Создать электронную биографическую версию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Таким образом, наша гипотеза о значимости изучения творчества писателей-земляков  получила своё подтверждение на проведенном классном часе. И сегодня это актуально, интересно. Смеем надеяться, что на каком-то витке истории лучшие его книги все же вернутся к нам. Они того заслуживают. А тогурчане и могут, и должны гордиться памятью своего земляка, Великого писателя и очень яркого сценариста. Светлая Память Гениальному Человеку! И с днем рождения!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5479-2FEA-4DEC-9BB9-FC7F40436D22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4E03-A31E-48C4-9222-C092BB182E92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343400" y="533520"/>
            <a:ext cx="464832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На Кети на речке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притулился Тогур,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В нем людей не мало,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в нем людей не много,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Здесь, один из многих,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жил и рос мальчишка,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Рос, как все ребята,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набивая шишки.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Бегал на рыбалку,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червей копал лопатой,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А мальчишку звали просто –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Виль Липатов.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И гордиться хочется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изо всех мне сил,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Что когда-то в Тогуре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Виль Липатов жил!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Т.Шабанова</a:t>
            </a:r>
            <a:br>
              <a:rPr sz="2000"/>
            </a:b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9B45-DC80-4E17-9522-1BFD2DECB926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BC69-F744-475A-AFD1-6E16B292BF6E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42" name="Picture 6" descr="C:\Users\kab\Desktop\45_120_190.jpg"/>
          <p:cNvPicPr/>
          <p:nvPr/>
        </p:nvPicPr>
        <p:blipFill>
          <a:blip r:embed="rId1"/>
          <a:stretch/>
        </p:blipFill>
        <p:spPr>
          <a:xfrm>
            <a:off x="304920" y="546120"/>
            <a:ext cx="3733560" cy="5911920"/>
          </a:xfrm>
          <a:prstGeom prst="rect">
            <a:avLst/>
          </a:prstGeom>
          <a:ln w="0">
            <a:noFill/>
          </a:ln>
        </p:spPr>
      </p:pic>
      <p:pic>
        <p:nvPicPr>
          <p:cNvPr id="143" name="1f58519e5a2978ad7fd581e4b194903c.mp3" descr=""/>
          <p:cNvPicPr/>
          <p:nvPr/>
        </p:nvPicPr>
        <p:blipFill>
          <a:blip r:embed="rId2"/>
          <a:stretch/>
        </p:blipFill>
        <p:spPr>
          <a:xfrm>
            <a:off x="8534520" y="5867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44" name="TextBox 6"/>
          <p:cNvSpPr/>
          <p:nvPr/>
        </p:nvSpPr>
        <p:spPr>
          <a:xfrm>
            <a:off x="6705720" y="6095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800000"/>
                </a:solidFill>
                <a:uFillTx/>
                <a:latin typeface="Arial"/>
              </a:rPr>
              <a:t>РАЗДЕЛЫ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2036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9233-01FC-45EE-995A-185B369CE2C9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2A65-DC89-4376-B110-3CA1FA86D211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228600" y="883080"/>
            <a:ext cx="89154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Arial"/>
                <a:ea typeface="Calibri"/>
              </a:rPr>
              <a:t>Источники:</a:t>
            </a:r>
            <a:endParaRPr b="0" lang="en-US" sz="1600" spc="-1" strike="noStrike">
              <a:solidFill>
                <a:srgbClr val="8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Гринберг И. Судьбы, характеры, конфликты. – Москва, 1977, № 4</a:t>
            </a:r>
            <a:endParaRPr b="0" lang="en-US" sz="1600" spc="-1" strike="noStrike">
              <a:solidFill>
                <a:srgbClr val="8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Arial"/>
                <a:ea typeface="Calibri"/>
              </a:rPr>
              <a:t>Земля Колпашевская: Сборник научно-популярных очерков/ Отв. Ред. В. А. Яковлев.—Томск, 2000 г. </a:t>
            </a:r>
            <a:endParaRPr b="0" lang="en-US" sz="1600" spc="-1" strike="noStrike">
              <a:solidFill>
                <a:srgbClr val="8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Arial"/>
                <a:ea typeface="Calibri"/>
              </a:rPr>
              <a:t>Летопись родного края Колпашево. История исчезнувшего предприятия http://www.myshared.ru/slide/198591/ </a:t>
            </a:r>
            <a:endParaRPr b="0" lang="en-US" sz="1600" spc="-1" strike="noStrike">
              <a:solidFill>
                <a:srgbClr val="8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Лойша В. Виль Липатов как продукт эпохи    </a:t>
            </a:r>
            <a:endParaRPr b="0" lang="en-US" sz="1600" spc="-1" strike="noStrike">
              <a:solidFill>
                <a:srgbClr val="8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Липатов В. Собрание сочинений, т. 1–4. М., 1982–1985</a:t>
            </a:r>
            <a:endParaRPr b="0" lang="en-US" sz="1600" spc="-1" strike="noStrike">
              <a:solidFill>
                <a:srgbClr val="8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Липатов В. Лев на лужайке. М., 1990</a:t>
            </a:r>
            <a:endParaRPr b="0" lang="en-US" sz="1600" spc="-1" strike="noStrike">
              <a:solidFill>
                <a:srgbClr val="8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Липатов В. В. Первое прикосновение искусства    </a:t>
            </a:r>
            <a:endParaRPr b="0" lang="en-US" sz="1600" spc="-1" strike="noStrike">
              <a:solidFill>
                <a:srgbClr val="8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Масс А. «Писательские дачи. Рисунки по памяти. Виль Липатов и Таня»   </a:t>
            </a:r>
            <a:endParaRPr b="0" lang="en-US" sz="1600" spc="-1" strike="noStrike">
              <a:solidFill>
                <a:srgbClr val="8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Муштаев В. «Здравствуй, солнце! Здравствуй, жизнь!»    </a:t>
            </a:r>
            <a:endParaRPr b="0" lang="en-US" sz="1600" spc="-1" strike="noStrike">
              <a:solidFill>
                <a:srgbClr val="8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Arial"/>
                <a:ea typeface="Calibri"/>
              </a:rPr>
              <a:t>Народное образование Сибирского края http://www.referat.wwww4.com/view-text-251122http://museum.ru/M608 http://www.textreferat.com/referat-6483-3.html </a:t>
            </a:r>
            <a:endParaRPr b="0" lang="en-US" sz="1600" spc="-1" strike="noStrike">
              <a:solidFill>
                <a:srgbClr val="8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Роднянская И. К спорам вокруг Анискина. – Новый мир, 1968, № 2</a:t>
            </a:r>
            <a:endParaRPr b="0" lang="en-US" sz="1600" spc="-1" strike="noStrike">
              <a:solidFill>
                <a:srgbClr val="8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800000"/>
                </a:solidFill>
                <a:latin typeface="Arial"/>
                <a:ea typeface="Calibri"/>
              </a:rPr>
              <a:t>Сергеева Н. Я., Ефимова Е. М. Колпашево.—Новосибирск, 1982г.</a:t>
            </a:r>
            <a:endParaRPr b="0" lang="en-US" sz="1600" spc="-1" strike="noStrike">
              <a:solidFill>
                <a:srgbClr val="8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Синельников М. Острота социального зрения    </a:t>
            </a:r>
            <a:endParaRPr b="0" lang="en-US" sz="1600" spc="-1" strike="noStrike">
              <a:solidFill>
                <a:srgbClr val="8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Arial"/>
                <a:ea typeface="Calibri"/>
              </a:rPr>
              <a:t>Тогур вчера, сегодня, завтра… http://togur.tom.ru/VOV.html 6. Фотографии из фондов Колпашевского краеведческого музея.</a:t>
            </a:r>
            <a:endParaRPr b="0" lang="en-US" sz="1600" spc="-1" strike="noStrike">
              <a:solidFill>
                <a:srgbClr val="8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Финк Л. И одна – моя – судьба. Самара, 1993</a:t>
            </a:r>
            <a:endParaRPr b="0" lang="en-US" sz="16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7010280" y="59436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800000"/>
                </a:solidFill>
                <a:uFillTx/>
                <a:latin typeface="Arial"/>
              </a:rPr>
              <a:t>РАЗДЕЛЫ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800000"/>
                </a:solidFill>
                <a:uFillTx/>
                <a:latin typeface="Calibri"/>
              </a:rPr>
              <a:t>Гипотеза: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Нужно ли знать имена наших земляков-поэтов?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Мы считаем, что необходимо уважать культуру и язык, приобретать знания о судьбе своего народа, его литературных талантах, обычаях прошлого.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Ход работы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Изучение литературы по данному вопросу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Анкетирование одноклассников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Создание электронного сборника произведений Виля Липатова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7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1843-6907-4C4C-AB30-261F1E56D582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0B83-2AF7-477B-AB62-1D07328DCF57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800000"/>
                </a:solidFill>
                <a:uFillTx/>
                <a:latin typeface="Calibri"/>
              </a:rPr>
              <a:t>Разделы пособия</a:t>
            </a:r>
            <a:r>
              <a:rPr b="1" lang="ru-RU" sz="4400" spc="-1" strike="noStrike" u="sng">
                <a:solidFill>
                  <a:srgbClr val="800000"/>
                </a:solidFill>
                <a:uFillTx/>
                <a:latin typeface="Arial"/>
              </a:rPr>
              <a:t>: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Биография В.Липатова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Колпашевский учительский институт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Произведения В.Липатова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Сценарист В.Липатов, фильмография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Воспоминания о писателе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Анкетирование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Список используемой литературы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Заключение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Биография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62" name="Содержимое 7" descr="Снимок.PNG"/>
          <p:cNvPicPr/>
          <p:nvPr/>
        </p:nvPicPr>
        <p:blipFill>
          <a:blip r:embed="rId1"/>
          <a:stretch/>
        </p:blipFill>
        <p:spPr>
          <a:xfrm>
            <a:off x="380880" y="1828800"/>
            <a:ext cx="3048120" cy="4172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648320" y="1600200"/>
            <a:ext cx="4038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Биография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.doc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Видеоролик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“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Нужно ли знать имена наших поэтов-земляков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?”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 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0985-B800-419B-96EE-3A291F47AE43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2261-ABE5-4248-8B93-3A9DD9C54391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7162920" y="5867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РАЗДЕЛЫ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800000"/>
                </a:solidFill>
                <a:uFillTx/>
                <a:latin typeface="Arial"/>
              </a:rPr>
              <a:t>Колпашевский</a:t>
            </a:r>
            <a:r>
              <a:rPr b="1" lang="ru-RU" sz="4000" spc="-1" strike="noStrike" u="sng">
                <a:solidFill>
                  <a:srgbClr val="800000"/>
                </a:solidFill>
                <a:uFillTx/>
                <a:latin typeface="Calibri"/>
              </a:rPr>
              <a:t> </a:t>
            </a:r>
            <a:r>
              <a:rPr b="1" lang="ru-RU" sz="4000" spc="-1" strike="noStrike" u="sng">
                <a:solidFill>
                  <a:srgbClr val="800000"/>
                </a:solidFill>
                <a:uFillTx/>
                <a:latin typeface="Arial"/>
              </a:rPr>
              <a:t>учительский институт: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68" name="Picture 4" descr="C:\Users\kab\Desktop\i.jpg"/>
          <p:cNvPicPr/>
          <p:nvPr/>
        </p:nvPicPr>
        <p:blipFill>
          <a:blip r:embed="rId1"/>
          <a:stretch/>
        </p:blipFill>
        <p:spPr>
          <a:xfrm>
            <a:off x="152280" y="2133720"/>
            <a:ext cx="6553440" cy="42433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7162920" y="6019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РАЗДЕЛЫ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6781680" y="23623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Информация.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DOC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800000"/>
                </a:solidFill>
                <a:uFillTx/>
                <a:latin typeface="Arial"/>
              </a:rPr>
              <a:t> </a:t>
            </a:r>
            <a:r>
              <a:rPr b="1" lang="ru-RU" sz="4400" spc="-1" strike="noStrike" u="sng">
                <a:solidFill>
                  <a:srgbClr val="800000"/>
                </a:solidFill>
                <a:uFillTx/>
                <a:latin typeface="Arial"/>
              </a:rPr>
              <a:t>Произведения В.Липатова: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28195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Библиография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3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5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78" name="Picture 16" descr="Картинки по запросу Деревенский детектив книга"/>
          <p:cNvPicPr/>
          <p:nvPr/>
        </p:nvPicPr>
        <p:blipFill>
          <a:blip r:embed="rId2"/>
          <a:stretch/>
        </p:blipFill>
        <p:spPr>
          <a:xfrm>
            <a:off x="380880" y="1752480"/>
            <a:ext cx="2095560" cy="3238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8" descr="Картинки по запросу Серая мышь книга"/>
          <p:cNvPicPr/>
          <p:nvPr/>
        </p:nvPicPr>
        <p:blipFill>
          <a:blip r:embed="rId3"/>
          <a:stretch/>
        </p:blipFill>
        <p:spPr>
          <a:xfrm>
            <a:off x="3581280" y="1752480"/>
            <a:ext cx="2014560" cy="3257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0" descr="Картинки по запросу Книга ещё до войны"/>
          <p:cNvPicPr/>
          <p:nvPr/>
        </p:nvPicPr>
        <p:blipFill>
          <a:blip r:embed="rId4"/>
          <a:stretch/>
        </p:blipFill>
        <p:spPr>
          <a:xfrm>
            <a:off x="6705720" y="1752480"/>
            <a:ext cx="2100240" cy="3286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2" descr="Картинки по запросу Книга и это всё о нём"/>
          <p:cNvPicPr/>
          <p:nvPr/>
        </p:nvPicPr>
        <p:blipFill>
          <a:blip r:embed="rId5"/>
          <a:stretch/>
        </p:blipFill>
        <p:spPr>
          <a:xfrm>
            <a:off x="1981080" y="2971800"/>
            <a:ext cx="2211480" cy="3429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4" descr="Картинки по запросу Книга стрежень липатов"/>
          <p:cNvPicPr/>
          <p:nvPr/>
        </p:nvPicPr>
        <p:blipFill>
          <a:blip r:embed="rId6"/>
          <a:stretch/>
        </p:blipFill>
        <p:spPr>
          <a:xfrm>
            <a:off x="5029200" y="2971800"/>
            <a:ext cx="2205000" cy="3429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5"/>
          <p:cNvSpPr/>
          <p:nvPr/>
        </p:nvSpPr>
        <p:spPr>
          <a:xfrm>
            <a:off x="7467480" y="6019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РАЗДЕЛЫ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86" name="Picture 4" descr="C:\Users\kab\Desktop\1488040d56ee5ac17_0.jpg"/>
          <p:cNvPicPr/>
          <p:nvPr/>
        </p:nvPicPr>
        <p:blipFill>
          <a:blip r:embed="rId1"/>
          <a:stretch/>
        </p:blipFill>
        <p:spPr>
          <a:xfrm>
            <a:off x="-73080" y="0"/>
            <a:ext cx="9217080" cy="65530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0" y="1522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Деревенский детектив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7238880" y="60958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РАЗДЕЛЫ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3T04:14:25Z</dcterms:created>
  <dc:creator>Nadiuska</dc:creator>
  <dc:description/>
  <dc:language>en-US</dc:language>
  <cp:lastModifiedBy>kab</cp:lastModifiedBy>
  <dcterms:modified xsi:type="dcterms:W3CDTF">2017-12-19T06:08:26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