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8ED3-6D8E-4496-9CA5-2F479C8D8B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E30A-D579-42AF-B31D-DD7CD52A9A58}" type="slidenum">
              <a:rPr b="0" lang="ru-RU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F714-167F-4241-8191-BB16114A83E5}" type="slidenum">
              <a:rPr b="0" lang="ru-RU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200B-38FC-499C-99B3-8D4E5A442427}" type="slidenum">
              <a:rPr b="0" lang="ru-RU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0529-748E-45C1-9337-65A17E952D0D}" type="slidenum">
              <a:rPr b="0" lang="ru-RU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1077-065A-462C-AA53-0866680F9FFA}" type="slidenum">
              <a:rPr b="0" lang="ru-RU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90FF-12FB-44C6-9AF9-182F71521FC5}" type="slidenum">
              <a:rPr b="0" lang="ru-RU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ACAB-36D3-4C01-84AE-A4D31AB56136}" type="slidenum">
              <a:rPr b="0" lang="ru-RU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45EC-0663-48C3-BE49-1035AAD3E8E7}" type="slidenum">
              <a:rPr b="0" lang="ru-RU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BBB5-AC44-4F06-8399-078EB936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C640-0326-49E8-B3C2-D4CF7831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0BCF-1923-4F51-B60C-855D0535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AB1F-CD8D-4D10-AA6A-0D4673FF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EBA4-73E5-4F4B-9156-28DF3778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9CFF-5A59-4FE9-B0EA-B4A36C1C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F125-EEC8-4641-B1A2-031C20A9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91DB-5989-492B-B442-DF269F25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1667-725F-4801-AC27-DA372DA4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AA21-C22B-473A-9D20-C67AD69B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48B8-A9F1-43A9-93F1-1168B7B7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0A34-6AFC-4420-B3BD-AF5D710D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81D4-5BE7-4198-A1F8-7738E709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E04D-E1B5-4D1C-BB9B-3F94436F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A17D-3F60-4490-B02C-2E282059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B75D-5036-42E2-86FB-AB39AD63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3D51-1B1D-42DC-8B03-B0436A3C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DF44-6DD2-4684-9285-FFE5D795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A9F7-2D6E-49E2-BDE1-B7085180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D95C-E1DC-48C9-B79A-D3487C45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9574-A1CB-43D8-8B68-8C79F3D9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2327-53CA-45A3-A8AD-027B136A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A2F6-9FCF-4564-8760-7C2FE2BC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A54F-747E-44F0-9CD3-54C78778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694480"/>
              <a:gd name="textAreaBottom" fmla="*/ 5694840 h 5694480"/>
            </a:gdLst>
            <a:ahLst/>
            <a:rect l="textAreaLeft" t="textAreaTop" r="textAreaRight" b="textAreaBottom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854280"/>
              <a:gd name="textAreaBottom" fmla="*/ 854640 h 854280"/>
            </a:gdLst>
            <a:ahLst/>
            <a:rect l="textAreaLeft" t="textAreaTop" r="textAreaRight" b="textAreaBottom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069920"/>
              <a:gd name="textAreaBottom" fmla="*/ 1070280 h 1069920"/>
            </a:gdLst>
            <a:ahLst/>
            <a:rect l="textAreaLeft" t="textAreaTop" r="textAreaRight" b="textAreaBottom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>
              <a:gd name="textAreaLeft" fmla="*/ 0 w 6667560"/>
              <a:gd name="textAreaRight" fmla="*/ 6667920 w 6667560"/>
              <a:gd name="textAreaTop" fmla="*/ 0 h 5335560"/>
              <a:gd name="textAreaBottom" fmla="*/ 5335920 h 5335560"/>
            </a:gdLst>
            <a:ahLst/>
            <a:rect l="textAreaLeft" t="textAreaTop" r="textAreaRight" b="textAreaBottom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055680"/>
              <a:gd name="textAreaBottom" fmla="*/ 3056040 h 3055680"/>
            </a:gdLst>
            <a:ahLst/>
            <a:rect l="textAreaLeft" t="textAreaTop" r="textAreaRight" b="textAreaBottom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>
              <a:gd name="textAreaLeft" fmla="*/ 0 w 6237360"/>
              <a:gd name="textAreaRight" fmla="*/ 6237720 w 6237360"/>
              <a:gd name="textAreaTop" fmla="*/ 0 h 3365640"/>
              <a:gd name="textAreaBottom" fmla="*/ 3366000 h 3365640"/>
            </a:gdLst>
            <a:ahLst/>
            <a:rect l="textAreaLeft" t="textAreaTop" r="textAreaRight" b="textAreaBottom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8D7D-401B-46A5-811E-27EA3967325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07E3-E1C3-4B6A-A00D-F5F2FE7FB8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694480"/>
              <a:gd name="textAreaBottom" fmla="*/ 5694840 h 5694480"/>
            </a:gdLst>
            <a:ahLst/>
            <a:rect l="textAreaLeft" t="textAreaTop" r="textAreaRight" b="textAreaBottom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854280"/>
              <a:gd name="textAreaBottom" fmla="*/ 854640 h 854280"/>
            </a:gdLst>
            <a:ahLst/>
            <a:rect l="textAreaLeft" t="textAreaTop" r="textAreaRight" b="textAreaBottom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069920"/>
              <a:gd name="textAreaBottom" fmla="*/ 1070280 h 1069920"/>
            </a:gdLst>
            <a:ahLst/>
            <a:rect l="textAreaLeft" t="textAreaTop" r="textAreaRight" b="textAreaBottom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>
              <a:gd name="textAreaLeft" fmla="*/ 0 w 6667560"/>
              <a:gd name="textAreaRight" fmla="*/ 6667920 w 6667560"/>
              <a:gd name="textAreaTop" fmla="*/ 0 h 5335560"/>
              <a:gd name="textAreaBottom" fmla="*/ 5335920 h 5335560"/>
            </a:gdLst>
            <a:ahLst/>
            <a:rect l="textAreaLeft" t="textAreaTop" r="textAreaRight" b="textAreaBottom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055680"/>
              <a:gd name="textAreaBottom" fmla="*/ 3056040 h 3055680"/>
            </a:gdLst>
            <a:ahLst/>
            <a:rect l="textAreaLeft" t="textAreaTop" r="textAreaRight" b="textAreaBottom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>
              <a:gd name="textAreaLeft" fmla="*/ 0 w 6237360"/>
              <a:gd name="textAreaRight" fmla="*/ 6237720 w 6237360"/>
              <a:gd name="textAreaTop" fmla="*/ 0 h 3365640"/>
              <a:gd name="textAreaBottom" fmla="*/ 3366000 h 3365640"/>
            </a:gdLst>
            <a:ahLst/>
            <a:rect l="textAreaLeft" t="textAreaTop" r="textAreaRight" b="textAreaBottom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B530-44FE-4EA5-8D50-E76934F465E8}" type="datetime">
              <a:rPr b="0" lang="ru-RU" sz="1400" spc="-1" strike="noStrike">
                <a:solidFill>
                  <a:srgbClr val="ffffcc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F4A6-1083-4904-BF89-8F1F12962C31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992C-1F3E-4372-A8F0-FF8DB5BD7D74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642960" y="115920"/>
            <a:ext cx="801216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Прямоугольник 1"/>
          <p:cNvSpPr/>
          <p:nvPr/>
        </p:nvSpPr>
        <p:spPr>
          <a:xfrm>
            <a:off x="395280" y="314280"/>
            <a:ext cx="85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департамент  образования администрации Владимирской области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Государственное бюджетное профессиональное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бразовательное учреждение Владимирской области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Муромский педагогический колледж»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395280" y="2208240"/>
            <a:ext cx="85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ортфолио по ПМ-02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«Организация различных видов деятельности и общения детей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Прямоугольник 9"/>
          <p:cNvSpPr/>
          <p:nvPr/>
        </p:nvSpPr>
        <p:spPr>
          <a:xfrm>
            <a:off x="4649760" y="5084640"/>
            <a:ext cx="426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ыполнила: Тимофеева Ольга Александровна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студентка группы ЗД -31В(заочная форма обучения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8713800" cy="66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и плюсы и минусы при организации и проведения сюжетно-ролевой игры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+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У детей был устойчивый интерес к игре, благодаря предварительной работе , совместной подготовке атрибутов для игры. Каждому ребенку дала возможность само реализоваться, в том числе и малоактивным деткам. Дети были заинтересованы, внимательны, активны, дружелюбны. Наблюдалась самостоятельность в речевом общении с окружающими. В игре отражены все поставленные задачи, которые соответствуют возрасту детей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Испытывала затруднения в руководстве процессов игры. Но все же старалась формировать у детей умение соотносить роли с действиями по сюжету игры. Тяжело было вовлечь в игру робких детей. Старалась вовлечь их путем выполнения какого-либо поручения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5333-44B7-47F9-8B99-8318BBB4C1F1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353440" cy="35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МДК.02.03. Теоретические и методические  основы организации продуктивных видов деятельности детей дошкольного возраста</a:t>
            </a:r>
            <a:br>
              <a:rPr sz="4000"/>
            </a:b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Номер слайда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3A8E-11FA-444D-9B33-1F3F4789FCDB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6588000" y="3357720"/>
            <a:ext cx="1935360" cy="29858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35344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Конспект НОД по продуктивной деятельности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             Лепка « Снеговик» (средняя группа)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Образовательная область: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«Художественно – эстетическое развитие» 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Цель: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Создание социальной ситуации развития в процессе организации продуктивной деятельности «Снеговик».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Задачи: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Образовательные: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закрепить умение лепить знакомые предметы, используя усвоенные ранее приемы.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Развивающие: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развивать мелкую моторику рук, воображение, творческую самостоятельность.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Воспитательные: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оспитывать аккуратность, усидчивость.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Материал: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Различный материал для лепки (пластилин…),  доски для раскатывания, картонный круг – подставка для готовой работы, стеки, бросовый материал для украшения; мультимедиа (видео), схема снеговика, массажные мячики.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Методические  приёмы: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словесный, рассматривание картинок по теме, физкультминутка,  психогимнастика, просмотр видео.</a:t>
            </a:r>
            <a:br>
              <a:rPr sz="2000"/>
            </a:br>
            <a:br>
              <a:rPr sz="3200"/>
            </a:b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Номер слайда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054B-63CD-4A9A-8A57-1D063D21DF70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FBEC-3FC8-4860-BF09-29ED952C2E4C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Рисунок 2" descr=""/>
          <p:cNvPicPr/>
          <p:nvPr/>
        </p:nvPicPr>
        <p:blipFill>
          <a:blip r:embed="rId1"/>
          <a:stretch/>
        </p:blipFill>
        <p:spPr>
          <a:xfrm>
            <a:off x="3780000" y="3357720"/>
            <a:ext cx="4932360" cy="2773080"/>
          </a:xfrm>
          <a:prstGeom prst="rect">
            <a:avLst/>
          </a:prstGeom>
          <a:ln w="60480">
            <a:solidFill>
              <a:srgbClr val="ffffcc"/>
            </a:solidFill>
            <a:miter/>
          </a:ln>
        </p:spPr>
      </p:pic>
      <p:pic>
        <p:nvPicPr>
          <p:cNvPr id="139" name="Рисунок 3" descr=""/>
          <p:cNvPicPr/>
          <p:nvPr/>
        </p:nvPicPr>
        <p:blipFill>
          <a:blip r:embed="rId2"/>
          <a:stretch/>
        </p:blipFill>
        <p:spPr>
          <a:xfrm>
            <a:off x="284040" y="692280"/>
            <a:ext cx="5119920" cy="2881080"/>
          </a:xfrm>
          <a:prstGeom prst="rect">
            <a:avLst/>
          </a:prstGeom>
          <a:ln w="60480">
            <a:solidFill>
              <a:srgbClr val="ffffcc"/>
            </a:solidFill>
            <a:miter/>
          </a:ln>
        </p:spPr>
      </p:pic>
    </p:spTree>
  </p:cSld>
  <p:transition advTm="10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5344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Мои плюсы и минусы при организации и проведении НОД лепка:             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+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рограммное содержание соответствует данному возрасту и уровню развития детей. Дети были заинтересованы и показали свое умение работать с предложенным материалом. Дети работали с интересом и поэтому что было запланировано удалось реализовать в полном объеме.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е продумала , что моторика руки в данном возрасте еще не совершенна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6D52-351C-4360-BD36-05ABCA43F038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BB70-9844-4E7B-8881-C00F34111A59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МДК 02. 05.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Теория и методика музыкального воспитания с практикумом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4" name="Picture 6" descr="C:\Users\Olya\AppData\Local\Microsoft\Windows\Temporary Internet Files\Content.IE5\HXASWP2B\imagenesdeverbosparaimprimir12[1].gif"/>
          <p:cNvPicPr/>
          <p:nvPr/>
        </p:nvPicPr>
        <p:blipFill>
          <a:blip r:embed="rId1"/>
          <a:stretch/>
        </p:blipFill>
        <p:spPr>
          <a:xfrm>
            <a:off x="5508720" y="3549600"/>
            <a:ext cx="2697120" cy="24814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омер слайда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F23A-40CD-4A1D-8B51-CBC50FF36426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583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Конспект НОД по художественно-эстетическому развитию Музыкально дидактическая игра«Какого цвета музыка» (средняя группа)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Цель: 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</a:rPr>
              <a:t>формирование музыкально-творческих способностей у детей посредством музыкально-дидактических игр.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Образовательные области: </a:t>
            </a: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художественно-эстетическое развитие, социально-коммуникативное, познавательное. </a:t>
            </a:r>
            <a:br>
              <a:rPr sz="2000"/>
            </a:b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Задачи: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Развивающие:  </a:t>
            </a: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развивать слуховое внимание, память, зрительно-пространственную ориентировку, координацию движений, чувство ритма; развивать чувство цвета, умение называть и узнавать основные цвета;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Образовательные: </a:t>
            </a: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обогащать детей музыкальными впечатлениями, развивать их сенсорно-музыкальные способности: тембровый, ладово-высотный, динамический, ритмический слух;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Воспитательные: </a:t>
            </a: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воспитывать дружелюбные отношения в детском коллективе.</a:t>
            </a:r>
            <a:br>
              <a:rPr sz="3200"/>
            </a:b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Методические приемы: </a:t>
            </a: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художественное слово, игровой прием, создание музыкально-игровой ситуации</a:t>
            </a:r>
            <a:br>
              <a:rPr sz="2000"/>
            </a:b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advTm="10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3C91-A869-4A84-8748-7A6375AC80E2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8" name="Рисунок 2" descr=""/>
          <p:cNvPicPr/>
          <p:nvPr/>
        </p:nvPicPr>
        <p:blipFill>
          <a:blip r:embed="rId1"/>
          <a:stretch/>
        </p:blipFill>
        <p:spPr>
          <a:xfrm>
            <a:off x="4356000" y="3141720"/>
            <a:ext cx="4260960" cy="2832120"/>
          </a:xfrm>
          <a:prstGeom prst="rect">
            <a:avLst/>
          </a:prstGeom>
          <a:ln w="60480">
            <a:solidFill>
              <a:srgbClr val="ffffcc"/>
            </a:solidFill>
            <a:miter/>
          </a:ln>
        </p:spPr>
      </p:pic>
      <p:pic>
        <p:nvPicPr>
          <p:cNvPr id="149" name="Рисунок 3" descr=""/>
          <p:cNvPicPr/>
          <p:nvPr/>
        </p:nvPicPr>
        <p:blipFill>
          <a:blip r:embed="rId2"/>
          <a:stretch/>
        </p:blipFill>
        <p:spPr>
          <a:xfrm>
            <a:off x="388800" y="549360"/>
            <a:ext cx="4589640" cy="3049560"/>
          </a:xfrm>
          <a:prstGeom prst="rect">
            <a:avLst/>
          </a:prstGeom>
          <a:ln w="60480">
            <a:solidFill>
              <a:srgbClr val="ffffcc"/>
            </a:solidFill>
            <a:miter/>
          </a:ln>
        </p:spPr>
      </p:pic>
    </p:spTree>
  </p:cSld>
  <p:transition advTm="10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B872-8552-4B44-9170-E8EF6E8E6663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68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 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Мои плюсы и минусы при проведении музыкального занятия: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+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 в процессе проведения занятия дети активно сотрудничали друг с другом; занятие проводилось в игровой форме;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 время проведения соответствовало нормам;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 речь педагога была эмоциональной, доступной, грамотной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Рано вышла из игры, и дети начали нарушать правила игры, что стало приводить к изменению взаимоотношений между детьми. Чтобы игра продолжалась длительное время, педагогу нужно дольше оставаться в игре, стать её активным полноправным участником.</a:t>
            </a:r>
            <a:br>
              <a:rPr sz="2000"/>
            </a:b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. 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advTm="10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4B3A-4AEC-46F1-B336-1F6FA6BF768E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МДК 02.02. Теоретические и методические основы трудовой деятельности дошкольников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4" name="Рисунок 2" descr=""/>
          <p:cNvPicPr/>
          <p:nvPr/>
        </p:nvPicPr>
        <p:blipFill>
          <a:blip r:embed="rId1"/>
          <a:stretch/>
        </p:blipFill>
        <p:spPr>
          <a:xfrm>
            <a:off x="5791320" y="3284640"/>
            <a:ext cx="2438280" cy="28162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560" y="692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бщие сведения о педагог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Фамилия, имя, отчество: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Тимофеева Ольга Александровн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Дата рождения: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14 августа 1984 г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Домашний адрес: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ижегородская обл. г. Выкса ул. Островского,д-73 кв-2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Образование: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редне-специально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таж работы: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1.6 месяце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есто работы: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БДОУ № 27 «Сказка» г. Выкса, Нижегородской обл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Занимаемая должность: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оспитател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Квалификационная категория: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е имеетс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CD62-FFAA-4732-ABE7-6A1536B201E6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10E5-9FCD-4FE3-94D5-2F22D3B4FC78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 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Конспект занятия по трудовой деятельности для старшей  группы «Поможем Федоре»</a:t>
            </a:r>
            <a:br>
              <a:rPr sz="2400"/>
            </a:b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Образовательная область: </a:t>
            </a: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Социально - коммуникативное развитие</a:t>
            </a:r>
            <a:br>
              <a:rPr sz="1800"/>
            </a:b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Цель: </a:t>
            </a: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Формирование положительного отношения к труду и его результатам.</a:t>
            </a:r>
            <a:br>
              <a:rPr sz="1800"/>
            </a:b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Задачи: </a:t>
            </a:r>
            <a:br>
              <a:rPr sz="1800"/>
            </a:b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Образовательные: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Формировать навык участвовать в организованном труде коллектива сверстников, соотносить свою деятельность с трудом других и понимать, что работа подгруппы, в которой трудишься, является частью общего дела коллектива.</a:t>
            </a:r>
            <a:br>
              <a:rPr sz="1800"/>
            </a:b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Развивающие: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Развивать умения правильно пользоваться материалом и оборудованием для труда, соблюдая технику безопасности.</a:t>
            </a:r>
            <a:br>
              <a:rPr sz="1800"/>
            </a:b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Воспитательные: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Воспитывать доброжелательные взаимоотношения в процессе труда, желание прийти на помощь, положительное отношение к собственному труду и труду своих сверстников.</a:t>
            </a:r>
            <a:br>
              <a:rPr sz="1800"/>
            </a:b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Материалы: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 Детская посуда, губки, фартуки, тазы с мыльной и чистой водой, клеенки, чистая пеленка, алгоритмы.</a:t>
            </a:r>
            <a:br>
              <a:rPr sz="1800"/>
            </a:br>
            <a:br>
              <a:rPr sz="18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advTm="10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5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630680" cy="3743280"/>
          </a:xfrm>
          <a:prstGeom prst="rect">
            <a:avLst/>
          </a:prstGeom>
          <a:ln w="60480">
            <a:solidFill>
              <a:srgbClr val="ffffcc"/>
            </a:solidFill>
            <a:miter/>
          </a:ln>
        </p:spPr>
      </p:pic>
      <p:sp>
        <p:nvSpPr>
          <p:cNvPr id="158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EE89-812E-43E8-BCED-AFD3EAAD6196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9" name="Рисунок 3" descr=""/>
          <p:cNvPicPr/>
          <p:nvPr/>
        </p:nvPicPr>
        <p:blipFill>
          <a:blip r:embed="rId2"/>
          <a:stretch/>
        </p:blipFill>
        <p:spPr>
          <a:xfrm>
            <a:off x="4140360" y="3106800"/>
            <a:ext cx="4520880" cy="3182760"/>
          </a:xfrm>
          <a:prstGeom prst="rect">
            <a:avLst/>
          </a:prstGeom>
          <a:ln w="60480">
            <a:solidFill>
              <a:srgbClr val="ffffcc"/>
            </a:solidFill>
            <a:miter/>
          </a:ln>
        </p:spPr>
      </p:pic>
    </p:spTree>
  </p:cSld>
  <p:transition advTm="10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6612-AB1A-4D91-9F87-6965000E5F51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539640" y="333360"/>
            <a:ext cx="799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Мои плюсы и минусы при проведении НОД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 Содержание трудовой деятельности соответствовало возрасту детей. Необходимые предметы для данного труда были в нужном количестве. Детям было интересно мыть посуду, при этом помочь Федоре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Несколько детей хотели еще раз помыть посуду, но я им отказала и они расстроились. Позже я поняла свою ошибку. И чтобы выйти из этой ситуации, я предложила после того как у Федоры испачкается опять посуда, мы ее помоем снова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0404-82EC-43C6-BCCE-FD0615F8CE5E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CF7F-B989-4D30-92D7-99894BCB17D7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3" name="Picture 6" descr="F:\DCIM\.thumbnails\1508933074472.jpg"/>
          <p:cNvPicPr/>
          <p:nvPr/>
        </p:nvPicPr>
        <p:blipFill>
          <a:blip r:embed="rId1"/>
          <a:stretch/>
        </p:blipFill>
        <p:spPr>
          <a:xfrm rot="21102600">
            <a:off x="899640" y="1844280"/>
            <a:ext cx="3095640" cy="4032360"/>
          </a:xfrm>
          <a:prstGeom prst="rect">
            <a:avLst/>
          </a:prstGeom>
          <a:ln w="50760">
            <a:solidFill>
              <a:srgbClr val="ffffcc"/>
            </a:solidFill>
            <a:miter/>
          </a:ln>
        </p:spPr>
      </p:pic>
      <p:pic>
        <p:nvPicPr>
          <p:cNvPr id="114" name="Picture 7" descr="F:\DCIM\.thumbnails\1508933070196.jpg"/>
          <p:cNvPicPr/>
          <p:nvPr/>
        </p:nvPicPr>
        <p:blipFill>
          <a:blip r:embed="rId2"/>
          <a:stretch/>
        </p:blipFill>
        <p:spPr>
          <a:xfrm>
            <a:off x="4792680" y="1355760"/>
            <a:ext cx="3657600" cy="2057400"/>
          </a:xfrm>
          <a:prstGeom prst="rect">
            <a:avLst/>
          </a:prstGeom>
          <a:ln w="50760">
            <a:solidFill>
              <a:srgbClr val="ffffcc"/>
            </a:solidFill>
            <a:miter/>
          </a:ln>
        </p:spPr>
      </p:pic>
      <p:pic>
        <p:nvPicPr>
          <p:cNvPr id="115" name="Picture 10" descr="G:\iuKNynweabI.jpg"/>
          <p:cNvPicPr/>
          <p:nvPr/>
        </p:nvPicPr>
        <p:blipFill>
          <a:blip r:embed="rId3"/>
          <a:stretch/>
        </p:blipFill>
        <p:spPr>
          <a:xfrm>
            <a:off x="4792680" y="4032360"/>
            <a:ext cx="3666960" cy="2104920"/>
          </a:xfrm>
          <a:prstGeom prst="rect">
            <a:avLst/>
          </a:prstGeom>
          <a:ln w="50760">
            <a:solidFill>
              <a:srgbClr val="ffffcc"/>
            </a:solidFill>
            <a:miter/>
          </a:ln>
        </p:spPr>
      </p:pic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68360" y="-36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ОСВОЕНЫЕ МД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ДК  02.01.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Теоретические и методические основы организации игровой  деятельности детей  раннего и дошкольного возраст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ДК 02.02.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Теоретические и методические основы трудовой деятельности дошкольнико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ДК.02.03.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Теоретические и методические  основы организации продуктивных видов деятельности детей дошкольного возраст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ДК. 02.04.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рактикум по художественной обработке материалов и изобразительному искусств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ДК. 02.05.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Теория и методика музыкального воспитания с практикумом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ДК.02.06.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сихолого - педагогические основы организации общения детей дошкольного возраст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0794-CF75-4F4F-B621-60394D9D415F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785880"/>
            <a:ext cx="822960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рофессиональные компетенции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Times New Roman"/>
              </a:rPr>
              <a:t>ПК 2.1.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Планировать различные виды деятельности и общения детей в течение дня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Times New Roman"/>
              </a:rPr>
              <a:t>ПК 2.2.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Организовывать различные игры с детьми раннего и дошкольного возраста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Times New Roman"/>
              </a:rPr>
              <a:t>ПК 2.3.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Организовывать посильный труд и самообслуживание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Times New Roman"/>
              </a:rPr>
              <a:t>ПК 2.4.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Организовывать общение детей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Times New Roman"/>
              </a:rPr>
              <a:t>ПК 2.5.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Организовывать продуктивную деятельность дошкольников (рисование, лепка, аппликация, конструирование)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Times New Roman"/>
              </a:rPr>
              <a:t>ПК 2.6.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Организовывать и проводить праздники и развлечения для детей раннего и дошкольного возраста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Times New Roman"/>
              </a:rPr>
              <a:t>ПК 2.7.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Анализировать процесс и результаты организации различных видов деятельности и общения детей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BDDF-8204-4A15-8E7A-36C87A1CD666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68360" y="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Общие компетенци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ОК 1.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Понимать сущность и социальную значимость своей будущей профессии, проявлять  к ней устойчивый интерес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ОК 2.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рганизовывать собственную деятельность, определять методы решения профессиональных задач, оценивать их эффективность и качество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ОК 3.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ценивать риски и принимать решения в нестандартных ситуациях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ОК 4.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существлять поиск, анализ и оценку информации, необходимой для постановки  и решения профессиональных задач, профессионального и личностного развития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ОК 5.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Использовать информационно-коммуникационные технологии для совершенствования профессиональной деятельности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ОК 7.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Ставить цели, мотивировать деятельность воспитанников, организовывать и контролировать их работу с принятием на себя ответственности за качество образовательного процесса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ОК 9.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существлять профессиональную деятельность в условиях обновления ее целей, содержания, смены технологий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ОК 10.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существлять профилактику травматизма, обеспечить охрану жизни и здоровья детей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ОК 11.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Строить профессиональную деятельность с соблюдением регулирующих ее правовых норм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C708-AF69-43E1-8F61-1E2E9A397FB5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8A89-997B-4574-B8A0-687F9D66C870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Picture 4" descr="C:\Users\Olya\AppData\Local\Microsoft\Windows\Temporary Internet Files\Content.IE5\3IA4WRPW\Children-Smiling-17527-large[1].png"/>
          <p:cNvPicPr/>
          <p:nvPr/>
        </p:nvPicPr>
        <p:blipFill>
          <a:blip r:embed="rId1"/>
          <a:stretch/>
        </p:blipFill>
        <p:spPr>
          <a:xfrm>
            <a:off x="5724360" y="4149720"/>
            <a:ext cx="3289320" cy="2252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684360" y="836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МДК  02.01. Теоретические и методические основы организации игровой  деятельности детей  раннего и дошкольного возраст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advTm="10000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79280" y="404640"/>
            <a:ext cx="878544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Конспект НОД по игровой деятельности сюжетно-ролевая игра «Супермаркет»(подготовительная группа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Цель: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Познакомить детей с игрой «Супермаркет». Формировать у детей умение развивать сюжет на основе полученных знаний, передавать в игре трудовые действия работников супермаркета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Образовательные задачи: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Способствовать формированию умений у детей распределять роли, подготавливать необходимые условия для игры. установлению в игре ролевого взаимодействия  и между детьми, активизировать диалогическую речь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Развивающие задачи: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Создавать условия для творческого самовыражения, для возникновения новых игр и их развития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Воспитательные задачи: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Воспитывать самостоятельность в разрешении конфликтных ситуаций, возникающих в ходе игры. Формировать умение согласовывать свои действия с действиями партнеров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Предварительная работа: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Рассматривание иллюстраций с различными ситуациями в магазине. Обыгрывание действий продавца, кассира, покупателя, грузчика, продавца- консультанта. Дидактические игры по классификации продуктов питания, одежды, овощей, фруктов, посуды. Д/И «Назови магазин». Чтение произведения  Б. Воронько «Сказка о необычных покупках», стихотворение О. Емельяновой «Магазин игрушек». Беседа «Поведение в общественных местах»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Подготовка игрового пространства: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Ручной труд- изготовление монет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Атрибуты игры: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Весы, кассовый аппарат, корзины для покупателей, сумочки- кошельки, деньги (из бумаги), чеки, ценники, товары по отделам, таблички с названиями отделов, отличительные элементы для сотрудников (бейджи)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Образовательная область: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«Социально-коммуникативное развитие»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07B4-090E-42E8-8672-52E7F9EBB5C4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EBB4-227B-4B35-86F2-DBD42FEE9FE7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Рисунок 2" descr=""/>
          <p:cNvPicPr/>
          <p:nvPr/>
        </p:nvPicPr>
        <p:blipFill>
          <a:blip r:embed="rId1"/>
          <a:stretch/>
        </p:blipFill>
        <p:spPr>
          <a:xfrm>
            <a:off x="3924360" y="3068640"/>
            <a:ext cx="4895640" cy="3265560"/>
          </a:xfrm>
          <a:prstGeom prst="rect">
            <a:avLst/>
          </a:prstGeom>
          <a:ln w="57240">
            <a:solidFill>
              <a:srgbClr val="ffffcc"/>
            </a:solidFill>
            <a:miter/>
          </a:ln>
        </p:spPr>
      </p:pic>
      <p:pic>
        <p:nvPicPr>
          <p:cNvPr id="129" name="Рисунок 3" descr=""/>
          <p:cNvPicPr/>
          <p:nvPr/>
        </p:nvPicPr>
        <p:blipFill>
          <a:blip r:embed="rId2"/>
          <a:stretch/>
        </p:blipFill>
        <p:spPr>
          <a:xfrm>
            <a:off x="281160" y="333360"/>
            <a:ext cx="4752720" cy="3168720"/>
          </a:xfrm>
          <a:prstGeom prst="rect">
            <a:avLst/>
          </a:prstGeom>
          <a:ln w="66600">
            <a:solidFill>
              <a:srgbClr val="ffffcc"/>
            </a:solidFill>
            <a:miter/>
          </a:ln>
        </p:spPr>
      </p:pic>
    </p:spTree>
  </p:cSld>
  <p:transition advTm="1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1T13:34:05Z</dcterms:created>
  <dc:creator>addvisor</dc:creator>
  <dc:description/>
  <dc:language>en-US</dc:language>
  <cp:lastModifiedBy>Администратор</cp:lastModifiedBy>
  <dcterms:modified xsi:type="dcterms:W3CDTF">2017-11-24T09:45:36Z</dcterms:modified>
  <cp:revision>69</cp:revision>
  <dc:subject/>
  <dc:title>Воспитатель десткого сада</dc:title>
</cp:coreProperties>
</file>