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17D6-E2F3-41DC-9982-E35225FFC7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3E74-BE89-4C34-8EA4-9405A161E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CA1E-DE12-4520-BFD6-12F8EA9174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9DB-27FF-4DD5-9508-7020F8DA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DB2-B192-4097-B066-9EC0AF65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3CE-2360-4001-96C7-4388D684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71B-753D-4A0F-A46F-3A5DD2DE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6FE-E70D-46B1-A99C-30133698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BE0-CC9E-434D-B115-1555C3C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4C3-1333-4E65-894D-9C3D72D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118-215C-44C4-9F85-1EB9A9FB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08E-A76A-44CA-9717-FA2620AC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7B5-46B8-4ED6-8AF5-1FC7687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456-076F-4035-9DFB-5177A31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F26-DCD2-41B6-AA70-57FACF80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1967-5F5B-441A-97B2-40BF0DBFB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— это книга, страницы которой открываются нам с каждым шагом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арт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G:\Алина\ЧПК №1\практика\пробные уроки\20.10 Окружающий мир\ось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Алина\ЧПК №1\практика\пробные уроки\20.10 Окружающий мир\день-ночь.jpg"/>
          <p:cNvPicPr/>
          <p:nvPr/>
        </p:nvPicPr>
        <p:blipFill>
          <a:blip r:embed="rId1"/>
          <a:stretch/>
        </p:blipFill>
        <p:spPr>
          <a:xfrm>
            <a:off x="609480" y="0"/>
            <a:ext cx="73915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G:\Алина\ЧПК №1\практика\пробные уроки\20.10 Окружающий мир\2 круга.png"/>
          <p:cNvPicPr/>
          <p:nvPr/>
        </p:nvPicPr>
        <p:blipFill>
          <a:blip r:embed="rId1"/>
          <a:stretch/>
        </p:blipFill>
        <p:spPr>
          <a:xfrm>
            <a:off x="0" y="990720"/>
            <a:ext cx="9115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:\Алина\ЧПК №1\практика\пробные уроки\20.10 Окружающий мир\глобус.jpg"/>
          <p:cNvPicPr/>
          <p:nvPr/>
        </p:nvPicPr>
        <p:blipFill>
          <a:blip r:embed="rId1"/>
          <a:stretch/>
        </p:blipFill>
        <p:spPr>
          <a:xfrm>
            <a:off x="1295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G:\Алина\ЧПК №1\практика\пробные уроки\20.10 Окружающий мир\21.03.jpg"/>
          <p:cNvPicPr/>
          <p:nvPr/>
        </p:nvPicPr>
        <p:blipFill>
          <a:blip r:embed="rId1"/>
          <a:srcRect l="8334" t="5554" r="8334" b="120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G:\Алина\ЧПК №1\практика\пробные уроки\20.10 Окружающий мир\23.09.jpg"/>
          <p:cNvPicPr/>
          <p:nvPr/>
        </p:nvPicPr>
        <p:blipFill>
          <a:blip r:embed="rId1"/>
          <a:srcRect l="8696" t="4928" r="8696" b="115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G:\Алина\ЧПК №1\практика\пробные уроки\20.10 Окружающий мир\22.06.jpg"/>
          <p:cNvPicPr/>
          <p:nvPr/>
        </p:nvPicPr>
        <p:blipFill>
          <a:blip r:embed="rId1"/>
          <a:srcRect l="8219" t="5479" r="8563" b="12329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G:\Алина\ЧПК №1\практика\пробные уроки\20.10 Окружающий мир\22.12.jpg"/>
          <p:cNvPicPr/>
          <p:nvPr/>
        </p:nvPicPr>
        <p:blipFill>
          <a:blip r:embed="rId1"/>
          <a:srcRect l="8334" t="4938" r="8334" b="12346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G:\Алина\ЧПК №1\практика\пробные уроки\20.10 Окружающий мир\why52-1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G:\Алина\ЧПК №1\практика\пробные уроки\20.10 Окружающий мир\prec.jpg"/>
          <p:cNvPicPr/>
          <p:nvPr/>
        </p:nvPicPr>
        <p:blipFill>
          <a:blip r:embed="rId1"/>
          <a:stretch/>
        </p:blipFill>
        <p:spPr>
          <a:xfrm>
            <a:off x="533520" y="0"/>
            <a:ext cx="816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емля – одна из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нет Солнечной системы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лнце –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зда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ленно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лнце вместе со всеми вращающимися вокруг него небесными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ми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Солнечную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у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ображаемая линия, по которой движется небесное тело, называется его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ой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Группа 16"/>
          <p:cNvGrpSpPr/>
          <p:nvPr/>
        </p:nvGrpSpPr>
        <p:grpSpPr>
          <a:xfrm>
            <a:off x="1143000" y="1066680"/>
            <a:ext cx="7009920" cy="5504400"/>
            <a:chOff x="1143000" y="1066680"/>
            <a:chExt cx="7009920" cy="5504400"/>
          </a:xfrm>
        </p:grpSpPr>
        <p:grpSp>
          <p:nvGrpSpPr>
            <p:cNvPr id="85" name="Группа 12"/>
            <p:cNvGrpSpPr/>
            <p:nvPr/>
          </p:nvGrpSpPr>
          <p:grpSpPr>
            <a:xfrm>
              <a:off x="1143000" y="1066680"/>
              <a:ext cx="7009920" cy="5486760"/>
              <a:chOff x="1143000" y="1066680"/>
              <a:chExt cx="7009920" cy="5486760"/>
            </a:xfrm>
          </p:grpSpPr>
          <p:sp>
            <p:nvSpPr>
              <p:cNvPr id="86" name="Прямая соединительная линия 4"/>
              <p:cNvSpPr/>
              <p:nvPr/>
            </p:nvSpPr>
            <p:spPr>
              <a:xfrm flipV="1">
                <a:off x="1143000" y="4724640"/>
                <a:ext cx="2880" cy="182880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Прямая соединительная линия 5"/>
              <p:cNvSpPr/>
              <p:nvPr/>
            </p:nvSpPr>
            <p:spPr>
              <a:xfrm flipH="1" flipV="1">
                <a:off x="3481200" y="2895480"/>
                <a:ext cx="2334960" cy="144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Прямая соединительная линия 6"/>
              <p:cNvSpPr/>
              <p:nvPr/>
            </p:nvSpPr>
            <p:spPr>
              <a:xfrm flipV="1">
                <a:off x="3481200" y="2895480"/>
                <a:ext cx="1440" cy="182880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Прямая соединительная линия 8"/>
              <p:cNvSpPr/>
              <p:nvPr/>
            </p:nvSpPr>
            <p:spPr>
              <a:xfrm flipH="1" flipV="1">
                <a:off x="1144080" y="4724640"/>
                <a:ext cx="2336760" cy="144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Прямая соединительная линия 10"/>
              <p:cNvSpPr/>
              <p:nvPr/>
            </p:nvSpPr>
            <p:spPr>
              <a:xfrm flipH="1" flipV="1">
                <a:off x="5816160" y="1066680"/>
                <a:ext cx="2336760" cy="144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Прямая соединительная линия 11"/>
              <p:cNvSpPr/>
              <p:nvPr/>
            </p:nvSpPr>
            <p:spPr>
              <a:xfrm flipV="1">
                <a:off x="5816520" y="1066680"/>
                <a:ext cx="2880" cy="182880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" name="TextBox 13"/>
            <p:cNvSpPr/>
            <p:nvPr/>
          </p:nvSpPr>
          <p:spPr>
            <a:xfrm>
              <a:off x="1600200" y="4724640"/>
              <a:ext cx="1523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Прямоугольник 14"/>
            <p:cNvSpPr/>
            <p:nvPr/>
          </p:nvSpPr>
          <p:spPr>
            <a:xfrm>
              <a:off x="4348080" y="3276360"/>
              <a:ext cx="790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Прямоугольник 15"/>
            <p:cNvSpPr/>
            <p:nvPr/>
          </p:nvSpPr>
          <p:spPr>
            <a:xfrm>
              <a:off x="6710400" y="1218960"/>
              <a:ext cx="790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52320" y="761760"/>
            <a:ext cx="25909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‘‘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G:\Алина\ЧПК №1\практика\пробные уроки\20.10 Окружающий мир\врач.jpg"/>
          <p:cNvPicPr/>
          <p:nvPr/>
        </p:nvPicPr>
        <p:blipFill>
          <a:blip r:embed="rId1"/>
          <a:srcRect l="2907" t="0" r="2543" b="0"/>
          <a:stretch/>
        </p:blipFill>
        <p:spPr>
          <a:xfrm>
            <a:off x="685800" y="533520"/>
            <a:ext cx="283068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G:\Алина\ЧПК №1\практика\пробные уроки\20.10 Окружающий мир\общение.jpg"/>
          <p:cNvPicPr/>
          <p:nvPr/>
        </p:nvPicPr>
        <p:blipFill>
          <a:blip r:embed="rId2"/>
          <a:srcRect l="17955" t="5129" r="17209" b="5129"/>
          <a:stretch/>
        </p:blipFill>
        <p:spPr>
          <a:xfrm>
            <a:off x="4800600" y="1371600"/>
            <a:ext cx="3048120" cy="32828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153800" y="510552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= Щ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0880" y="45684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Щ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Алина\ЧПК №1\практика\пробные уроки\20.10 Окружающий мир\suwomXZK4JQ.jpg"/>
          <p:cNvPicPr/>
          <p:nvPr/>
        </p:nvPicPr>
        <p:blipFill>
          <a:blip r:embed="rId1"/>
          <a:srcRect l="6818" t="18182" r="6494" b="18182"/>
          <a:stretch/>
        </p:blipFill>
        <p:spPr>
          <a:xfrm>
            <a:off x="380880" y="1143000"/>
            <a:ext cx="830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Щ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ащение Земли вокруг своей оси и её движение вокруг Солнц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G:\Алина\ЧПК №1\практика\пробные уроки\20.10 Окружающий мир\ось1.jpg"/>
          <p:cNvPicPr/>
          <p:nvPr/>
        </p:nvPicPr>
        <p:blipFill>
          <a:blip r:embed="rId1"/>
          <a:srcRect l="14362" t="27332" r="22271" b="7332"/>
          <a:stretch/>
        </p:blipFill>
        <p:spPr>
          <a:xfrm>
            <a:off x="152280" y="23760"/>
            <a:ext cx="883944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19T16:14:22Z</dcterms:modified>
  <cp:revision>14</cp:revision>
  <dc:subject/>
  <dc:title>Мир — это книга, страницы которой открываются нам с каждым шагом</dc:title>
</cp:coreProperties>
</file>