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632-95AC-4F7B-96CF-F216E109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BA8-29D6-466E-81BE-5FD044B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79B-9089-4E45-824B-F0E131BC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6D9-EFD9-400E-A21B-14483A3F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0D5-F0F2-460F-B8C3-45D9DBC8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B27-F900-4F10-8789-D949E8CD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26B-1E89-457D-A5A7-1555DF0E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4CE-A76B-4FEC-9797-B79984B2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66B-03CD-49CD-A857-941BA43E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532-B6A9-4B91-9CFB-39BED27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CD0-C78E-4F72-BC7C-D4BC382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993-0DC0-4190-A6F6-BDF8B30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DB21-CCFD-44B0-9DC6-4CE0BC27C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476000" y="3573000"/>
            <a:ext cx="7210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чки, почемуч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бознательный на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чка, почему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сем вопросы задаё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151000" cy="192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15960" y="404640"/>
            <a:ext cx="51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есня «Почемуч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чкам, почемуч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легко на свете ж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ит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чкам, почемуч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до всё успеть спрос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Почему шумят деревья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 журчит в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 девчонки плачут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 мальчишки никог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3342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Почему на небе солнце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 вокруг тра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9480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 дельфин не тонет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И зачем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ку рога?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Певнева\Desktop\9e6d309ed82a25322672198bb587f12402620764_900.jpg"/>
          <p:cNvPicPr/>
          <p:nvPr/>
        </p:nvPicPr>
        <p:blipFill>
          <a:blip r:embed="rId1"/>
          <a:stretch/>
        </p:blipFill>
        <p:spPr>
          <a:xfrm>
            <a:off x="571680" y="1285920"/>
            <a:ext cx="7929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74991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чкам, почемуч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есно всё узн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ат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чки, почему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 рукав всех теребя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Почему в пустыне жар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3432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 на севере - моро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79280" y="1614600"/>
            <a:ext cx="88567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ему у кошки лап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И заче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мартышке хво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9:14:32Z</dcterms:created>
  <dc:creator>Татаренко О.Ю.</dc:creator>
  <dc:description/>
  <dc:language>en-US</dc:language>
  <cp:lastModifiedBy>Татаренко О.Ю.</cp:lastModifiedBy>
  <dcterms:modified xsi:type="dcterms:W3CDTF">2017-12-19T19:02:50Z</dcterms:modified>
  <cp:revision>17</cp:revision>
  <dc:subject/>
  <dc:title>Слайд 1</dc:title>
</cp:coreProperties>
</file>