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65.jpeg" ContentType="image/jpeg"/>
  <Override PartName="/ppt/media/image17.png" ContentType="image/png"/>
  <Override PartName="/ppt/media/image39.jpeg" ContentType="image/jpeg"/>
  <Override PartName="/ppt/media/image3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49.jpeg" ContentType="image/jpeg"/>
  <Override PartName="/ppt/media/image33.jpeg" ContentType="image/jpeg"/>
  <Override PartName="/ppt/media/image27.png" ContentType="image/png"/>
  <Override PartName="/ppt/media/image66.jpeg" ContentType="image/jpeg"/>
  <Override PartName="/ppt/media/image11.png" ContentType="image/png"/>
  <Override PartName="/ppt/media/image1.jpeg" ContentType="image/jpeg"/>
  <Override PartName="/ppt/media/image21.png" ContentType="image/pn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63.jpeg" ContentType="image/jpeg"/>
  <Override PartName="/ppt/media/image61.jpeg" ContentType="image/jpeg"/>
  <Override PartName="/ppt/media/image15.png" ContentType="image/png"/>
  <Override PartName="/ppt/media/image22.gif" ContentType="image/gif"/>
  <Override PartName="/ppt/media/image24.png" ContentType="image/png"/>
  <Override PartName="/ppt/media/image25.jpeg" ContentType="image/jpeg"/>
  <Override PartName="/ppt/media/image4.gif" ContentType="image/gif"/>
  <Override PartName="/ppt/media/image19.png" ContentType="image/png"/>
  <Override PartName="/ppt/media/image62.jpeg" ContentType="image/jpeg"/>
  <Override PartName="/ppt/media/image5.jpeg" ContentType="image/jpeg"/>
  <Override PartName="/ppt/media/image26.jpeg" ContentType="image/jpeg"/>
  <Override PartName="/ppt/media/image52.jpeg" ContentType="image/jpeg"/>
  <Override PartName="/ppt/media/image10.jpeg" ContentType="image/jpeg"/>
  <Override PartName="/ppt/media/image28.jpeg" ContentType="image/jpeg"/>
  <Override PartName="/ppt/media/image29.jpeg" ContentType="image/jpeg"/>
  <Override PartName="/ppt/media/image12.jpeg" ContentType="image/jpeg"/>
  <Override PartName="/ppt/media/image9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23.png" ContentType="image/pn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239B-B42E-481D-87DE-18939D9603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F56-D732-4677-BBE1-152321881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F1F-1C11-4F75-B744-E4597651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7BD-6780-4644-924F-633ED0D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ECD-03E3-4616-94D1-A55EFFB0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0D6-2E34-4134-858E-7854E1A6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899-11B0-4718-B5D0-B6955931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1AE-70DE-49B6-911B-D51523E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84C-2157-4EEC-BB79-C7500CBA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8AB-0D29-49DF-A62E-967F9C4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372-AA88-4960-8CFF-558BF92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A77-C6EC-48A9-BF01-AF38484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829-1F8F-4F5A-A7A4-F699908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010-CA52-4A45-92C4-BADA773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FE1-CDA6-4DDA-9E3B-5F4D0BBA8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«Детский сад общеразвивающего вида №22» г. Усин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00" y="785520"/>
            <a:ext cx="3143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знавательно-исследовательский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здравству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ыло душисто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1332000" y="54291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Автор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Рокоман М.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015 г.                                        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Знаете ли Вы, что первобытные люди, оказывается, мы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esktop\фото февраль\SAM_1802.JPG"/>
          <p:cNvPicPr/>
          <p:nvPr/>
        </p:nvPicPr>
        <p:blipFill>
          <a:blip r:embed="rId2"/>
          <a:stretch/>
        </p:blipFill>
        <p:spPr>
          <a:xfrm>
            <a:off x="142920" y="22147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4572000" y="1728360"/>
            <a:ext cx="410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авда, в основном для того, чтобы зверь не учуял запах охотника. Первым моющим средством были вода и… песок. Неэффективность такого мытья, видимо, и подвигла людей на изобретение мыла. Когда и кто его изобрёл, точно не известно, зато известно, что мыло намного старше пороха 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Древние не знали мыла — они натирались маслом или жиром, а потом соскребали грязную плёнку с кожи. Пользовались и глиной, которая соскребала грязь и пы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Мыловарение на Ру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4" descr="milo1.jpg"/>
          <p:cNvPicPr/>
          <p:nvPr/>
        </p:nvPicPr>
        <p:blipFill>
          <a:blip r:embed="rId2"/>
          <a:stretch/>
        </p:blipFill>
        <p:spPr>
          <a:xfrm>
            <a:off x="428760" y="1714680"/>
            <a:ext cx="3725640" cy="4466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572000" y="1857240"/>
            <a:ext cx="428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Руси мыловарение развивалось самобытным путем. Для этого были весьма благоприятные условия: большие запасы сала, огромные лесные массивы. Рубили деревья, жгли их в котлах тут же в лесу, а золу заваривали, делали щелок, выпаривали его, получая поташ. Особенно славились костромские и валдайские мыловары. «Поташное дело» было традиционным русским промыслом, им занимались целые дерев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А  зачем нужно мыл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508720" y="1557000"/>
            <a:ext cx="3311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ыло быва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ным-преразны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Синим,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Зеленым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Оранжевым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расным…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Но не пой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Отчего же всег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Черной-пречер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Бывает вода?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             (М. Яснов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520" y="360"/>
            <a:ext cx="2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ser\Desktop\фото февраль\SAM_2033.JPG"/>
          <p:cNvPicPr/>
          <p:nvPr/>
        </p:nvPicPr>
        <p:blipFill>
          <a:blip r:embed="rId2"/>
          <a:stretch/>
        </p:blipFill>
        <p:spPr>
          <a:xfrm>
            <a:off x="260280" y="1677960"/>
            <a:ext cx="5005440" cy="3929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260280" y="5929200"/>
            <a:ext cx="870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Вывод: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мыло, которым мы моем руки, называется туалетным. Оно может быть разного цвета, формы, запа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Опыт №1 «Мыльные пузыри»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Calibri"/>
                <a:ea typeface="Calibri"/>
              </a:rPr>
              <a:t>Задачи:  </a:t>
            </a:r>
            <a:r>
              <a:rPr b="0" i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Вызвать у детей интерес к проведению эксперимента.</a:t>
            </a:r>
            <a:br>
              <a:rPr sz="1800"/>
            </a:br>
            <a:r>
              <a:rPr b="0" i="1" lang="ru-RU" sz="1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оздать условия для экспериментально-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esktop\фото февраль\SAM_2020.JPG"/>
          <p:cNvPicPr/>
          <p:nvPr/>
        </p:nvPicPr>
        <p:blipFill>
          <a:blip r:embed="rId2"/>
          <a:stretch/>
        </p:blipFill>
        <p:spPr>
          <a:xfrm>
            <a:off x="357120" y="23572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5076720" y="2276640"/>
            <a:ext cx="388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Миска с водой,  мыло жидкое, коктейльные труб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миску с водой добавляем жидкое мыло и всё хорошо размешива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лучается мыльная вода. Пробуем сделать с помощью коктейльных трубочек п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ser\AppData\Local\Microsoft\Windows\Temporary Internet Files\Content.IE5\ZGLL69KR\%D1%85%D1%83%D0%B4%D0%BE%D0%B6%D0%BD%D0%B8%D0%BA[1].jpg"/>
          <p:cNvPicPr/>
          <p:nvPr/>
        </p:nvPicPr>
        <p:blipFill>
          <a:blip r:embed="rId3"/>
          <a:stretch/>
        </p:blipFill>
        <p:spPr>
          <a:xfrm>
            <a:off x="7596360" y="3890880"/>
            <a:ext cx="100008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Вывод: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любое мыло растворяется в воде, пенится, образует много пузырь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User\Desktop\фото февраль\SAM_2027.JPG"/>
          <p:cNvPicPr/>
          <p:nvPr/>
        </p:nvPicPr>
        <p:blipFill>
          <a:blip r:embed="rId2"/>
          <a:stretch/>
        </p:blipFill>
        <p:spPr>
          <a:xfrm>
            <a:off x="142920" y="19288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User\Desktop\фото февраль\SAM_2029.JPG"/>
          <p:cNvPicPr/>
          <p:nvPr/>
        </p:nvPicPr>
        <p:blipFill>
          <a:blip r:embed="rId3"/>
          <a:stretch/>
        </p:blipFill>
        <p:spPr>
          <a:xfrm>
            <a:off x="4857840" y="3500280"/>
            <a:ext cx="4167000" cy="31258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5286240" y="18572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Если дунуть посиль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удет много пузы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з, два, три, четыре, п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и за что их не поймат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738036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Опыт №2. «Что лучше отстирывает вещи -- древесная зола или хозяйственной мыл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User\Desktop\фото февраль\SAM_2006.JPG"/>
          <p:cNvPicPr/>
          <p:nvPr/>
        </p:nvPicPr>
        <p:blipFill>
          <a:blip r:embed="rId2"/>
          <a:stretch/>
        </p:blipFill>
        <p:spPr>
          <a:xfrm>
            <a:off x="1143000" y="1643040"/>
            <a:ext cx="3486240" cy="26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User\Desktop\фото февраль\SAM_2011.JPG"/>
          <p:cNvPicPr/>
          <p:nvPr/>
        </p:nvPicPr>
        <p:blipFill>
          <a:blip r:embed="rId3"/>
          <a:stretch/>
        </p:blipFill>
        <p:spPr>
          <a:xfrm>
            <a:off x="5143680" y="16430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User\Desktop\фото февраль\SAM_2012.JPG"/>
          <p:cNvPicPr/>
          <p:nvPr/>
        </p:nvPicPr>
        <p:blipFill>
          <a:blip r:embed="rId4"/>
          <a:stretch/>
        </p:blipFill>
        <p:spPr>
          <a:xfrm>
            <a:off x="1500120" y="442908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User\Desktop\фото февраль\SAM_2014.JPG"/>
          <p:cNvPicPr/>
          <p:nvPr/>
        </p:nvPicPr>
        <p:blipFill>
          <a:blip r:embed="rId5"/>
          <a:stretch/>
        </p:blipFill>
        <p:spPr>
          <a:xfrm>
            <a:off x="4214880" y="4572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67579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Вывод: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щелок плохо отстирал вещи, лучше использовать современные моющие средств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User\Desktop\фото февраль\SAM_2016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67579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3 этап – заключительный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360" y="2143080"/>
            <a:ext cx="76150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  Подвести итоги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  Проанализировать полученн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  Определить перспективу на будущее.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дукт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готовление мыла в домашних условия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Опыт №3. Мыло руч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User\Desktop\фото февраль\SAM_1811.JPG"/>
          <p:cNvPicPr/>
          <p:nvPr/>
        </p:nvPicPr>
        <p:blipFill>
          <a:blip r:embed="rId2"/>
          <a:stretch/>
        </p:blipFill>
        <p:spPr>
          <a:xfrm>
            <a:off x="6929280" y="3714840"/>
            <a:ext cx="2043360" cy="272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go4.imgsmail.ru/imgpreview?key=4d3e59849b368ce&amp;mb=imgdb_preview_1611"/>
          <p:cNvPicPr/>
          <p:nvPr/>
        </p:nvPicPr>
        <p:blipFill>
          <a:blip r:embed="rId3"/>
          <a:stretch/>
        </p:blipFill>
        <p:spPr>
          <a:xfrm>
            <a:off x="7072200" y="171468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ufa.pro-otdyh.ru/upload/voylok2.jpg"/>
          <p:cNvPicPr/>
          <p:nvPr/>
        </p:nvPicPr>
        <p:blipFill>
          <a:blip r:embed="rId4"/>
          <a:stretch/>
        </p:blipFill>
        <p:spPr>
          <a:xfrm>
            <a:off x="500040" y="1571760"/>
            <a:ext cx="6095880" cy="50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Calibri"/>
              </a:rPr>
              <a:t>Материалы для изготовления мыла руч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Users\User\Desktop\фото февраль\SAM_1826.JPG"/>
          <p:cNvPicPr/>
          <p:nvPr/>
        </p:nvPicPr>
        <p:blipFill>
          <a:blip r:embed="rId2"/>
          <a:stretch/>
        </p:blipFill>
        <p:spPr>
          <a:xfrm>
            <a:off x="1214280" y="1571760"/>
            <a:ext cx="1244880" cy="1660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72200" y="3714840"/>
            <a:ext cx="1857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Базовое масло, спирт, сухоцветы, пищевые красители, мыльная основа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User\Desktop\фото февраль\SAM_1827.JPG"/>
          <p:cNvPicPr/>
          <p:nvPr/>
        </p:nvPicPr>
        <p:blipFill>
          <a:blip r:embed="rId3"/>
          <a:stretch/>
        </p:blipFill>
        <p:spPr>
          <a:xfrm>
            <a:off x="3286080" y="1571760"/>
            <a:ext cx="2357640" cy="166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User\Desktop\фото февраль\SAM_1828.JPG"/>
          <p:cNvPicPr/>
          <p:nvPr/>
        </p:nvPicPr>
        <p:blipFill>
          <a:blip r:embed="rId4"/>
          <a:stretch/>
        </p:blipFill>
        <p:spPr>
          <a:xfrm>
            <a:off x="6572160" y="157176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User\Desktop\фото февраль\SAM_1829.JPG"/>
          <p:cNvPicPr/>
          <p:nvPr/>
        </p:nvPicPr>
        <p:blipFill>
          <a:blip r:embed="rId5"/>
          <a:stretch/>
        </p:blipFill>
        <p:spPr>
          <a:xfrm>
            <a:off x="500040" y="3786120"/>
            <a:ext cx="3214800" cy="241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User\Desktop\фото февраль\SAM_1830.JPG"/>
          <p:cNvPicPr/>
          <p:nvPr/>
        </p:nvPicPr>
        <p:blipFill>
          <a:blip r:embed="rId6"/>
          <a:stretch/>
        </p:blipFill>
        <p:spPr>
          <a:xfrm>
            <a:off x="4071960" y="385776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Паспорт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ид проекта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знавательно-исследовательски-творческий, краткосрочный ( 9 – 13 февраля 2015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астники проекта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ети подготовительной группы группы,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o2.imgsmail.ru/imgpreview?key=70a00b825e47e6fc&amp;mb=imgdb_preview_825"/>
          <p:cNvPicPr/>
          <p:nvPr/>
        </p:nvPicPr>
        <p:blipFill>
          <a:blip r:embed="rId2"/>
          <a:stretch/>
        </p:blipFill>
        <p:spPr>
          <a:xfrm>
            <a:off x="6429240" y="3143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Program Files\Microsoft Office\MEDIA\CAGCAT10\j0295241.gif"/>
          <p:cNvPicPr/>
          <p:nvPr/>
        </p:nvPicPr>
        <p:blipFill>
          <a:blip r:embed="rId3"/>
          <a:stretch/>
        </p:blipFill>
        <p:spPr>
          <a:xfrm>
            <a:off x="642960" y="4653000"/>
            <a:ext cx="1500120" cy="170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Calibri"/>
              </a:rPr>
              <a:t>Инструменты для изготовления мыла руч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" descr="C:\Users\User\Desktop\фото февраль\SAM_1824.JPG"/>
          <p:cNvPicPr/>
          <p:nvPr/>
        </p:nvPicPr>
        <p:blipFill>
          <a:blip r:embed="rId2"/>
          <a:stretch/>
        </p:blipFill>
        <p:spPr>
          <a:xfrm>
            <a:off x="357120" y="171468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User\Desktop\фото февраль\SAM_1825.JPG"/>
          <p:cNvPicPr/>
          <p:nvPr/>
        </p:nvPicPr>
        <p:blipFill>
          <a:blip r:embed="rId3"/>
          <a:stretch/>
        </p:blipFill>
        <p:spPr>
          <a:xfrm>
            <a:off x="3214800" y="164304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User\Desktop\фото февраль\SAM_1831.JPG"/>
          <p:cNvPicPr/>
          <p:nvPr/>
        </p:nvPicPr>
        <p:blipFill>
          <a:blip r:embed="rId4"/>
          <a:stretch/>
        </p:blipFill>
        <p:spPr>
          <a:xfrm>
            <a:off x="6143760" y="164304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User\Desktop\фото февраль\SAM_1832.JPG"/>
          <p:cNvPicPr/>
          <p:nvPr/>
        </p:nvPicPr>
        <p:blipFill>
          <a:blip r:embed="rId5"/>
          <a:stretch/>
        </p:blipFill>
        <p:spPr>
          <a:xfrm>
            <a:off x="1143000" y="4149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User\Desktop\фото февраль\SAM_1834.JPG"/>
          <p:cNvPicPr/>
          <p:nvPr/>
        </p:nvPicPr>
        <p:blipFill>
          <a:blip r:embed="rId6"/>
          <a:stretch/>
        </p:blipFill>
        <p:spPr>
          <a:xfrm>
            <a:off x="5143680" y="4143240"/>
            <a:ext cx="2857320" cy="21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1994040" y="23760"/>
            <a:ext cx="6699240" cy="154944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4" descr="00056011.jpg"/>
          <p:cNvPicPr/>
          <p:nvPr/>
        </p:nvPicPr>
        <p:blipFill>
          <a:blip r:embed="rId3"/>
          <a:stretch/>
        </p:blipFill>
        <p:spPr>
          <a:xfrm>
            <a:off x="357120" y="1714680"/>
            <a:ext cx="1952640" cy="195228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38" name="Прямоугольник 4"/>
          <p:cNvSpPr/>
          <p:nvPr/>
        </p:nvSpPr>
        <p:spPr>
          <a:xfrm>
            <a:off x="2571840" y="18572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1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. Растопить прозрачную мыльную основу на «водяной б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5" descr="00056013.jpg"/>
          <p:cNvPicPr/>
          <p:nvPr/>
        </p:nvPicPr>
        <p:blipFill>
          <a:blip r:embed="rId4"/>
          <a:stretch/>
        </p:blipFill>
        <p:spPr>
          <a:xfrm>
            <a:off x="1908000" y="3068640"/>
            <a:ext cx="1789200" cy="1584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40" name="Прямоугольник 6"/>
          <p:cNvSpPr/>
          <p:nvPr/>
        </p:nvSpPr>
        <p:spPr>
          <a:xfrm>
            <a:off x="3643200" y="328608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2. Добавить 3 капли базового ма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Добавить 3 капли эфирного ма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Добавить 1 ч.л. пищевого крас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00056015.jpg"/>
          <p:cNvPicPr/>
          <p:nvPr/>
        </p:nvPicPr>
        <p:blipFill>
          <a:blip r:embed="rId5"/>
          <a:stretch/>
        </p:blipFill>
        <p:spPr>
          <a:xfrm>
            <a:off x="3500280" y="4357800"/>
            <a:ext cx="1513080" cy="1512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42" name="Прямоугольник 11"/>
          <p:cNvSpPr/>
          <p:nvPr/>
        </p:nvSpPr>
        <p:spPr>
          <a:xfrm>
            <a:off x="5143680" y="478620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3. Залить готовую массу в силиконовые формочки и дать ост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2" descr="00056017.jpg"/>
          <p:cNvPicPr/>
          <p:nvPr/>
        </p:nvPicPr>
        <p:blipFill>
          <a:blip r:embed="rId6"/>
          <a:stretch/>
        </p:blipFill>
        <p:spPr>
          <a:xfrm>
            <a:off x="1403280" y="4869000"/>
            <a:ext cx="1800360" cy="180000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44" name="Прямоугольник 13"/>
          <p:cNvSpPr/>
          <p:nvPr/>
        </p:nvSpPr>
        <p:spPr>
          <a:xfrm>
            <a:off x="3645000" y="6143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4. Мыло гот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И вот наступил самый интересный момент  -- мы решили изготовить мыло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User\Desktop\фото февраль\SAM_1838.JPG"/>
          <p:cNvPicPr/>
          <p:nvPr/>
        </p:nvPicPr>
        <p:blipFill>
          <a:blip r:embed="rId2"/>
          <a:stretch/>
        </p:blipFill>
        <p:spPr>
          <a:xfrm>
            <a:off x="1285920" y="1643040"/>
            <a:ext cx="653400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43280" y="4428720"/>
            <a:ext cx="35006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еру я в руки терку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тру основу бойк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C:\Users\User\Desktop\фото февраль\SAM_1863.JPG"/>
          <p:cNvPicPr/>
          <p:nvPr/>
        </p:nvPicPr>
        <p:blipFill>
          <a:blip r:embed="rId2"/>
          <a:stretch/>
        </p:blipFill>
        <p:spPr>
          <a:xfrm>
            <a:off x="285840" y="1643040"/>
            <a:ext cx="3500280" cy="2625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00240" y="5500440"/>
            <a:ext cx="3571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том кладу в кастрюлю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«баню водяную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User\Desktop\фото февраль\SAM_1865.JPG"/>
          <p:cNvPicPr/>
          <p:nvPr/>
        </p:nvPicPr>
        <p:blipFill>
          <a:blip r:embed="rId3"/>
          <a:stretch/>
        </p:blipFill>
        <p:spPr>
          <a:xfrm>
            <a:off x="4143240" y="19288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00056011.jpg"/>
          <p:cNvPicPr/>
          <p:nvPr/>
        </p:nvPicPr>
        <p:blipFill>
          <a:blip r:embed="rId4"/>
          <a:stretch/>
        </p:blipFill>
        <p:spPr>
          <a:xfrm>
            <a:off x="785880" y="4429080"/>
            <a:ext cx="2143080" cy="226368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" descr="C:\Users\User\Desktop\фото февраль\SAM_1867.JPG"/>
          <p:cNvPicPr/>
          <p:nvPr/>
        </p:nvPicPr>
        <p:blipFill>
          <a:blip r:embed="rId2"/>
          <a:stretch/>
        </p:blipFill>
        <p:spPr>
          <a:xfrm>
            <a:off x="428760" y="157176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2920" y="4857480"/>
            <a:ext cx="3929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428760" y="4786200"/>
            <a:ext cx="400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том добавим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дно зовется базовым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тоб мыло было нежное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ругое, что для запаха –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Эфирное зов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User\Desktop\фото февраль\SAM_1873.JPG"/>
          <p:cNvPicPr/>
          <p:nvPr/>
        </p:nvPicPr>
        <p:blipFill>
          <a:blip r:embed="rId3"/>
          <a:stretch/>
        </p:blipFill>
        <p:spPr>
          <a:xfrm>
            <a:off x="4786200" y="1643040"/>
            <a:ext cx="3857760" cy="28940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0"/>
          <p:cNvSpPr/>
          <p:nvPr/>
        </p:nvSpPr>
        <p:spPr>
          <a:xfrm>
            <a:off x="5429160" y="48578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тоб красивым было м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Есть краситель пищ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43200" y="5599440"/>
            <a:ext cx="3571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C:\Users\User\Desktop\фото февраль\SAM_1887.JPG"/>
          <p:cNvPicPr/>
          <p:nvPr/>
        </p:nvPicPr>
        <p:blipFill>
          <a:blip r:embed="rId2"/>
          <a:stretch/>
        </p:blipFill>
        <p:spPr>
          <a:xfrm>
            <a:off x="428760" y="17859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57480" y="5143320"/>
            <a:ext cx="41432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Заливаем мыльную массу в формо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:\Users\User\Desktop\фото февраль\SAM_1890.JPG"/>
          <p:cNvPicPr/>
          <p:nvPr/>
        </p:nvPicPr>
        <p:blipFill>
          <a:blip r:embed="rId3"/>
          <a:stretch/>
        </p:blipFill>
        <p:spPr>
          <a:xfrm>
            <a:off x="4714920" y="17859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User\Desktop\фото февраль\SAM_1894.JPG"/>
          <p:cNvPicPr/>
          <p:nvPr/>
        </p:nvPicPr>
        <p:blipFill>
          <a:blip r:embed="rId4"/>
          <a:stretch/>
        </p:blipFill>
        <p:spPr>
          <a:xfrm>
            <a:off x="500040" y="4500720"/>
            <a:ext cx="3000240" cy="2249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Вот и мыло мыльное – нежное , весело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" descr="C:\Users\User\Desktop\фото февраль\SAM_1906.JPG"/>
          <p:cNvPicPr/>
          <p:nvPr/>
        </p:nvPicPr>
        <p:blipFill>
          <a:blip r:embed="rId2"/>
          <a:stretch/>
        </p:blipFill>
        <p:spPr>
          <a:xfrm>
            <a:off x="500040" y="1628640"/>
            <a:ext cx="3500640" cy="4667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User\Desktop\фото февраль\SAM_1907.JPG"/>
          <p:cNvPicPr/>
          <p:nvPr/>
        </p:nvPicPr>
        <p:blipFill>
          <a:blip r:embed="rId3"/>
          <a:stretch/>
        </p:blipFill>
        <p:spPr>
          <a:xfrm>
            <a:off x="4786200" y="142884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User\Desktop\фото февраль\SAM_1915.JPG"/>
          <p:cNvPicPr/>
          <p:nvPr/>
        </p:nvPicPr>
        <p:blipFill>
          <a:blip r:embed="rId4"/>
          <a:stretch/>
        </p:blipFill>
        <p:spPr>
          <a:xfrm>
            <a:off x="4572000" y="39290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http://www.numama.ru/blogs/kopilka-detskih-stihov/stihi-pro-mylnye-puzyri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http://allforchildren.ru/poetry/toys168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http://www.www.naturseife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http://www.ru.wikipedia.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http://www.www.originalsoap.ru/soap-history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4280" y="2214360"/>
            <a:ext cx="68580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ебенок –рождается исследователем. Ему все интересно в окружающем мире. Особенно его интересуют обычные предметы, которыми люди пользуются ежеднев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этом проекте представлен исследовательский поиск ребёнка об обычном предмете – мыл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ходе проекта было установлено: каким бывает мыло, из чего и как получается мыло, можно ли самому приготовить мыло и каков рецепт его пригото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AppData\Local\Microsoft\Windows\Temporary Internet Files\Content.IE5\HQ8Y2TEZ\%D0%B7%D0%BD%D0%B0%D0%BA+%D0%B2%D0%BE%D0%BF%D1%80%D0%BE%D1%81%D0%B0[1].jpg"/>
          <p:cNvPicPr/>
          <p:nvPr/>
        </p:nvPicPr>
        <p:blipFill>
          <a:blip r:embed="rId2"/>
          <a:stretch/>
        </p:blipFill>
        <p:spPr>
          <a:xfrm>
            <a:off x="7450200" y="5124600"/>
            <a:ext cx="1355760" cy="135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AppData\Local\Microsoft\Windows\Temporary Internet Files\Content.IE5\5JK7U512\220px-Smiley.svg[1].png"/>
          <p:cNvPicPr/>
          <p:nvPr/>
        </p:nvPicPr>
        <p:blipFill>
          <a:blip r:embed="rId3"/>
          <a:stretch/>
        </p:blipFill>
        <p:spPr>
          <a:xfrm>
            <a:off x="285840" y="478620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857240"/>
            <a:ext cx="80438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оздание условий для исследовательской деятельности и   развития познавательных и творческих способностей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знакомиться с историей мыловарения в России и процессом изгото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знакомить с правилами изготовления мыльного раст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азвитие логического мышления, умение делать выводы и заключения, познавательного интереса,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AppData\Local\Microsoft\Windows\Temporary Internet Files\Content.IE5\3Z7IFS7V\Pow 8x10[1].jpg"/>
          <p:cNvPicPr/>
          <p:nvPr/>
        </p:nvPicPr>
        <p:blipFill>
          <a:blip r:embed="rId2"/>
          <a:stretch/>
        </p:blipFill>
        <p:spPr>
          <a:xfrm rot="19935600">
            <a:off x="7184520" y="2664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ser\AppData\Local\Microsoft\Windows\Temporary Internet Files\Content.IE5\ZGLL69KR\large-glass-laboratory-bottle-with-liquid-and-bubbles-in-it-66.6-12013[1].gif"/>
          <p:cNvPicPr/>
          <p:nvPr/>
        </p:nvPicPr>
        <p:blipFill>
          <a:blip r:embed="rId3"/>
          <a:stretch/>
        </p:blipFill>
        <p:spPr>
          <a:xfrm>
            <a:off x="7286760" y="5126040"/>
            <a:ext cx="1500120" cy="173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AppData\Local\Microsoft\Windows\Temporary Internet Files\Content.IE5\5JK7U512\medium-talk-bubbles-clouds-callout-66.6-15360[1].gif"/>
          <p:cNvPicPr/>
          <p:nvPr/>
        </p:nvPicPr>
        <p:blipFill>
          <a:blip r:embed="rId4"/>
          <a:stretch/>
        </p:blipFill>
        <p:spPr>
          <a:xfrm>
            <a:off x="8164440" y="4200480"/>
            <a:ext cx="714600" cy="87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AppData\Local\Microsoft\Windows\Temporary Internet Files\Content.IE5\HQ8Y2TEZ\hablar-mejor-ingles-1-300x300[1].jpg"/>
          <p:cNvPicPr/>
          <p:nvPr/>
        </p:nvPicPr>
        <p:blipFill>
          <a:blip r:embed="rId5"/>
          <a:stretch/>
        </p:blipFill>
        <p:spPr>
          <a:xfrm>
            <a:off x="64296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User\AppData\Local\Microsoft\Windows\Temporary Internet Files\Content.IE5\3Z7IFS7V\large-glass-laboratory-bottle-with-liquid-and-bubbles-in-it-33.3-12013[1].gif"/>
          <p:cNvPicPr/>
          <p:nvPr/>
        </p:nvPicPr>
        <p:blipFill>
          <a:blip r:embed="rId6"/>
          <a:stretch/>
        </p:blipFill>
        <p:spPr>
          <a:xfrm>
            <a:off x="6000840" y="5407200"/>
            <a:ext cx="125712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Предполагаемый 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714680" y="169164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Владеть понятиями «мыльный», «жидкий», «скользки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ставлять описательный рассказ о мыльных пузырях по опорной сх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полнение знаний детей об истории мыловарения в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изготовление мыла руч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ttp://kak-nay4utc9.ru/wp-content/uploads/2013/08/46.jpg"/>
          <p:cNvPicPr/>
          <p:nvPr/>
        </p:nvPicPr>
        <p:blipFill>
          <a:blip r:embed="rId2"/>
          <a:stretch/>
        </p:blipFill>
        <p:spPr>
          <a:xfrm>
            <a:off x="285840" y="4500720"/>
            <a:ext cx="267804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ttp://go1.imgsmail.ru/imgpreview?key=ecfbe09e772f5a0&amp;mb=imgdb_preview_1454"/>
          <p:cNvPicPr/>
          <p:nvPr/>
        </p:nvPicPr>
        <p:blipFill>
          <a:blip r:embed="rId3"/>
          <a:stretch/>
        </p:blipFill>
        <p:spPr>
          <a:xfrm>
            <a:off x="5214960" y="4714920"/>
            <a:ext cx="3529080" cy="1900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C:\Users\User\Desktop\фото февраль\SAM_1921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User\AppData\Local\Microsoft\Windows\Temporary Internet Files\Content.IE5\HQ8Y2TEZ\Vector_Bubbles_by_Shiro_Kuro[1].png"/>
          <p:cNvPicPr/>
          <p:nvPr/>
        </p:nvPicPr>
        <p:blipFill>
          <a:blip r:embed="rId3"/>
          <a:stretch/>
        </p:blipFill>
        <p:spPr>
          <a:xfrm>
            <a:off x="7418520" y="0"/>
            <a:ext cx="17254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1 этап – подготовитель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00120" y="2356920"/>
            <a:ext cx="6572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 Определить цель и задачи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 Изучить и создать информационную базу по прое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 Составить план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. Выявить интерес детей по проблеме   изготовления мыла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AppData\Local\Microsoft\Windows\Temporary Internet Files\Content.IE5\3Z7IFS7V\large-Happy-fish-166.6-9684[1].gif"/>
          <p:cNvPicPr/>
          <p:nvPr/>
        </p:nvPicPr>
        <p:blipFill>
          <a:blip r:embed="rId2"/>
          <a:stretch/>
        </p:blipFill>
        <p:spPr>
          <a:xfrm>
            <a:off x="6929280" y="1214280"/>
            <a:ext cx="2003760" cy="150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User\AppData\Local\Microsoft\Windows\Temporary Internet Files\Content.IE5\3Z7IFS7V\large-Happy-fish-166.6-9684[1].gif"/>
          <p:cNvPicPr/>
          <p:nvPr/>
        </p:nvPicPr>
        <p:blipFill>
          <a:blip r:embed="rId3"/>
          <a:stretch/>
        </p:blipFill>
        <p:spPr>
          <a:xfrm rot="1419600">
            <a:off x="6786360" y="5000760"/>
            <a:ext cx="2003400" cy="150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User\AppData\Local\Microsoft\Windows\Temporary Internet Files\Content.IE5\3Z7IFS7V\large-Happy-fish-166.6-9684[1].gif"/>
          <p:cNvPicPr/>
          <p:nvPr/>
        </p:nvPicPr>
        <p:blipFill>
          <a:blip r:embed="rId4"/>
          <a:stretch/>
        </p:blipFill>
        <p:spPr>
          <a:xfrm>
            <a:off x="4214880" y="5429160"/>
            <a:ext cx="15256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User\AppData\Local\Microsoft\Windows\Temporary Internet Files\Content.IE5\3Z7IFS7V\large-Happy-fish-166.6-9684[1].gif"/>
          <p:cNvPicPr/>
          <p:nvPr/>
        </p:nvPicPr>
        <p:blipFill>
          <a:blip r:embed="rId5"/>
          <a:stretch/>
        </p:blipFill>
        <p:spPr>
          <a:xfrm>
            <a:off x="6786720" y="1571760"/>
            <a:ext cx="207468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AppData\Local\Microsoft\Windows\Temporary Internet Files\Content.IE5\3Z7IFS7V\large-Happy-fish-166.6-9684[1].gif"/>
          <p:cNvPicPr/>
          <p:nvPr/>
        </p:nvPicPr>
        <p:blipFill>
          <a:blip r:embed="rId6"/>
          <a:stretch/>
        </p:blipFill>
        <p:spPr>
          <a:xfrm flipH="1" rot="2425800">
            <a:off x="442800" y="4478040"/>
            <a:ext cx="1401840" cy="100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User\AppData\Local\Microsoft\Windows\Temporary Internet Files\Content.IE5\3Z7IFS7V\large-Happy-fish-166.6-9684[1].gif"/>
          <p:cNvPicPr/>
          <p:nvPr/>
        </p:nvPicPr>
        <p:blipFill>
          <a:blip r:embed="rId7"/>
          <a:stretch/>
        </p:blipFill>
        <p:spPr>
          <a:xfrm rot="2462400">
            <a:off x="2174760" y="5264280"/>
            <a:ext cx="1420920" cy="106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2 этап – основ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етоды и формы работы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вательные за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ление рассказов по сюжетным картинкам, серии картин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южетно-ролевы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мотр мультфильмов, телеперед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User\AppData\Local\Microsoft\Windows\Temporary Internet Files\Content.IE5\3Z7IFS7V\pencil01a[1].gif"/>
          <p:cNvPicPr/>
          <p:nvPr/>
        </p:nvPicPr>
        <p:blipFill>
          <a:blip r:embed="rId2"/>
          <a:stretch/>
        </p:blipFill>
        <p:spPr>
          <a:xfrm>
            <a:off x="5072040" y="1857240"/>
            <a:ext cx="1047600" cy="10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User\AppData\Local\Microsoft\Windows\Temporary Internet Files\Content.IE5\ZGLL69KR\stift24[1].gif"/>
          <p:cNvPicPr/>
          <p:nvPr/>
        </p:nvPicPr>
        <p:blipFill>
          <a:blip r:embed="rId3"/>
          <a:stretch/>
        </p:blipFill>
        <p:spPr>
          <a:xfrm>
            <a:off x="7072200" y="5214960"/>
            <a:ext cx="168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User\AppData\Local\Microsoft\Windows\Temporary Internet Files\Content.IE5\5JK7U512\lejek[1].png"/>
          <p:cNvPicPr/>
          <p:nvPr/>
        </p:nvPicPr>
        <p:blipFill>
          <a:blip r:embed="rId4"/>
          <a:stretch/>
        </p:blipFill>
        <p:spPr>
          <a:xfrm>
            <a:off x="7143840" y="2714760"/>
            <a:ext cx="1022400" cy="102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User\AppData\Local\Microsoft\Windows\Temporary Internet Files\Content.IE5\HQ8Y2TEZ\kolba_stoz[1].png"/>
          <p:cNvPicPr/>
          <p:nvPr/>
        </p:nvPicPr>
        <p:blipFill>
          <a:blip r:embed="rId5"/>
          <a:stretch/>
        </p:blipFill>
        <p:spPr>
          <a:xfrm>
            <a:off x="5502240" y="4335480"/>
            <a:ext cx="102240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Что такое мы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71680" y="1600200"/>
            <a:ext cx="3614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ыло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– жидкий или твердый продукт, содержащий поверхностно-активные вещества, в соединении с водой используемое либо как косметическое средство – для очищения и ухода за кожей (туалетное мыло); либо как средство бытовой химии –моющего средства (мыло хозяйственно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User\Desktop\фото февраль\SAM_1813.JPG"/>
          <p:cNvPicPr/>
          <p:nvPr/>
        </p:nvPicPr>
        <p:blipFill>
          <a:blip r:embed="rId2"/>
          <a:stretch/>
        </p:blipFill>
        <p:spPr>
          <a:xfrm rot="20758800">
            <a:off x="344160" y="2141640"/>
            <a:ext cx="454032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4:53:20Z</dcterms:created>
  <dc:creator>Пользователь</dc:creator>
  <dc:description/>
  <dc:language>en-US</dc:language>
  <cp:lastModifiedBy>Пользователь</cp:lastModifiedBy>
  <dcterms:modified xsi:type="dcterms:W3CDTF">2017-12-19T20:14:55Z</dcterms:modified>
  <cp:revision>39</cp:revision>
  <dc:subject/>
  <dc:title>Слайд 1</dc:title>
</cp:coreProperties>
</file>