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C120-2C44-4516-8939-3D646D04C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B4A6-F122-4EB1-8D78-4CD6E262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F48B-C897-448F-BF0C-418F0E11D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6F21-6E45-4F71-8A21-9EEB90186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3498-14B8-4580-A66A-9B9A8B3B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B51D-A634-4F1D-A54E-C4EF689D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439B-5114-4BA1-A4CC-5BC94865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1DC1-1879-473B-B3E0-844D85EA9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62F7-EB2D-49C8-B7B3-6DA244F2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28B0-AE45-431E-914D-265652C1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4EF4-F82E-46E9-B609-52B6C23C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3AC0-8765-4D08-B1DC-BA0414B9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C113-2298-41AD-97A1-FBCE18258A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ма: «Влияние психоэмоционального состояния юных хоккеистов 12-13 лет на спортивную успешность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57200" y="838080"/>
          <a:ext cx="8229600" cy="52880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успешные хоккеисты  12 -13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пешные хоккеисты 12-13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т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рд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ичне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Rectangle 177"/>
          <p:cNvSpPr/>
          <p:nvPr/>
        </p:nvSpPr>
        <p:spPr>
          <a:xfrm>
            <a:off x="1373760" y="304200"/>
            <a:ext cx="65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почтение цветов (первых трех) хоккеистами 12-13 л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80880" y="914400"/>
          <a:ext cx="8534520" cy="5668920"/>
        </p:xfrm>
        <a:graphic>
          <a:graphicData uri="http://schemas.openxmlformats.org/drawingml/2006/table">
            <a:tbl>
              <a:tblPr/>
              <a:tblGrid>
                <a:gridCol w="6019920"/>
                <a:gridCol w="1251000"/>
                <a:gridCol w="126360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успешные хоккеис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пешные хоккеис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ний+красный (чувство целостности, активное и не всегда осознанное стремление к тесным отношениям. Потребность во внимании со стороны други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ый+зеленый (деловое возбуждение, активное стремление к цели, преодолению всех трудностей, стремление к высокой оценке своей деятельно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ый +синий (деловое возбуждение, активное стремление к деятельности, впечатлениям, удовольствия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ый +желтый (деловое, слегка повышенное возбуждение, увлеченность, оптимизм, стремление к контактам, расширение сферы деятельно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ый+черный (негативное настроение, злость, стремление уйти из неблагоприятной ситуаци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тый+синий (настроение в общем положительное, стремление к позитивному эмоциональному состоянию, к самообладанию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тый+зеленый (настроение в общем положительное, стремление к поиску первых путей решения стоящих задач, стремление к самоутверждению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тый+красный (несколько повышенное деловое возбуждение, стремление к широкой активно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ый+синий (позитивное состояние, стремление к признанию, к деятельности, обеспечивающей успе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ый+красный (активное стремление к успеху, к самостоятельным решениям, к преодолению преград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ый+желтый (небольшое беспокойство, стремление к признанию, популярности, желание произвести впечатлени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Rectangle 247"/>
          <p:cNvSpPr/>
          <p:nvPr/>
        </p:nvSpPr>
        <p:spPr>
          <a:xfrm>
            <a:off x="1525680" y="304200"/>
            <a:ext cx="60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четание первых двух цветов у хоккеистов 12-13 л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57200" y="1905120"/>
          <a:ext cx="8229600" cy="4221000"/>
        </p:xfrm>
        <a:graphic>
          <a:graphicData uri="http://schemas.openxmlformats.org/drawingml/2006/table">
            <a:tbl>
              <a:tblPr/>
              <a:tblGrid>
                <a:gridCol w="3506760"/>
                <a:gridCol w="1573200"/>
                <a:gridCol w="1573200"/>
                <a:gridCol w="1576440"/>
              </a:tblGrid>
              <a:tr h="1935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ий уров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уров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ий уров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успешные хоккеис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е успешные хоккеис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Rectangle 82"/>
          <p:cNvSpPr/>
          <p:nvPr/>
        </p:nvSpPr>
        <p:spPr>
          <a:xfrm>
            <a:off x="1746360" y="608400"/>
            <a:ext cx="565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вни эмоциональных состояний хоккеи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методике Люшера (%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ходе проведения мероприятий психологического сопровождения решался перечень частных задач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Развитие командного взаимопонимания хоккеист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Контроль эмоционального состоя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Переживание ответственности за личный и командный результат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Антиципация действий соперника, развитие оперативного мышле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Основы саморегуляции, контроль обучения саморегуляц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 Развитие памяти и внима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. Оценка психической работоспособ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ы упражнений, используемых для снижения психоэмоционального напря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Упражнение «Слалом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Упражнение «Буллиты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Упражнение «Контроль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Упражнение «Память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Упражнение «Внимание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намика развития спортивной успешности юных хоккеис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Object 4"/>
          <p:cNvGraphicFramePr/>
          <p:nvPr/>
        </p:nvGraphicFramePr>
        <p:xfrm>
          <a:off x="609480" y="1676520"/>
          <a:ext cx="800100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80010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57200" y="1447920"/>
          <a:ext cx="8229600" cy="4840200"/>
        </p:xfrm>
        <a:graphic>
          <a:graphicData uri="http://schemas.openxmlformats.org/drawingml/2006/table">
            <a:tbl>
              <a:tblPr/>
              <a:tblGrid>
                <a:gridCol w="2666880"/>
                <a:gridCol w="2819520"/>
                <a:gridCol w="27432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зан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 зан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т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рд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ичне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Rectangle 178"/>
          <p:cNvSpPr/>
          <p:nvPr/>
        </p:nvSpPr>
        <p:spPr>
          <a:xfrm>
            <a:off x="1145880" y="380520"/>
            <a:ext cx="716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почтение цветов (первых трех) хоккеистами 12-13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онтрольный этап) – по всей группе: 20 человек*3 первых ц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потеза данного исследования доказа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достигну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агодарю за вним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исследования - изучить влияние психоэмоционального состояния юных хоккеистов 12-13 лет на спортивную успеш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ъект – спортивная успешность юных хоккеистов 12-13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мет – влияние психоэмоционального состояния юных хоккеистов 12-13 лет на спортивную успеш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потеза. Снижение негативных психоэмоциональных состояний хоккеистов 12-13 лет дает позитивную динамику спортивной успеш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 проанализировать научную литературу по изучаемой пробл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 изучить показатели психоэмоциональных состояний хоккеистов 12-13 лет и их влияние на спортивную успешност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) разработать и апробировать систему занятий по снижения негативных психоэмоциональных состояний юных спортсмен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) проверить эффективность проведенных занят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аза исследования: группа 7 –го года обучения, ГБОУ лицей 369 г.Санкт - Петербург. В исследовании приняли участие 20 хоккеистов 12-13 ле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етическая значимость и научная новизна исследования: Полученный научный материал об особенностях психоэмоциональных состояний хоккеистов 12-13 лет расширяет представления о влиянии данных состояний на спортивную успешность юных хоккеистов. Результаты исследований дополняют знания о методах снижения негативных психоэмоциональных состояний как средства повышения спортивной успеш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ктическая значимость. Результаты исследования расширяют представления о роли снижения негативных психоэмоциональных состояний у повышении успешной спортивной деятельности. Полученные в работе данные позволяют прогнозировать перспективность хоккеистов, они имеют практическое значение при оптимизации тренировочного процесса хоккеис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 исследования - изучить влияние психоэмоционального состояния юных хоккеистов 12-13 лет на спортивную успеш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проанализировать научную литературу по изучаемой проблем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изучить показатели психоэмоциональных состояний хоккеистов 12-13 лет и их влияние на спортивную успешност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разработать и апробировать систему занятий по снижения негативных психоэмоциональных состояний юных спортсмен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проверить эффективность проведенных занят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апы исслед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первом этапе осуществлялся подбор методик, подготовка диагностического материала, беседа со спортсмен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втором этапе была проведена методика «Семибалльная шкала оценок успешности юного спортсмена». В ходе ее проведения проводился опрос тренеров с целью выявления спортивной успешности хоккеистов 12-13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третьем этапе была проведена методика Люшера, которая направлена на выявление эмоциональных состояний испытуем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четвертом этапе производилась обработка и интерпретация результа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440" y="45684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пределение выборки на более и менее успеш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4"/>
          <p:cNvGraphicFramePr/>
          <p:nvPr/>
        </p:nvGraphicFramePr>
        <p:xfrm>
          <a:off x="304920" y="1422360"/>
          <a:ext cx="8305560" cy="543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22360"/>
                    <a:ext cx="8305560" cy="54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17-12-12T14:32:0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