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5ED-2C78-4D7D-BDC2-352187DD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E22-CDE1-46E5-8AB0-E8E7198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B8647-A7A9-4410-975F-BFFDB4A6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C4F8C-AFF8-4BC2-A8D5-9F27E7B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0F421-0402-4E9A-86CF-61138410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17768-3672-4BF0-AF9D-9E156E0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61FBA-7B64-4307-A478-F336897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0511-C4D0-48D1-BC00-436626B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71789-6CA1-4D38-90F7-D0497F8D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CD6D1-508D-4634-B262-F155FC12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724C9-B63B-407D-8AD4-CECDECAC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021EB-98B5-4FFF-B4A4-FA02DD6D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66A-FB58-4A38-BA01-CB48E698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83BC4-1588-4626-BBF2-DD2B484F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1A655-30AE-4360-8081-19028DD2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EFFE1-55F9-4796-99FB-84E2545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CCB40-ACDA-462F-BF8C-1306935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F9B35-9A4E-40D9-A6FB-EFA7210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C6380-372E-46B9-ACC2-1D5D1DF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86A7C-6D3B-4778-9F24-688EA0F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7EA44-B1D1-49B3-A674-BD14174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48481-7951-4548-A32F-8DDE40B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93564-2601-4CF8-A483-267AF5F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BF2-C7F8-4923-A136-5B0DC391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3037A-82D6-40B3-840D-50D74EAD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6E81-D0E5-4216-9E25-8E0C566E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175E7-52AB-4977-85BD-0ACD743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CBD1F-01AC-404D-AB6A-7BCA63E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23693-C5D7-41C2-9932-C225771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AACA-1EA9-4B13-8B6A-61D4E41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CE85F-E859-4E8E-B70B-9722FB3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F83A-F3DC-4660-BFE7-6E59454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09401-5B6C-438C-9FD7-E6EC58C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5B15F-BE40-496D-806A-BB5D7EE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7C1-B47C-4F4C-B0FA-AEA1A404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D4F6-D5CA-4907-BEEC-AA384977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1623D-D373-487D-B748-D05FE494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C121F-4F9C-4F60-B2BC-B8E3F574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D402E-4566-44AB-8434-D2E4ED94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6BB7B-3A66-4C44-84A4-2EAF2341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01D9C-59BC-4C41-83F8-59E5E41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A1D77-2E06-483D-BF3B-D37BE15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13BA1-C315-4EF8-BAD6-EB10309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E369F-0331-48DC-A084-B0C8B50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1BC30-8F2D-45F6-BE10-B34E235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7B6E-994B-4B17-B00D-5DE7EA1A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2BC5F-E1CF-431E-9425-7B3B58B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21B84-50FD-4B42-A009-A8560C1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62EB3-0E31-4D18-9276-562C2149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1DA9A-C646-48A2-8071-1E8E6A89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4300F-21E5-4FFF-9DDD-0A770FA9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AF628-1676-4863-B858-920E3066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8B439-7E1D-4A23-B3EA-A315B67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A6C0F-C9F5-4FDC-9DFE-8B7635E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E0DE3-7CD3-4B30-BC0D-C6958E8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5AC58-E57A-4243-91E7-3E8EEF6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884C-ECD9-47EF-92E6-4DB50FA4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D08F5-AC19-4D5F-B3B9-A512ADAA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DD3FD-AF3F-48BF-AF6F-D47FA5D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AB88C-A083-4C76-998A-84F6EA55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8BFE4-53BE-4A6B-BBDA-0FF841E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33AFE-3D23-4F16-9504-18D0DF0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23BC8-9F28-492D-8E92-328B1412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5C6BA-F1EF-4189-B88D-4BC797CC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2E9-E44A-420C-BE33-FF70BAE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8D2A-B424-4003-A0DD-E6365C68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6CFD-9B81-47F6-8E4F-11238A2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1CD-207C-4A68-9306-9B7A444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815-AB20-43D7-9681-BD5BD16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378-5F7E-4DC0-B9D4-F9946A3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3727-FD9E-4C84-A5C0-F3F54B4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5BF1-3842-4E3F-97FC-9814AE1A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5349-A916-4319-BC2A-D7EA65CD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28F-D490-4D45-8F1D-CFE94E70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FDA5-8093-48F3-845C-B0C7C0E5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0196-0994-400C-BF7A-FD2956C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9F2C-D00F-406D-B40C-25B70166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D7E6-A197-4244-878E-719831B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1F59-0894-475C-BFB7-00D5F287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98E-B014-4A79-9B86-E986CED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6BE3-0084-47CC-AAC4-306CD13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2321-8319-4939-9874-AD608B8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C3CF-B0F2-45D1-A023-2E5E5C3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42FB-8572-4972-89EC-DECA166D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374A-CBD4-4C3A-AE50-2A833B6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905E-1CDD-420F-BB42-577A9EF9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3208-401A-4ECA-A66F-95AAA863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F47D-E0B6-46A5-ABF9-3BB1014B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C301-FE0C-4DE6-9625-D1E7014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1724-FD97-4572-96A5-8A54433A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20A-19EF-4EBD-834B-7E180F3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4CC1-478A-4FB5-BD10-1F9EDD7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BD2C-B5BF-4D9B-A430-00423917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F62B-23F3-44D4-91D6-F1B6E80F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41BE-DDB3-47BF-B879-E337D18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97E1-7DB5-4018-A33C-08F7F43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E6C7-E2E7-462C-9E8B-9148F95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46A0-5BFA-400F-943E-D416670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9FFA-AC66-48CB-B32B-9EAA0C1D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C799-27EC-4A5E-A403-BF9EE9B1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AD2D-B1A3-4D61-BE24-C6C636A6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C11-9B7C-4D18-A0E8-E8CAE8F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B75B7-4FB3-4EB5-85DC-E6D5B42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952C-538E-4F84-8398-0AD6CE9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C29C-A5B8-4A85-B17E-53279BD5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2114-25FD-489E-AF61-69CBB805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355C-8F20-4AAF-AE18-48C04D2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B024-E7F3-4F69-B632-33346B8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F8A6-0CBC-4B0B-86E2-B4ECC35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6317-5007-4999-9CEE-DC4BDDA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393DB-F977-4CE1-9989-6D08A7E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E0BF4-538F-4F64-BFA9-5800510F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9E7-1124-41AF-9847-A517B46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BE7A-F53B-49F1-A0DC-C695B733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07B0-84B8-4572-A5E8-FC1AA7DB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C52C-D8B3-44D5-B6A2-C37458B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9B76-B376-4D13-8047-D0C7B47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F153-AA6D-44E0-B059-9D4AD2C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84E2-4AC5-4CDD-9C12-9387E8F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E2FC-334B-4434-B465-5A1AD1E6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BFB7-E628-40A4-94E9-4B15268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478A-A92A-4BDC-B818-3E43D1B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E84E-AA35-4981-B8CD-0114A1D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922-CD91-4CAA-A741-8953BA1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9F96-7159-4B92-9C0F-341893F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2006E-7390-4F73-ACB4-C3B1A6CC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CDD8-2BD4-4596-B33D-ADBEC462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26F7-3D6D-4722-8DC7-CC8EECDD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C44E-401D-44B6-AD3F-BF340816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B22A-AEBF-4109-A7F9-DF208FA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718F-EA35-4FF4-B6FD-3C6B435C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447F-49DD-4B20-9FEC-707A4B45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C493E-904F-44CF-AA46-21B0155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0030-0F58-4B72-B176-83B29C3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115-CD22-4B55-AEEF-7DF7CDD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181C-1916-4D44-A8F2-C937EF2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C8FD-1F8B-4172-8259-C212D38E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41F93-4FBD-4F46-A1CD-F3DB917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2A64-A264-4505-92B5-0BC3E279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C22D7-D998-4CA9-8511-24C68CEE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A7DD-0431-4435-9851-48014D67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B701-134F-482F-9443-E4911F2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34DD-6BA1-4DFA-B648-685ED68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BECA-C980-4A12-8744-940D851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CEBA-3807-4A0A-B143-93280CBC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870-A0D7-44BA-A529-3C54A3C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44A2-B47B-411D-9C10-E86DB70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51A8-494F-43FF-8A9D-EA3C499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8A60-C6F4-4E80-B3CC-3F9AE30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A9EE-8DF9-4E03-8F97-86AFE82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8C3B-9C24-45A1-9061-179E9D8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FEA49-171E-405E-B860-FBE67312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D73D-73DB-4044-842F-8DF6FA05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3DF1A-255C-4C5A-AC7D-7D895A3F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25727-E9BF-42CE-BAFD-15FFC9B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BA0FA-120D-4B21-8C09-C62FE78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BB15-0886-4A98-8CBD-F35709FD656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993-6209-41AA-A677-6CC02430CD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3E0-19F7-45A7-929F-E4A9504B02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147-5759-4B65-89EF-26A183704F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F0E-36C7-466C-A0C4-430BD9F219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AE3D-692F-4F47-B7D2-4C526617E0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499C-DB12-4B3B-AF4B-2C73205995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0B4-6527-4A51-8AD9-EB8F605F78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932-42CA-4CC2-89D3-2492BEAB07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DA95-BFF0-45AA-A3AC-C69857F8D4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FF4-BEBB-4FE6-ABC9-6A5E487589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0E6-A9D9-45F7-A7D4-A0055840E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5CF-80D4-4214-902A-1B55692987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1584360"/>
            <a:ext cx="8620200" cy="4054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Зв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окрыты шер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Имеют 4 ла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3" descr="медведь"/>
          <p:cNvPicPr/>
          <p:nvPr/>
        </p:nvPicPr>
        <p:blipFill>
          <a:blip r:embed="rId1"/>
          <a:stretch/>
        </p:blipFill>
        <p:spPr>
          <a:xfrm>
            <a:off x="5651640" y="1484280"/>
            <a:ext cx="3058920" cy="2198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лось"/>
          <p:cNvPicPr/>
          <p:nvPr/>
        </p:nvPicPr>
        <p:blipFill>
          <a:blip r:embed="rId2"/>
          <a:stretch/>
        </p:blipFill>
        <p:spPr>
          <a:xfrm>
            <a:off x="0" y="2757600"/>
            <a:ext cx="3059280" cy="2401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" descr="заяц"/>
          <p:cNvPicPr/>
          <p:nvPr/>
        </p:nvPicPr>
        <p:blipFill>
          <a:blip r:embed="rId3"/>
          <a:stretch/>
        </p:blipFill>
        <p:spPr>
          <a:xfrm>
            <a:off x="5867280" y="3933720"/>
            <a:ext cx="3025800" cy="2421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лиса"/>
          <p:cNvPicPr/>
          <p:nvPr/>
        </p:nvPicPr>
        <p:blipFill>
          <a:blip r:embed="rId4"/>
          <a:stretch/>
        </p:blipFill>
        <p:spPr>
          <a:xfrm>
            <a:off x="2781360" y="4221000"/>
            <a:ext cx="3058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7" descr="Чудо"/>
          <p:cNvPicPr/>
          <p:nvPr/>
        </p:nvPicPr>
        <p:blipFill>
          <a:blip r:embed="rId1"/>
          <a:stretch/>
        </p:blipFill>
        <p:spPr>
          <a:xfrm>
            <a:off x="1763640" y="0"/>
            <a:ext cx="6588360" cy="3645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4356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. 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. Ры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. Пет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4. 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5. Кузне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504280" cy="1554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1714320" y="1600200"/>
            <a:ext cx="6972120" cy="4525920"/>
          </a:xfrm>
          <a:prstGeom prst="rect">
            <a:avLst/>
          </a:prstGeom>
          <a:solidFill>
            <a:srgbClr val="606060"/>
          </a:solidFill>
          <a:ln w="9360">
            <a:solidFill>
              <a:srgbClr val="2828b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Arial"/>
              </a:rPr>
              <a:t>Узнали много нового и интересного, отлично поработал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ffff00"/>
                </a:solidFill>
                <a:latin typeface="Arial"/>
              </a:rPr>
              <a:t>Хорошо поработали, узнали на уроке новое для себ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Arial"/>
              </a:rPr>
              <a:t>Не всё получилось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Улыбающееся лицо 4"/>
          <p:cNvGrpSpPr/>
          <p:nvPr/>
        </p:nvGrpSpPr>
        <p:grpSpPr>
          <a:xfrm>
            <a:off x="255600" y="1542960"/>
            <a:ext cx="1414440" cy="1339920"/>
            <a:chOff x="255600" y="1542960"/>
            <a:chExt cx="1414440" cy="1339920"/>
          </a:xfrm>
        </p:grpSpPr>
        <p:pic>
          <p:nvPicPr>
            <p:cNvPr id="572" name="Улыбающееся лицо 4" descr=""/>
            <p:cNvPicPr/>
            <p:nvPr/>
          </p:nvPicPr>
          <p:blipFill>
            <a:blip r:embed="rId2"/>
            <a:stretch/>
          </p:blipFill>
          <p:spPr>
            <a:xfrm>
              <a:off x="255600" y="1542960"/>
              <a:ext cx="14144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484200" y="1760400"/>
              <a:ext cx="9604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Улыбающееся лицо 5"/>
          <p:cNvGrpSpPr/>
          <p:nvPr/>
        </p:nvGrpSpPr>
        <p:grpSpPr>
          <a:xfrm>
            <a:off x="255600" y="2975040"/>
            <a:ext cx="1414440" cy="1341360"/>
            <a:chOff x="255600" y="2975040"/>
            <a:chExt cx="1414440" cy="1341360"/>
          </a:xfrm>
        </p:grpSpPr>
        <p:pic>
          <p:nvPicPr>
            <p:cNvPr id="575" name="Улыбающееся лицо 5" descr=""/>
            <p:cNvPicPr/>
            <p:nvPr/>
          </p:nvPicPr>
          <p:blipFill>
            <a:blip r:embed="rId3"/>
            <a:stretch/>
          </p:blipFill>
          <p:spPr>
            <a:xfrm>
              <a:off x="255600" y="2975040"/>
              <a:ext cx="1414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484200" y="3189240"/>
              <a:ext cx="9604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Улыбающееся лицо 6"/>
          <p:cNvGrpSpPr/>
          <p:nvPr/>
        </p:nvGrpSpPr>
        <p:grpSpPr>
          <a:xfrm>
            <a:off x="255600" y="4541760"/>
            <a:ext cx="1414440" cy="1346400"/>
            <a:chOff x="255600" y="4541760"/>
            <a:chExt cx="1414440" cy="1346400"/>
          </a:xfrm>
        </p:grpSpPr>
        <p:pic>
          <p:nvPicPr>
            <p:cNvPr id="578" name="Улыбающееся лицо 6" descr=""/>
            <p:cNvPicPr/>
            <p:nvPr/>
          </p:nvPicPr>
          <p:blipFill>
            <a:blip r:embed="rId4"/>
            <a:stretch/>
          </p:blipFill>
          <p:spPr>
            <a:xfrm>
              <a:off x="255600" y="4541760"/>
              <a:ext cx="14144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84200" y="4761000"/>
              <a:ext cx="9604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машнее задание: приготовить сообщение классу о любом животном со стр. 61., о которых мы не говорил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5"/>
          <p:cNvSpPr txBox="1"/>
          <p:nvPr/>
        </p:nvSpPr>
        <p:spPr>
          <a:xfrm>
            <a:off x="2124000" y="549360"/>
            <a:ext cx="48243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4" name="Picture 6" descr="15"/>
          <p:cNvPicPr/>
          <p:nvPr/>
        </p:nvPicPr>
        <p:blipFill>
          <a:blip r:embed="rId1"/>
          <a:stretch/>
        </p:blipFill>
        <p:spPr>
          <a:xfrm>
            <a:off x="2700360" y="2897280"/>
            <a:ext cx="35686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2d2db9"/>
                </a:solidFill>
                <a:latin typeface="Arial"/>
              </a:rPr>
              <a:t>Гимн, флаг, природа, живая,неживая, Кассиопея,минералы, воздух,вода,растения,</a:t>
            </a:r>
            <a:br>
              <a:rPr sz="4000"/>
            </a:br>
            <a:r>
              <a:rPr b="0" lang="ru-RU" sz="4000" spc="-1" strike="noStrike">
                <a:solidFill>
                  <a:srgbClr val="2d2db9"/>
                </a:solidFill>
                <a:latin typeface="Arial"/>
              </a:rPr>
              <a:t>рыбы,звери, птицы, насеком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Arial"/>
              </a:rPr>
              <a:t>Какие бывают животные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110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знаем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учимся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де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56840" y="1604880"/>
            <a:ext cx="8226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Узнаем на какие группы можно разделить животных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учимся выделять и сравнивать признаки этих групп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Будем учиться находить новую для нас информацию в рассказах о животных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42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Arial"/>
              </a:rPr>
              <a:t>Игра «Четвертый лишний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456840" y="1604880"/>
            <a:ext cx="8226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Имеют 6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Маленький 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2" descr="божья коровка"/>
          <p:cNvPicPr/>
          <p:nvPr/>
        </p:nvPicPr>
        <p:blipFill>
          <a:blip r:embed="rId1"/>
          <a:stretch/>
        </p:blipFill>
        <p:spPr>
          <a:xfrm>
            <a:off x="5940360" y="1155600"/>
            <a:ext cx="2916360" cy="2241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бабочка"/>
          <p:cNvPicPr/>
          <p:nvPr/>
        </p:nvPicPr>
        <p:blipFill>
          <a:blip r:embed="rId2"/>
          <a:stretch/>
        </p:blipFill>
        <p:spPr>
          <a:xfrm>
            <a:off x="5927760" y="3573360"/>
            <a:ext cx="2916360" cy="2355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жук"/>
          <p:cNvPicPr/>
          <p:nvPr/>
        </p:nvPicPr>
        <p:blipFill>
          <a:blip r:embed="rId3"/>
          <a:stretch/>
        </p:blipFill>
        <p:spPr>
          <a:xfrm>
            <a:off x="2778120" y="2781360"/>
            <a:ext cx="3168720" cy="2349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кузнечик"/>
          <p:cNvPicPr/>
          <p:nvPr/>
        </p:nvPicPr>
        <p:blipFill>
          <a:blip r:embed="rId4"/>
          <a:stretch/>
        </p:blipFill>
        <p:spPr>
          <a:xfrm>
            <a:off x="0" y="407664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ы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Тело покрыто чешу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лав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Живу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карась"/>
          <p:cNvPicPr/>
          <p:nvPr/>
        </p:nvPicPr>
        <p:blipFill>
          <a:blip r:embed="rId1"/>
          <a:stretch/>
        </p:blipFill>
        <p:spPr>
          <a:xfrm>
            <a:off x="5940360" y="1125360"/>
            <a:ext cx="3059280" cy="2374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3" descr="щука"/>
          <p:cNvPicPr/>
          <p:nvPr/>
        </p:nvPicPr>
        <p:blipFill>
          <a:blip r:embed="rId2"/>
          <a:stretch/>
        </p:blipFill>
        <p:spPr>
          <a:xfrm>
            <a:off x="5364000" y="4221000"/>
            <a:ext cx="3059280" cy="233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" descr="рабы попугай"/>
          <p:cNvPicPr/>
          <p:nvPr/>
        </p:nvPicPr>
        <p:blipFill>
          <a:blip r:embed="rId3"/>
          <a:stretch/>
        </p:blipFill>
        <p:spPr>
          <a:xfrm>
            <a:off x="2987640" y="2421000"/>
            <a:ext cx="3241800" cy="2352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рыба клоун"/>
          <p:cNvPicPr/>
          <p:nvPr/>
        </p:nvPicPr>
        <p:blipFill>
          <a:blip r:embed="rId4"/>
          <a:stretch/>
        </p:blipFill>
        <p:spPr>
          <a:xfrm>
            <a:off x="324000" y="4221000"/>
            <a:ext cx="2842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Две ноги, два кр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окрыты пер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Могут ле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" descr="дятел"/>
          <p:cNvPicPr/>
          <p:nvPr/>
        </p:nvPicPr>
        <p:blipFill>
          <a:blip r:embed="rId1"/>
          <a:stretch/>
        </p:blipFill>
        <p:spPr>
          <a:xfrm>
            <a:off x="6659640" y="404640"/>
            <a:ext cx="2089080" cy="3141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воробей"/>
          <p:cNvPicPr/>
          <p:nvPr/>
        </p:nvPicPr>
        <p:blipFill>
          <a:blip r:embed="rId2"/>
          <a:stretch/>
        </p:blipFill>
        <p:spPr>
          <a:xfrm>
            <a:off x="5545080" y="3933720"/>
            <a:ext cx="3203640" cy="2289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голубь"/>
          <p:cNvPicPr/>
          <p:nvPr/>
        </p:nvPicPr>
        <p:blipFill>
          <a:blip r:embed="rId3"/>
          <a:stretch/>
        </p:blipFill>
        <p:spPr>
          <a:xfrm>
            <a:off x="2843280" y="2637000"/>
            <a:ext cx="3168720" cy="2252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щегол"/>
          <p:cNvPicPr/>
          <p:nvPr/>
        </p:nvPicPr>
        <p:blipFill>
          <a:blip r:embed="rId4"/>
          <a:stretch/>
        </p:blipFill>
        <p:spPr>
          <a:xfrm>
            <a:off x="324000" y="3546360"/>
            <a:ext cx="291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22:23Z</dcterms:created>
  <dc:creator>мама</dc:creator>
  <dc:description/>
  <dc:language>en-US</dc:language>
  <cp:lastModifiedBy>Пользователь Windows</cp:lastModifiedBy>
  <cp:lastPrinted>2004-11-11T12:06:30Z</cp:lastPrinted>
  <dcterms:modified xsi:type="dcterms:W3CDTF">2015-10-21T12:30:08Z</dcterms:modified>
  <cp:revision>48</cp:revision>
  <dc:subject/>
  <dc:title>Слайд 1</dc:title>
</cp:coreProperties>
</file>