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03F-54A7-4671-945A-CBDBCC41ED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4B04-A7B5-4718-A572-4CB2594BD9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DB6-4261-462D-876D-F1078C34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37F-8A04-4BB5-8D0D-DE38B7A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0FF-C4D8-4742-B8F8-480269BB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438-50C6-4955-B0B4-7F310600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5EA-C6C4-4111-ABD7-425F23C7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6DB-5B80-40D3-9D7E-B6F22A65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B51-85D6-42D0-B3F6-6E400CD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70E-E927-46B8-9DA8-F72EB920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434-8300-48B9-B7D3-65535E7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86A-7516-46B0-82EF-F11EA42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702-8C3A-4D96-87D6-CF5B90D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F2E-55F2-4FFC-B5A9-ED839CD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D63E-4D4F-479B-A9C8-60F2B8C89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расписание\986761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4214880" y="4659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енина Ирина, 42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724040"/>
                <a:gridCol w="1847880"/>
                <a:gridCol w="2000160"/>
                <a:gridCol w="1893960"/>
                <a:gridCol w="1677960"/>
              </a:tblGrid>
              <a:tr h="8618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Литературное чт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Иностранны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Изобразительное искус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Литературное ч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Иностранный язы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Окружающ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Русский язы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Техн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Техн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Физическая куль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Физическая куль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Му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Окружающ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Шкала трудности предметов для 1-4 кла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щеобразовательные предметы. Количество баллов (ранг трудност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матика -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усский (иностранный язык)-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кружающий мир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итературное чтение -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исование и музыка -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хнология -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ическая культура- 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тено распределение учебной нагрузки в течение недели , наибольший объем приходился на вторни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понедельник-23, вторник-28, среда-25, четверг-27, пятница-2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www.metod-kopilka.ru/images/doc/21/14740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7715160" y="571500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072120" y="571500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572160" y="571500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7143840" y="571500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072120" y="614376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715080" y="614376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7358040" y="614376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7929720" y="6143760"/>
            <a:ext cx="480960" cy="33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списание составлено в соответствии с базисным учебным план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Русский язык-5ч., литературное чтение-4ч., иностранный язык-2ч., математика-4ч., окружающий мир-2ч., искусство(ИЗО, музыка)-2ч., технология-1ч., физическая культура-3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ИТОГО: 23 час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15:14:52Z</dcterms:created>
  <dc:creator>User</dc:creator>
  <dc:description/>
  <dc:language>en-US</dc:language>
  <cp:lastModifiedBy>User</cp:lastModifiedBy>
  <dcterms:modified xsi:type="dcterms:W3CDTF">2017-12-08T16:15:00Z</dcterms:modified>
  <cp:revision>2</cp:revision>
  <dc:subject/>
  <dc:title>Слайд 1</dc:title>
</cp:coreProperties>
</file>