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515C-37A4-4992-BCDA-CD7637B2CC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3A5A-D6D2-47B1-9128-C1D21D313E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D72-165B-40CE-A82E-1EE98C97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9B6-E1FA-4DD1-AEE0-C4311ABB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5A2-6EA8-485F-9D7B-C1464910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07E-EDA2-4B51-B6E1-A1903F9F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BB3-3592-4E06-B041-99DB9CF2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74C2-FA68-4242-8E4F-22153B63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CC71-C546-4268-800A-1B19B633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A654-00B2-4B10-A513-B23857B0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68E-EC8B-497E-A530-8E5A1CCB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69A2-1748-4B6C-AB6B-10419EF0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6D05-8A3C-49B4-A688-91FAFC34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E3DD-0D2E-46E4-9D1E-BD698E32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973E-D8E8-4D2F-9C24-3157645B0CF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6" descr="рам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ртуальная экскурс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окрестностям посёлка Садо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мойловского района Саратовск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6626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6" descr="рам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2214720" y="642960"/>
            <a:ext cx="4286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2357280" y="7142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усиный 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90" descr="http://upload.wikimedia.org/wikipedia/commons/thumb/5/5b/Gagea_chlorantha_1.jpg/220px-Gagea_chlorantha_1.jpg"/>
          <p:cNvPicPr/>
          <p:nvPr/>
        </p:nvPicPr>
        <p:blipFill>
          <a:blip r:embed="rId2"/>
          <a:stretch/>
        </p:blipFill>
        <p:spPr>
          <a:xfrm>
            <a:off x="857160" y="1643040"/>
            <a:ext cx="2357640" cy="31399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9"/>
          <p:cNvSpPr/>
          <p:nvPr/>
        </p:nvSpPr>
        <p:spPr>
          <a:xfrm>
            <a:off x="714240" y="4786200"/>
            <a:ext cx="30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Лесополосы, кустар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3429000" y="1500120"/>
            <a:ext cx="52862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усиный лук  - небольшой род маленьких растений семейства лилейных; низкорос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летнее травянистое луковичное рас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шестью мелкими жёлтыми цветками и маленькой луковкой. Цветки собраны букетиком на невысоком стебельке. Цветёт в апре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огда-то гусиного лука по лесным полянам было очень много. И старые люди рассказывают, что на эти луга и поляны по весне всегда опускались стаи диких гусей, чтобы передохнуть здесь после трудной дороги и пощипать всходы лука, который они очень любили... Вот откуда и сложилось полное имя этого ранневесеннего цветка - гусиный лук. И верно, стоит появиться первым цветкам гусиного лука, как тут же высоко-высоко в небе появляются стаи перелётных гусей, летящих весной с юга на север, на свою роди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6" descr="рам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2214720" y="642960"/>
            <a:ext cx="4286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3429000" y="150012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500040" y="571680"/>
            <a:ext cx="8215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сенние  цветы и травы легко ранимы и трудно восполнимы, поэт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азавшись на цветущей полянке, не мните и не рвите их. Оставаясь на опушке, в овражке, они больше принесут нам радости своей свежестью и естественной красотой, чем, находясь в рюкзаке, измятые и задохнувшиеся. Значит, их нужно защищ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кого защищ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букет: он брошен вместе с сор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ирают, сжавшись, лепест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мы срывали без разбор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ззащитные тугие стебель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чего мы рвали их? Не знаю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 вянет нежный первоцв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усто, скучно стало на полян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стников весны там больше нет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просто погубить живо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ь подснежники не могут нам сказать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“Наслаждайтесь нашей красотою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ько очень просим нас не рвать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 Абдуллаева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4929120" y="1714680"/>
            <a:ext cx="378612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6" descr="рам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2214720" y="642960"/>
            <a:ext cx="4286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3429000" y="150012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8"/>
          <p:cNvSpPr/>
          <p:nvPr/>
        </p:nvSpPr>
        <p:spPr>
          <a:xfrm>
            <a:off x="500040" y="57168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азывается, защищать цветы нам нужно от самих себ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как же их защищать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Для этого существует очень много разных способов: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больше узнавать о жизни растений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рассказывать другим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создавать заповедники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в школе организовать акцию “В защиту первоцветов”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налагать штраф на тех, кто их срывает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т нас с вами зависит, чтобы раноцветущие растения не только не попадали в рюкзаки, но и в списки редких и охраняемых растений, как это уже произошло с немалым количеством видов.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2571840" y="4357800"/>
            <a:ext cx="278136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6" descr="рам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2"/>
          <a:stretch/>
        </p:blipFill>
        <p:spPr>
          <a:xfrm>
            <a:off x="428760" y="439560"/>
            <a:ext cx="8286480" cy="5989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714240" y="1214280"/>
            <a:ext cx="1428840" cy="200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4"/>
          <a:stretch/>
        </p:blipFill>
        <p:spPr>
          <a:xfrm>
            <a:off x="2571840" y="1214280"/>
            <a:ext cx="1714320" cy="183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5"/>
          <a:stretch/>
        </p:blipFill>
        <p:spPr>
          <a:xfrm>
            <a:off x="4500720" y="1214280"/>
            <a:ext cx="1643040" cy="1845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6"/>
          <a:stretch/>
        </p:blipFill>
        <p:spPr>
          <a:xfrm>
            <a:off x="6715080" y="1214280"/>
            <a:ext cx="1544760" cy="1843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7"/>
          <a:stretch/>
        </p:blipFill>
        <p:spPr>
          <a:xfrm>
            <a:off x="642960" y="3786120"/>
            <a:ext cx="1873080" cy="1928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8"/>
          <a:stretch/>
        </p:blipFill>
        <p:spPr>
          <a:xfrm>
            <a:off x="4857840" y="3786120"/>
            <a:ext cx="1357200" cy="181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9"/>
          <a:stretch/>
        </p:blipFill>
        <p:spPr>
          <a:xfrm>
            <a:off x="6786720" y="3857760"/>
            <a:ext cx="1571400" cy="1753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10"/>
          <a:stretch/>
        </p:blipFill>
        <p:spPr>
          <a:xfrm>
            <a:off x="3000240" y="3786120"/>
            <a:ext cx="1524240" cy="19814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9"/>
          <p:cNvSpPr/>
          <p:nvPr/>
        </p:nvSpPr>
        <p:spPr>
          <a:xfrm>
            <a:off x="1571760" y="5000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курсию пров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428760" y="3286080"/>
            <a:ext cx="1928520" cy="368280"/>
          </a:xfrm>
          <a:prstGeom prst="rect">
            <a:avLst/>
          </a:prstGeom>
          <a:solidFill>
            <a:srgbClr val="5fe8d6"/>
          </a:solidFill>
          <a:ln w="9360">
            <a:solidFill>
              <a:srgbClr val="5fe8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аркеева И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1"/>
          <p:cNvSpPr/>
          <p:nvPr/>
        </p:nvSpPr>
        <p:spPr>
          <a:xfrm>
            <a:off x="2643120" y="3214800"/>
            <a:ext cx="1674720" cy="368280"/>
          </a:xfrm>
          <a:prstGeom prst="rect">
            <a:avLst/>
          </a:prstGeom>
          <a:solidFill>
            <a:srgbClr val="5fe8d6"/>
          </a:solidFill>
          <a:ln w="9360">
            <a:solidFill>
              <a:srgbClr val="5fe8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туев Да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2"/>
          <p:cNvSpPr/>
          <p:nvPr/>
        </p:nvSpPr>
        <p:spPr>
          <a:xfrm>
            <a:off x="4786200" y="3214800"/>
            <a:ext cx="1549440" cy="368280"/>
          </a:xfrm>
          <a:prstGeom prst="rect">
            <a:avLst/>
          </a:prstGeom>
          <a:solidFill>
            <a:srgbClr val="5fe8d6"/>
          </a:solidFill>
          <a:ln w="9360">
            <a:solidFill>
              <a:srgbClr val="5fe8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злова 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3"/>
          <p:cNvSpPr/>
          <p:nvPr/>
        </p:nvSpPr>
        <p:spPr>
          <a:xfrm>
            <a:off x="6858000" y="3214800"/>
            <a:ext cx="1704960" cy="368280"/>
          </a:xfrm>
          <a:prstGeom prst="rect">
            <a:avLst/>
          </a:prstGeom>
          <a:solidFill>
            <a:srgbClr val="5fe8d6"/>
          </a:solidFill>
          <a:ln w="9360">
            <a:solidFill>
              <a:srgbClr val="5fe8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яхина 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571680" y="5929200"/>
            <a:ext cx="2155680" cy="368280"/>
          </a:xfrm>
          <a:prstGeom prst="rect">
            <a:avLst/>
          </a:prstGeom>
          <a:solidFill>
            <a:srgbClr val="5fe8d6"/>
          </a:solidFill>
          <a:ln w="9360">
            <a:solidFill>
              <a:srgbClr val="5fe8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олодов Арт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5"/>
          <p:cNvSpPr/>
          <p:nvPr/>
        </p:nvSpPr>
        <p:spPr>
          <a:xfrm>
            <a:off x="2928960" y="5929200"/>
            <a:ext cx="1643040" cy="368280"/>
          </a:xfrm>
          <a:prstGeom prst="rect">
            <a:avLst/>
          </a:prstGeom>
          <a:solidFill>
            <a:srgbClr val="5fe8d6"/>
          </a:solidFill>
          <a:ln w="9360">
            <a:solidFill>
              <a:srgbClr val="5fe8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яхина 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6"/>
          <p:cNvSpPr/>
          <p:nvPr/>
        </p:nvSpPr>
        <p:spPr>
          <a:xfrm>
            <a:off x="4786200" y="5929200"/>
            <a:ext cx="1589040" cy="368280"/>
          </a:xfrm>
          <a:prstGeom prst="rect">
            <a:avLst/>
          </a:prstGeom>
          <a:solidFill>
            <a:srgbClr val="5fe8d6"/>
          </a:solidFill>
          <a:ln w="9360">
            <a:solidFill>
              <a:srgbClr val="5fe8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ейнов И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7"/>
          <p:cNvSpPr/>
          <p:nvPr/>
        </p:nvSpPr>
        <p:spPr>
          <a:xfrm>
            <a:off x="6858000" y="5715000"/>
            <a:ext cx="1822320" cy="642600"/>
          </a:xfrm>
          <a:prstGeom prst="rect">
            <a:avLst/>
          </a:prstGeom>
          <a:solidFill>
            <a:srgbClr val="5fe8d6"/>
          </a:solidFill>
          <a:ln w="9360">
            <a:solidFill>
              <a:srgbClr val="5fe8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ечерская Л.В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6" descr="рам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 экскурсии: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влечь внимание к проблеме сохранения первоцветов окрестностей посёлка Садовый Самойлов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785880" y="1357200"/>
            <a:ext cx="2214360" cy="1662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3571920" y="1571760"/>
            <a:ext cx="3976560" cy="298116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714240" y="3071880"/>
            <a:ext cx="956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знакомить слуш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местами произрас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ннецветущих эфемеро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казать разнообразие видо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става первоц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скрыть физиол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обенности первоц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метить уязвимость да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уппы растений и предлож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ути сохранения первоц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4428000" y="5072040"/>
            <a:ext cx="361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скурсии могут проводиться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зрастной группы обучаю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– 4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6" descr="рам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500200" y="1285920"/>
            <a:ext cx="3907080" cy="29289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1928880" y="6984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алка душ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428760" y="4000680"/>
            <a:ext cx="9582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есополосы, кустарник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летнее травянистое растение 5–15 см высотой. Цветки очень душисты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не-фиолетовые. Цветёт в апреле – начале м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Растение обладает противовоспалительным, мягчительным, противосудорожны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противокашлевым, мочегонным действием, корни в виде настоя и отва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используются в народной медицине как слабительное и рвотное средств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храняемое раст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6" descr="рам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2214720" y="64296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юльпан Шр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571680" y="1071720"/>
            <a:ext cx="5286240" cy="396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6000840" y="3286080"/>
            <a:ext cx="2428920" cy="1822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4"/>
          <a:stretch/>
        </p:blipFill>
        <p:spPr>
          <a:xfrm>
            <a:off x="6143760" y="1071720"/>
            <a:ext cx="1876320" cy="20714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2"/>
          <p:cNvSpPr/>
          <p:nvPr/>
        </p:nvSpPr>
        <p:spPr>
          <a:xfrm>
            <a:off x="714240" y="500076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рязная балка, в 3 км на северо-восток от посёлк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юльпан Шренка – самый красивый вид тюльпанов, обитающих на территории Саратовской области. Этот вид тюльпана явился исходной формой создания гибридных тюльпанов в Евро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раняемое растение, занесённое в Красную кни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6" descr="рам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2214720" y="64296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р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428760" y="1357200"/>
            <a:ext cx="8215200" cy="2054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571680" y="3357720"/>
            <a:ext cx="2214360" cy="166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571680" y="4929120"/>
            <a:ext cx="2195280" cy="1643040"/>
          </a:xfrm>
          <a:prstGeom prst="rect">
            <a:avLst/>
          </a:prstGeom>
          <a:ln w="0">
            <a:noFill/>
          </a:ln>
        </p:spPr>
      </p:pic>
      <p:sp>
        <p:nvSpPr>
          <p:cNvPr id="77" name="TextBox 13"/>
          <p:cNvSpPr/>
          <p:nvPr/>
        </p:nvSpPr>
        <p:spPr>
          <a:xfrm>
            <a:off x="2928960" y="3643200"/>
            <a:ext cx="6010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аринова балка, в 2 км на юго-восток от посёлк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летнее травянистое растение. Цветёт в апреле-ма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аратовской области встречаются шесть 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риса, все они обладают высокой декоративной ценностью, интенсивно уничтожаются на букеты и стали редкими расте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раняемые раст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6" descr="рам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214720" y="64296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рицвет вес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4786200" y="1285920"/>
            <a:ext cx="3829320" cy="2500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642960" y="1285920"/>
            <a:ext cx="3859200" cy="2546280"/>
          </a:xfrm>
          <a:prstGeom prst="rect">
            <a:avLst/>
          </a:prstGeom>
          <a:ln w="0">
            <a:noFill/>
          </a:ln>
        </p:spPr>
      </p:pic>
      <p:sp>
        <p:nvSpPr>
          <p:cNvPr id="83" name="TextBox 12"/>
          <p:cNvSpPr/>
          <p:nvPr/>
        </p:nvSpPr>
        <p:spPr>
          <a:xfrm>
            <a:off x="428760" y="4143240"/>
            <a:ext cx="790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ерёзовая балка, в 5 км на сев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вянистое многолетнее растение. Цветёт в апреле- ма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ицвет весенний является ценнейшим сырьём для получения лекарственных препаратов, применяемых при лечении сердечно-сосудистых заболеваний. Все части растений ядов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ицвет весенний, как вид, численность которого сокращается, занесён в Красную кни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6" descr="рам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2214720" y="64296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ион тонколис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571680" y="1357200"/>
            <a:ext cx="3786120" cy="28353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4" descr=""/>
          <p:cNvPicPr/>
          <p:nvPr/>
        </p:nvPicPr>
        <p:blipFill>
          <a:blip r:embed="rId3"/>
          <a:stretch/>
        </p:blipFill>
        <p:spPr>
          <a:xfrm>
            <a:off x="5214960" y="1357200"/>
            <a:ext cx="2571840" cy="266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10"/>
          <p:cNvSpPr/>
          <p:nvPr/>
        </p:nvSpPr>
        <p:spPr>
          <a:xfrm>
            <a:off x="428760" y="4286160"/>
            <a:ext cx="13092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язовка, исток реки Вязовка, в 5 км на северо-зап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ион жестоко поплатился за свою красоту. Уже многие десятиле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вид является исчезающим, поэтому он был взят под охран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есён в Красную книгу СССР и России, а также -  в Красную кни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атовской области. Все части растения ядов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красоты, пион тонколистный является лекарственным раст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араты из него помогают при эпелепсии, малокровии, почеч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менной болезни, сердечных неду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6" descr="рам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2214720" y="64296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лчник смер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714240" y="4143240"/>
            <a:ext cx="800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аринова балка, в 2 км на юго-восток от посё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оветвистый красивый кустарник, особенно в период цветения, до 1,5 м высотой. Ядовитое растение. Цветки сиренево-розовые, с приятным ванильным ароматом. Цветёт в конце апреля – мае. Волчник – ранний медоно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лчник используется в народной медицине и гомеопатии в качестве кожного раздражителя, при ревматических и невралгических болях. Сырьём служит кора и сушёные пл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остью охраняемое раст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4929120" y="135720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785880" y="1357200"/>
            <a:ext cx="371484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6" descr="рам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2214720" y="642960"/>
            <a:ext cx="4286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2357280" y="7142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андыш май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857240" y="28576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590400" y="1192320"/>
            <a:ext cx="2873520" cy="2643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"/>
          <p:cNvSpPr/>
          <p:nvPr/>
        </p:nvSpPr>
        <p:spPr>
          <a:xfrm>
            <a:off x="3492360" y="1289160"/>
            <a:ext cx="518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язовка,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 5 км на северо-зап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емейства лилейных, высотою до 3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д — красно-оранжевая круглая я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ветет ландыш в мае—июне, плоды созревают в августе—сентябре. Всё растение ядовито. Ландыш майский — широко известное лекарственное рас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храняемое рас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684360" y="3835440"/>
            <a:ext cx="79912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красный весенний цветок издавна привлекал внимание людей, и о его происхождении сложено множество поэтичных легенд.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ринное русское предание рассказывает о безнадежной любви водяной царевны Волховы к удалому Садко. Узнав о его верной любви к простой девушке Любаве, она вышла на берег, чтобы в последней раз послушать песни и игру на гуслях своего любимого. Долго ходила Волхова по лугам и опушкам, но Садко нигде не было. Как вдруг увидела она двоих среди стройных берез — это они, Садко и Любава. Заплакала с горя гордая царевна, горькие слезы покатились из ее синих, как море, глаз. Жемчужинами падали они в траву и превращались в ароматные серебристые цветы — символ верности, любви и нежности. Обездоленная горем, навсегда ушла Волхова в свое холодное подводное цар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16:51:51Z</dcterms:created>
  <dc:creator>USER</dc:creator>
  <dc:description/>
  <dc:language>en-US</dc:language>
  <cp:lastModifiedBy>USER</cp:lastModifiedBy>
  <dcterms:modified xsi:type="dcterms:W3CDTF">2014-05-12T17:55:45Z</dcterms:modified>
  <cp:revision>65</cp:revision>
  <dc:subject/>
  <dc:title>Слайд 1</dc:title>
</cp:coreProperties>
</file>