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4D6-07CC-42F9-92CC-D870D170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192-5294-42D7-A49E-76FE7201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6A630-62DC-4236-B574-170EA387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07D7A-E5E4-4CCB-BA1D-95B6DAC4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F7491-EF82-4BEA-ACCD-68BC2F1D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51BA6-23DC-4523-92F2-5CA78D0A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05866-00A7-4D27-BCB4-C543592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BB9D7-FC14-466F-B7A1-EF584F03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2B02B-3E07-4669-9611-45319B27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854A5-BF8E-4FFB-B9F7-80EB9F94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0012E-021A-4FCE-8A94-C195C624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68190-3712-42B5-903E-20420D5A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A34-96F3-45CF-A4EF-EFE91897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04448-6C31-4394-AE21-F700228E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3566F-5424-4C74-8C67-2BDBE0C8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D964E-DE8E-40F0-A41C-687FEA2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ADDF4-3DA2-42B4-AFE8-E603C7CD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198DE-09B5-447C-8405-6F8DA4B5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7870A-E088-41AD-BB0D-1E7CCBF5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7E415-D443-403C-A888-029DC27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6C431-2403-4C18-A2E2-3A4B561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0E686-5748-4E9E-808F-8DBA2B1D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0587A-E936-49CB-8460-D75A537B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1E1-B0C1-497A-8A72-65C039F7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25E18-CB02-40B0-A2A4-CD05970E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E3185-6F15-4207-8542-C9B5C965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67BCB-330A-445F-A5A0-6C47DEF8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02B79-4839-4C8D-85AA-F2F00C92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07D37-5F4F-408A-8320-5D00DFEF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DB59A-9B98-432B-9CA3-7DCA4D00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1D07C-85C7-4CFB-8AE5-84D69A52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D0886-2BDD-49AF-BC65-99932306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B35F6-A382-4B89-86EA-7782B71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45A82-98A2-4A82-A312-4046878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B3D0-7336-4AAE-B25D-B4F7975C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75331-399E-4FDB-A28E-94B37ACC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48EB8-53D7-4863-AC5B-BB92BDCF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44947-2FA1-4FA5-864B-4A337C10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26FAD-3C2E-4D46-A3B5-EDF6F79E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D92D4-BC8F-474E-9988-EC889BA3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7A222-2D15-4F10-9446-A1942671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24CAB-DCC9-4FFE-860C-30290B33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CEAD5-DE3F-4894-9C98-F9204167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6506E-0866-4143-8283-1ABA5F3C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815B5-15E3-4DC3-9280-9E379339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BDCB-9FB9-4419-8ABF-9C034B91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AF965-5850-4547-9EB6-2EA54C4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59B88-E1B6-485D-B5A5-AA14C986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2FBEA-C916-4E28-94F2-F4ED50CD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E5003-F5D7-49E9-8F0D-FD8EF3B1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10C2B-D207-4994-81EF-B51861ED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F3276-10E8-4820-A0AB-D8C6DD79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37C60-3268-4CB7-B17C-20804A4B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C71E3-93D8-4612-8833-B8F715D0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E5B1F-67A4-4998-AD46-8F8043FC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78E9F-5CBD-49E3-94D9-3B207D89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7198-2F9F-4FE6-852C-1CA48C02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695D7-1AE2-4325-B4AF-29AFA3C3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F99D1-E2E5-4FA1-88D7-FBB83125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24826-314A-4EF5-83FD-757A8D8F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876F2-E55F-4EFC-9835-56FB5DA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9BA07-641D-49C1-A098-E000AD5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91DF5-59EB-4C34-9655-FD793338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41F71-F96F-4F08-89B9-23D4DB21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F0B4-0E51-4CC8-8F99-D1CD47A8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E48E-13D3-4B2E-912E-15EA98A0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4DE7-00A5-4CFC-8805-BAE5DAE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371C-86E4-46FC-A89C-3E52A0E5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EC0-CB8A-4885-8EB9-0CEFFE18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D57D-9DB9-48C2-B25F-B6044E9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D882-4B1A-4D11-9ADB-50B822F2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10AF-7EF5-4C66-9182-0EF85278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EF40-35C5-48DB-8CC9-59F9C924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EFFA-B7BB-4D6E-9227-F9E8CBC0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EB62-F85D-4C89-9CB3-E159BFE9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8401-CCB7-4233-AE39-13D5DC81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0670-D8D7-4B08-883F-EB159C6B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DD37-AA5C-425C-8640-9A3F8469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C5ED-F8E1-4A9D-8779-F60A965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256-C4D3-41EF-95E0-0E184E98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BB58-1C0D-4F76-A34F-08E3634A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2C3B-0720-4F89-A25D-E52D8178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E7E8-B267-4227-A887-5FAEEF2C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6AC6-FFCD-4F1C-930E-DDFE7D1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4ECD-F7B8-4BE3-8C19-D06FC3FE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128E-C8DB-42DA-A6D2-55BCCC6D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BECB-B0D7-472B-BDD9-B73F34AD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DE28-4FB6-4A99-813E-B4A7C226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8C711-4F40-4C53-8B95-0A6AC8A5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A3173-F1F5-4FB5-B4FA-0959A1F2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D9B-F09F-42AB-9BDA-ABAE9387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04AF-8F13-4119-9911-EB26FD53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DCEC-3CB7-419B-B7BC-64C7A6F8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D16C5-68A3-4462-8EEC-2B91CD3C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6DA0-B8ED-495C-AA54-044E34D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6E09-F207-4D01-AE08-946DF318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FCFCC-1442-4043-B681-D09898F5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8698C-951B-4C01-992E-FA253508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063C-81B2-4E1A-96EA-54B0B556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F2B0-F104-406F-9B6E-7A4928E0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A95E-0955-4CE9-8205-8706B30E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1D7-F480-4C16-B282-30B356E7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A68C3-343A-44DF-AFAA-3933BEA8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C9060-2C87-4D64-BCA6-B3DD42D7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25A7F-CA9C-4203-B9DB-CB5EDB02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8C72-C713-4BC8-BE72-01F5AB0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D9905-B34C-4EDC-BC83-5B5C3B83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82B93-BF34-4B2F-8885-81D20FEF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F256-2EBB-4F24-964A-0D0EAB88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221F6-2871-4986-ADAD-31C9F8F5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2B93-2134-46EB-973A-933B24B7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C9A99-076C-4442-B83A-FF7288D4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653-F7BC-450B-9264-F97BE71C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BE8C-08D5-452E-A8DF-EE3EE881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04642-E0F3-4BFC-A0F3-CD6F46BF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5A03-7C4A-4C12-8BB7-4D67AC2F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9E2C5-AE47-4468-B730-1F32B277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E8F9-B8D0-4AA7-8545-9A3DC42B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62650-BC59-491F-B441-5E7E19C7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EC5EC-0163-430D-9B45-BF10B634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B653-E89D-4944-9FED-476503CD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701FE-0694-4EC6-909A-D80347C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F0657-B0EC-4F8F-B2D1-D75595B0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90C-7B0E-4E76-92F8-C70E560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E44D-26D8-4B79-B03C-5AA610BC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E9B1F-BC8B-4A95-9086-8C3D6E40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0BCAB-DA62-4DEC-A72A-B78B68A9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48553-580A-452B-9197-42251C5F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65B37-328C-4093-8D69-2B943390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265EA-DE9E-4437-A63C-598BB8CA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7B152-8A5C-41F3-AD2E-A2EE38FF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C3485-BCE8-4FEB-80D1-EDCAE2A8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E1D24-ABB1-4BDA-AD17-A12EF2E8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B0542-8555-4B0B-B345-26FF5C37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FBF-D9A5-4296-8B43-4E82A2B1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4E252-0859-4E07-9ED5-4419D480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D26D2-2090-462E-B193-61C89675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B40E0-CA6E-4FB0-8800-19324CFE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5BF18-6A53-4E42-831A-9576A316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5CD19-493F-4F71-B731-A79D537D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993E1-022D-408C-B10B-E14D93C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52BEF-ACFF-4D98-8344-FFDB1EF5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5920-49B6-4A34-8B3E-6730B819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610BC-71DE-4074-BB93-8C915163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C0CD9-4588-491C-B411-F577D184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055-F18E-4D9B-B169-9E4FCA4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54F2F-A8F5-4E94-A05E-C1D3AC50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1F550-ECA8-4966-9848-190707EA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FEDA2-5C49-4BC5-9EC2-C5B91499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FB576-9B07-442D-9295-297BCD5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B4DA-B274-4755-AB44-41480492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1ECF8-E00D-421B-8F5A-541BDC5F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5340-E71C-42BD-976F-C5BA9F9F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E93EE-BE0F-447F-B666-1DC5156F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82C8B-FDAE-4C23-A4BD-3D550678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D2F1F-2CD8-470B-82E3-6EF368BE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13C2-CC2E-466A-9F1E-1D2511F028D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F3A5-B82D-4035-8DDF-AF825726334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DAD0-2E1E-47C4-9760-054F72E6D82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F12B-789B-4B1F-B8E9-0C8F1FA101A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CB48-6595-435C-B0B2-56BCBECF3C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BBDE-8827-4E8E-B950-171AE8377B5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F2CA-796E-4874-A79D-91F01A194E7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4B2B-7AC6-41A2-97EC-C09EB18F30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3A71-980E-45D4-84B5-DDB7E4334DD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FE00-CDD7-4BB6-BFBE-50A0D48038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BC47-D0E9-4C36-96DF-50BA77ED100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057A-D9DD-4E48-ABDE-B1ED47DC915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8934-6A2F-49DD-A981-6EAE959C53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18352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43  КАЛИНИН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1" i="1" lang="ru-RU" sz="16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1" i="1" lang="ru-RU" sz="16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1" i="1" lang="ru-RU" sz="16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1" i="1" lang="ru-RU" sz="1600" spc="-1" strike="noStrike">
                <a:solidFill>
                  <a:srgbClr val="0070c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68360" y="2643120"/>
            <a:ext cx="8183520" cy="35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ЗДОРОВЬЕСБЕРЕГАЮЩИЕ ТЕХНОЛОГИИ, ИСПОЛЬЗУЕМЫЕ В ДЕТСКОМ САДУ НА ЭТАПЕ РЕАЛИЗАЦИИ ФГОС ДО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.ВОСПИТАТЕЛЬ ГБДОУ ДЕТСКИЙ САД №43 </a:t>
            </a:r>
            <a:br>
              <a:rPr sz="1600"/>
            </a:br>
            <a:r>
              <a:rPr b="1" i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АХОМЕНКОВА ИРИНА АЛЕКСАНДРОВНА</a:t>
            </a:r>
            <a:br>
              <a:rPr sz="1800"/>
            </a:b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ЗДОРОВЬЕСБЕРЕГАЮЩИХ ТЕХНОЛОГИЙ 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Применительно к ребенку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еспечение высокого уровня реального здоровья воспитаннику детского сада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Применительно к взрослым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содействие становлению культуры здоровья, в том числе культуры профессионального здоровья воспитателей ДОУ и просвещению родителей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ДЫ ЗДОРОВЬЕСБЕРЕГАЮЩИХ ТЕХНОЛОГИЙ 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едико-профилактическ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изкультурно-оздоровитель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доровьесберегающие образовательные технологии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ехнологии обеспечения социально-психологического благополучия ребен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доровьесбережения и здоровьеобогащения педагогов дошкольного образова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феринцированные занятия по физической культуре с детьми дошкольного возраст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А.Руно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5" name="Picture 10" descr="x_1f75bdd9"/>
          <p:cNvPicPr/>
          <p:nvPr/>
        </p:nvPicPr>
        <p:blipFill>
          <a:blip r:embed="rId1"/>
          <a:stretch/>
        </p:blipFill>
        <p:spPr>
          <a:xfrm>
            <a:off x="3714840" y="2760840"/>
            <a:ext cx="414324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ЛА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слушные волны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.К. Вороно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6" descr=""/>
          <p:cNvPicPr/>
          <p:nvPr/>
        </p:nvPicPr>
        <p:blipFill>
          <a:blip r:embed="rId1"/>
          <a:stretch/>
        </p:blipFill>
        <p:spPr>
          <a:xfrm>
            <a:off x="3214800" y="2571840"/>
            <a:ext cx="51084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2560" y="285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ХНОЛОГИИ СОХРАНЕНИЯ ЗДОРОВЬ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01680" y="1527120"/>
          <a:ext cx="8504280" cy="4687920"/>
        </p:xfrm>
        <a:graphic>
          <a:graphicData uri="http://schemas.openxmlformats.org/drawingml/2006/table">
            <a:tbl>
              <a:tblPr/>
              <a:tblGrid>
                <a:gridCol w="2835360"/>
                <a:gridCol w="2833560"/>
                <a:gridCol w="2835360"/>
              </a:tblGrid>
              <a:tr h="3654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здоровьесберегающих педагогическ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проведения в режиме д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912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 оздоровительные иг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часть физкультурного занятия, на прогулке, в групповой комнате – с малой и  средней степенью подвижности. Ежедневно для всех возраст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С. Галанов «Игры, которые леча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5479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дыха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личных формах физкультурно-оздорови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С. Красикова «Дыхательная гимнасти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5479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бодр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после дневного сна, 5-1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Е. Харченко. «Бодрящая  гимнастика для дошкольников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5479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профилактическая после с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дневно после дневного сна, 5-1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И. Пензулае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здоровительная гимнастика для детей дошкольного возраста 3-7»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5479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ортопедиче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личных формах физкультурно-оздоровительной работы использование «Тропы здоровь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Потапчу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авильная осанка дете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1296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и музыкального воз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юбом подходящем помещении. В зависимости от состояния детей и целей, педагог определяет интенсивность технологии. Для всех возраст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использовать спокойную классическую музыку (Чайковский, Рахманинов, Бетховен, Моцарт), звуки природы Можно использовать спокойную классическую музыку (Чайковский, Рахманинов), звуки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188640"/>
            <a:ext cx="85345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ХНОЛОГИИ ОБУЧЕНИЯ</a:t>
            </a:r>
            <a:br>
              <a:rPr sz="2400"/>
            </a:b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ЗДОРОВОМУ ОБРАЗУ ЖИЗНИ</a:t>
            </a:r>
            <a:br>
              <a:rPr sz="2400"/>
            </a:b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680" y="1371600"/>
            <a:ext cx="4199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блемно-игровые ситуаци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ммуникативные игр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Физкультурные занят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овместная деятель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елакс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сихогимнасти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лементы самомассаж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СЕМ ДОБРОГО ЗДОРОВЬЯ.</a:t>
            </a:r>
            <a:br>
              <a:rPr sz="2800"/>
            </a:br>
            <a:r>
              <a:rPr b="1" i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900" spc="-1" strike="noStrike">
              <a:solidFill>
                <a:srgbClr val="262626"/>
              </a:solidFill>
              <a:latin typeface="Times New Roman"/>
              <a:ea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762120" y="2971800"/>
            <a:ext cx="2514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762120" y="3048120"/>
            <a:ext cx="3902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4479840" y="3048120"/>
            <a:ext cx="3444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0:02:25Z</dcterms:created>
  <dc:creator>USER</dc:creator>
  <dc:description/>
  <dc:language>en-US</dc:language>
  <cp:lastModifiedBy> </cp:lastModifiedBy>
  <dcterms:modified xsi:type="dcterms:W3CDTF">2017-12-18T13:58:59Z</dcterms:modified>
  <cp:revision>702</cp:revision>
  <dc:subject/>
  <dc:title>Слайд 1</dc:title>
</cp:coreProperties>
</file>