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2B8A-2C19-4076-AB0C-955AF060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7819-A05E-47A6-8A48-556CDD1A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527-5B07-41CB-952B-5AA6C6E1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3EE-7255-457C-B27F-F5F7F8D5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481B-3A77-4C83-862C-30101A93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A1C-0973-47C7-80B2-3345B9F1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BEF5-22A7-498B-BAB8-82C75F09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17DA-5F27-46DA-9DA6-1817F0F3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B8D-2E4A-488F-A06F-1503B4DC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31C-58BE-4AB0-A708-C0B13077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C0C-C0CB-468D-B623-8C98748B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143-1629-4329-9506-05AFC7EB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807C-5EA2-4E03-A61C-8031FAF78A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odvodnyj_mi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1752480" y="2057400"/>
            <a:ext cx="5715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Грамматический стр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Задание 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Какого цвета солнце?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podvodnyj_mi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752480" y="2057400"/>
            <a:ext cx="5715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Грамматический стр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Задание 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Машины на дорогах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predictable_jams_dumb_mobility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podvodnyj_mi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1752480" y="2057400"/>
            <a:ext cx="5715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Грамматический стр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Задание 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Ласковые слова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mg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380880" y="1219320"/>
            <a:ext cx="83822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Катя – Катенька, Катю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Вова, Таня, Ж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Медведь, лиса, заяц, вол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Чайник, тарелка, ложка, чаш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Мама, папа, бабушка, дедушка, брат, сес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podvodnyj_mi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1752480" y="2057400"/>
            <a:ext cx="5715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Грамматический стр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Задание 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Расскажи любимую сказку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podvodnyj_mi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752480" y="2057400"/>
            <a:ext cx="5715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Грамматический стр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Задание 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Что это и чего не стало?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8T05:35:18Z</dcterms:created>
  <dc:creator>Татьяна</dc:creator>
  <dc:description/>
  <dc:language>en-US</dc:language>
  <cp:lastModifiedBy>user</cp:lastModifiedBy>
  <dcterms:modified xsi:type="dcterms:W3CDTF">2017-12-20T02:53:06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