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move the slide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052-78FF-44C2-BE2A-B82A7AFCC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345-8C9E-4BF5-A9A3-3E702359C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FEB-FAD2-4F8D-847B-96E4756A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604-9EB6-4F37-A588-9CF90A0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087-D5A4-4C6A-A6B0-C675F401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FB2-82F5-469E-831B-0C222C22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7A5F-704B-4E20-8215-D5D87546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875C-6575-45B2-B34A-4817302D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9C6-26F1-4A85-BC50-B65E687C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5CB-146A-46DC-9332-72FDDA54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52C9-6CD0-404A-82A8-DD44B5CE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6F6-C6E9-4224-B2B2-24C26850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661E-80D4-458F-B371-0BC1768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B12-5E70-4B0A-B4D6-DDD80B8A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104B-7210-4B7E-9F83-E35DE35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BF8-9295-47B3-8B63-4571606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41E8-D96D-4C4A-8DE3-D66B004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934-7EA1-4FD6-87E5-30967304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3B8-9A93-4DE4-B37C-86C09718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9D88D-CED6-42A2-8AB5-5551AE81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74EC8-1A7E-4E22-AC45-E5BA991B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B9309-2CD9-45B4-B4D3-6F982013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08A11-C388-4024-932B-FAD3C68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BA154-F839-49EF-9BA0-685C118D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488-75BF-4AB4-A052-8D95374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82DC8-B152-4F36-8CF0-DF9CFFB5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9E9C8-072B-47E2-AC4E-A57A510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05CA0-6B8A-42B4-9A4D-C876A29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4FDA4-861B-448E-8277-42D4DFE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3D1B5-444B-42A1-BA74-9E7803D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76027-437F-4C82-BBE8-D2C0E194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127F3-2664-4E6F-A6C1-150AA001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51C-72AD-4BF0-A2FE-EA1806E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691-F23E-42FE-B342-13917235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950-E430-466D-ABDD-FF3F418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803-AD18-4879-822D-A81ACE1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487-6BE0-4452-B9A6-835ADB5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9FA-1A94-4948-8E1A-E8E211C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042-0953-42D7-8329-1C1FEF5ADE1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71B-B3C5-473C-8D8E-A29F65913102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2DE-DACF-4775-8058-7021A0AFF583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57760" y="428760"/>
            <a:ext cx="52862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АЛКЕНЫ –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НЕПРЕДЕЛЬНЫЕ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ГЛЕВОДОРОДЫ.</a:t>
            </a:r>
            <a:br>
              <a:rPr sz="4000"/>
            </a:b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214720"/>
            <a:ext cx="3286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2" name="Рисунок 5" descr="http://www.rcio.rsu.ru/webp/class1/potok86/Vasil'eva/images/human209.gif"/>
          <p:cNvPicPr/>
          <p:nvPr/>
        </p:nvPicPr>
        <p:blipFill>
          <a:blip r:embed="rId1"/>
          <a:stretch/>
        </p:blipFill>
        <p:spPr>
          <a:xfrm>
            <a:off x="714240" y="2643120"/>
            <a:ext cx="213372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105520" y="1856880"/>
            <a:ext cx="4038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п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Бут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ент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Гекс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Гепт</a:t>
            </a:r>
            <a:r>
              <a:rPr b="1" lang="ru-RU" sz="2600" spc="-1" strike="noStrike">
                <a:solidFill>
                  <a:srgbClr val="ff5050"/>
                </a:solidFill>
                <a:latin typeface="Century Schoolbook"/>
              </a:rPr>
              <a:t>ен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42880" y="19285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851000" y="500040"/>
            <a:ext cx="3475800" cy="579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форму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ff"/>
                </a:solidFill>
                <a:latin typeface="Calibri"/>
              </a:rPr>
              <a:t>С</a:t>
            </a:r>
            <a:r>
              <a:rPr b="1" lang="en-US" sz="2800" spc="-1" strike="noStrike" baseline="-25000">
                <a:solidFill>
                  <a:srgbClr val="cc00ff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cc00ff"/>
                </a:solidFill>
                <a:latin typeface="Calibri"/>
              </a:rPr>
              <a:t>Н</a:t>
            </a:r>
            <a:r>
              <a:rPr b="1" lang="en-US" sz="2800" spc="-1" strike="noStrike" baseline="-25000">
                <a:solidFill>
                  <a:srgbClr val="cc00ff"/>
                </a:solidFill>
                <a:latin typeface="Calibri"/>
              </a:rPr>
              <a:t>2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5929200" y="278604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5857920" y="214308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29200" y="335772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6072120" y="392904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5929200" y="442908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929200" y="507204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0" y="2142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Гомологи-ческий ряд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Изомерия алкенов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4071960" y="285840"/>
            <a:ext cx="485784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Для алкенов возможны два типа изоме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5050"/>
                </a:solidFill>
                <a:latin typeface="Calibri"/>
              </a:rPr>
              <a:t>1-ый тип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труктурная изоме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еродного ске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я двой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класс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5050"/>
                </a:solidFill>
                <a:latin typeface="Calibri"/>
              </a:rPr>
              <a:t>2-ой тип –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остранственная изоме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метр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78688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изомеров углеродного скелета (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837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1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      2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 3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 4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2200" spc="-1" strike="noStrike" baseline="-25000">
                <a:solidFill>
                  <a:srgbClr val="cc00ff"/>
                </a:solidFill>
                <a:latin typeface="Century Schoolbook"/>
              </a:rPr>
              <a:t>1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</a:t>
            </a:r>
            <a:r>
              <a:rPr b="1" i="1" lang="ru-RU" sz="2200" spc="-1" strike="noStrike" baseline="-25000">
                <a:solidFill>
                  <a:srgbClr val="cc00ff"/>
                </a:solidFill>
                <a:latin typeface="Century Schoolbook"/>
              </a:rPr>
              <a:t>2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 3           </a:t>
            </a:r>
            <a:r>
              <a:rPr b="1" i="1" lang="ru-RU" sz="2200" spc="-1" strike="noStrike" baseline="-25000">
                <a:solidFill>
                  <a:srgbClr val="cc00ff"/>
                </a:solidFill>
                <a:latin typeface="Century Schoolbook"/>
              </a:rPr>
              <a:t>    </a:t>
            </a:r>
            <a:r>
              <a:rPr b="1" i="1" lang="en-US" sz="2200" spc="-1" strike="noStrike" baseline="-25000">
                <a:solidFill>
                  <a:srgbClr val="cc00ff"/>
                </a:solidFill>
                <a:latin typeface="Century Schoolbook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= С – 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– 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= СН – СН – 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         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600" spc="-1" strike="noStrike">
                <a:solidFill>
                  <a:srgbClr val="cc00ff"/>
                </a:solidFill>
                <a:latin typeface="Century Schoolbook"/>
              </a:rPr>
              <a:t>2-метилбутен-1</a:t>
            </a:r>
            <a:r>
              <a:rPr b="1" lang="ru-RU" sz="2600" spc="-1" strike="noStrike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cc00ff"/>
                </a:solidFill>
                <a:latin typeface="Century Schoolbook"/>
              </a:rPr>
              <a:t>  3-метилбутен-1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 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1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 2        3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2600" spc="-1" strike="noStrike" baseline="-25000">
                <a:solidFill>
                  <a:srgbClr val="cc00ff"/>
                </a:solidFill>
                <a:latin typeface="Century Schoolbook"/>
              </a:rPr>
              <a:t>         4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– С = СН – 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lang="ru-RU" sz="2600" spc="-1" strike="noStrike">
                <a:solidFill>
                  <a:srgbClr val="cc00ff"/>
                </a:solidFill>
                <a:latin typeface="Century Schoolbook"/>
              </a:rPr>
              <a:t>2-метилбутен-2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1571760" y="2928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5786280" y="2928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857760" y="4857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H="1">
            <a:off x="2050920" y="1844640"/>
            <a:ext cx="2376720" cy="64764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4427640" y="1844640"/>
            <a:ext cx="0" cy="25210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4427640" y="1844640"/>
            <a:ext cx="2232000" cy="64764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78688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изомеров положения двойной связи (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1               2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    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3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    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4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 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5</a:t>
            </a:r>
            <a:r>
              <a:rPr b="1" i="1" lang="en-US" sz="3200" spc="-1" strike="noStrike">
                <a:solidFill>
                  <a:srgbClr val="cc00ff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= СН – 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cc00ff"/>
                </a:solidFill>
                <a:latin typeface="Century Schoolbook"/>
              </a:rPr>
              <a:t>пентен-1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          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1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   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2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   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3     </a:t>
            </a:r>
            <a:r>
              <a:rPr b="1" i="1" lang="ru-RU" sz="3200" spc="-1" strike="noStrike" baseline="-25000">
                <a:solidFill>
                  <a:srgbClr val="cc00ff"/>
                </a:solidFill>
                <a:latin typeface="Century Schoolbook"/>
              </a:rPr>
              <a:t>       </a:t>
            </a:r>
            <a:r>
              <a:rPr b="1" i="1" lang="en-US" sz="3200" spc="-1" strike="noStrike" baseline="-25000">
                <a:solidFill>
                  <a:srgbClr val="cc00ff"/>
                </a:solidFill>
                <a:latin typeface="Century Schoolbook"/>
              </a:rPr>
              <a:t>4               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СН = СН – 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cc00ff"/>
                </a:solidFill>
                <a:latin typeface="Century Schoolbook"/>
              </a:rPr>
              <a:t>пентен-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2987640" y="1844640"/>
            <a:ext cx="2232000" cy="10080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219640" y="1844640"/>
            <a:ext cx="2592360" cy="26640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3286080" cy="171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жклас-совая изомерия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СН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          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        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Циклобутан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           Метилциклопропа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= СН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  </a:t>
            </a:r>
            <a:r>
              <a:rPr b="1" i="1" lang="ru-RU" sz="2400" spc="-1" strike="noStrike">
                <a:solidFill>
                  <a:srgbClr val="cc00ff"/>
                </a:solidFill>
                <a:latin typeface="Century Schoolbook"/>
              </a:rPr>
              <a:t>бутен-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иклобутан и метилциклопропан являются изомерами бутена, т. к. отвечают общей формуле </a:t>
            </a:r>
            <a:r>
              <a:rPr b="1" lang="ru-RU" sz="2400" spc="-1" strike="noStrike">
                <a:solidFill>
                  <a:srgbClr val="cc00ff"/>
                </a:solidFill>
                <a:latin typeface="Century Schoolbook"/>
              </a:rPr>
              <a:t>С</a:t>
            </a:r>
            <a:r>
              <a:rPr b="1" lang="ru-RU" sz="2400" spc="-1" strike="noStrike" baseline="-25000">
                <a:solidFill>
                  <a:srgbClr val="cc00ff"/>
                </a:solidFill>
                <a:latin typeface="Century Schoolbook"/>
              </a:rPr>
              <a:t>4</a:t>
            </a:r>
            <a:r>
              <a:rPr b="1" lang="ru-RU" sz="2400" spc="-1" strike="noStrike">
                <a:solidFill>
                  <a:srgbClr val="cc00ff"/>
                </a:solidFill>
                <a:latin typeface="Century Schoolbook"/>
              </a:rPr>
              <a:t>Н</a:t>
            </a:r>
            <a:r>
              <a:rPr b="1" lang="ru-RU" sz="2400" spc="-1" strike="noStrike" baseline="-25000">
                <a:solidFill>
                  <a:srgbClr val="cc00ff"/>
                </a:solidFill>
                <a:latin typeface="Century Schoolbook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68436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857160" y="29289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428840" y="28576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6357960" y="2928960"/>
            <a:ext cx="433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6858000" y="292896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6429240" y="350028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141800" y="2857680"/>
            <a:ext cx="711000" cy="510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4429080" y="3429000"/>
            <a:ext cx="0" cy="9349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5000760" y="3071880"/>
            <a:ext cx="1368360" cy="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2714760" y="3000240"/>
            <a:ext cx="1224000" cy="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143240" y="428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АЛКЕНЫ ЯВЛЯЮТСЯ МЕЖКЛАССОВЫМИ         ИЗОМЕРАМИ ЦИКЛОА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71524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метрические (оптические) изомеры бутена 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195" name="115.avi" descr=""/>
          <p:cNvPicPr/>
          <p:nvPr/>
        </p:nvPicPr>
        <p:blipFill>
          <a:blip r:embed="rId1"/>
          <a:stretch/>
        </p:blipFill>
        <p:spPr>
          <a:xfrm>
            <a:off x="4694400" y="2219400"/>
            <a:ext cx="4333680" cy="3419280"/>
          </a:xfrm>
          <a:prstGeom prst="rect">
            <a:avLst/>
          </a:prstGeom>
          <a:ln w="0">
            <a:noFill/>
          </a:ln>
        </p:spPr>
      </p:pic>
      <p:pic>
        <p:nvPicPr>
          <p:cNvPr id="196" name="112.avi" descr=""/>
          <p:cNvPicPr/>
          <p:nvPr/>
        </p:nvPicPr>
        <p:blipFill>
          <a:blip r:embed="rId2"/>
          <a:stretch/>
        </p:blipFill>
        <p:spPr>
          <a:xfrm>
            <a:off x="49320" y="2193840"/>
            <a:ext cx="419400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6109920" y="59421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Цис-из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424160" y="5950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Georgia"/>
              </a:rPr>
              <a:t>Транс-из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3000240" cy="8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1" lang="en-US" sz="40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566064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ff"/>
                </a:solidFill>
                <a:latin typeface="Century Schoolbook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3000" spc="-1" strike="noStrike">
                <a:solidFill>
                  <a:srgbClr val="ff5050"/>
                </a:solidFill>
                <a:latin typeface="Century Schoolbook"/>
              </a:rPr>
              <a:t>этил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окт</a:t>
            </a:r>
            <a:r>
              <a:rPr b="1" lang="ru-RU" sz="3000" spc="-1" strike="noStrike">
                <a:solidFill>
                  <a:srgbClr val="17375e"/>
                </a:solidFill>
                <a:latin typeface="Century Schoolbook"/>
              </a:rPr>
              <a:t>е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н -</a:t>
            </a:r>
            <a:r>
              <a:rPr b="1" lang="ru-RU" sz="3000" spc="-1" strike="noStrike">
                <a:solidFill>
                  <a:srgbClr val="cc00ff"/>
                </a:solidFill>
                <a:latin typeface="Century Schoolbook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-360" y="1785600"/>
            <a:ext cx="597204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47880" y="2135160"/>
            <a:ext cx="784044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 - СН</a:t>
            </a:r>
            <a:r>
              <a:rPr b="0" lang="ru-RU" sz="3200" spc="-1" strike="noStrike">
                <a:solidFill>
                  <a:srgbClr val="17375e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ff505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</a:t>
            </a:r>
            <a:r>
              <a:rPr b="1" lang="ru-RU" sz="3200" spc="-1" strike="noStrike">
                <a:solidFill>
                  <a:srgbClr val="17375e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Н - СН -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ff5050"/>
                </a:solidFill>
                <a:latin typeface="Tahoma"/>
              </a:rPr>
              <a:t>2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- СН</a:t>
            </a:r>
            <a:r>
              <a:rPr b="0" lang="ru-RU" sz="3200" spc="-1" strike="noStrike" baseline="-25000">
                <a:solidFill>
                  <a:srgbClr val="ff505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3995640" y="4653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403440" y="2670120"/>
            <a:ext cx="0" cy="2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50120" y="39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986840" y="39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923560" y="39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858480" y="39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3924360" y="4653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866480" y="465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803200" y="465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6739920" y="465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8392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421884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328392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234720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141048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4878000" y="292428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ff5050"/>
                </a:solidFill>
                <a:latin typeface="Calibri"/>
              </a:rPr>
              <a:t>метил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нт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 -</a:t>
            </a:r>
            <a:r>
              <a:rPr b="1" lang="ru-RU" sz="2800" spc="-1" strike="noStrike">
                <a:solidFill>
                  <a:srgbClr val="cc00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314316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е свойства алкенов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395600" y="285480"/>
            <a:ext cx="474804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лкены плохо растворимы в воде, но хорошо растворяются в органических растворителя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увеличением молекулярной массы алкенов, в гомологическом ряду, повышаются температуры кипения и плавления, увеличивается плотность веще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214200" y="2500200"/>
            <a:ext cx="37148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cc00ff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– С</a:t>
            </a:r>
            <a:r>
              <a:rPr b="1" lang="ru-RU" sz="3200" spc="-1" strike="noStrike" baseline="-25000">
                <a:solidFill>
                  <a:srgbClr val="cc00ff"/>
                </a:solidFill>
                <a:latin typeface="Calibri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г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С</a:t>
            </a:r>
            <a:r>
              <a:rPr b="1" lang="en-US" sz="3200" spc="-1" strike="noStrike" baseline="-25000">
                <a:solidFill>
                  <a:srgbClr val="cc00ff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– С</a:t>
            </a:r>
            <a:r>
              <a:rPr b="1" lang="en-US" sz="3200" spc="-1" strike="noStrike" baseline="-25000">
                <a:solidFill>
                  <a:srgbClr val="cc00ff"/>
                </a:solidFill>
                <a:latin typeface="Calibri"/>
              </a:rPr>
              <a:t>1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cc00ff"/>
                </a:solidFill>
                <a:latin typeface="Calibri"/>
              </a:rPr>
              <a:t>17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твёрды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38"/>
          <p:cNvSpPr/>
          <p:nvPr/>
        </p:nvSpPr>
        <p:spPr>
          <a:xfrm rot="1608000">
            <a:off x="4301640" y="191736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9"/>
          <p:cNvSpPr/>
          <p:nvPr/>
        </p:nvSpPr>
        <p:spPr>
          <a:xfrm rot="5400000">
            <a:off x="1595520" y="2119320"/>
            <a:ext cx="976320" cy="309600"/>
          </a:xfrm>
          <a:prstGeom prst="rightArrow">
            <a:avLst>
              <a:gd name="adj1" fmla="val 50000"/>
              <a:gd name="adj2" fmla="val 78837"/>
            </a:avLst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428760" y="2786040"/>
            <a:ext cx="28954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МЫШ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1"/>
          <p:cNvSpPr/>
          <p:nvPr/>
        </p:nvSpPr>
        <p:spPr>
          <a:xfrm>
            <a:off x="1428840" y="714240"/>
            <a:ext cx="327636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ПОС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ЛУЧЕНИЯ АЛ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2"/>
          <p:cNvSpPr/>
          <p:nvPr/>
        </p:nvSpPr>
        <p:spPr>
          <a:xfrm>
            <a:off x="5429160" y="1857240"/>
            <a:ext cx="28958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БОРА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3"/>
          <p:cNvSpPr/>
          <p:nvPr/>
        </p:nvSpPr>
        <p:spPr>
          <a:xfrm>
            <a:off x="428760" y="4000680"/>
            <a:ext cx="2895480" cy="6858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КИН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4"/>
          <p:cNvSpPr/>
          <p:nvPr/>
        </p:nvSpPr>
        <p:spPr>
          <a:xfrm>
            <a:off x="500040" y="5143680"/>
            <a:ext cx="2895480" cy="6858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5"/>
          <p:cNvSpPr/>
          <p:nvPr/>
        </p:nvSpPr>
        <p:spPr>
          <a:xfrm>
            <a:off x="5500800" y="3000240"/>
            <a:ext cx="2819160" cy="6858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ГИДРА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6"/>
          <p:cNvSpPr/>
          <p:nvPr/>
        </p:nvSpPr>
        <p:spPr>
          <a:xfrm>
            <a:off x="5572080" y="4143240"/>
            <a:ext cx="2819520" cy="6858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ГАЛОГЕ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7"/>
          <p:cNvSpPr/>
          <p:nvPr/>
        </p:nvSpPr>
        <p:spPr>
          <a:xfrm>
            <a:off x="5572080" y="5143680"/>
            <a:ext cx="2819520" cy="6858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ГИД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ЛОГЕ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785760" y="500040"/>
            <a:ext cx="535788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КРЕКИНГ АЛКАН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РИМЕР: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=400-700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+ 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ек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ан</a:t>
            </a:r>
            <a:r>
              <a:rPr b="1" lang="ru-RU" sz="3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пент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ан</a:t>
            </a:r>
            <a:r>
              <a:rPr b="1" lang="ru-RU" sz="3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нт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РОМЫШЛЕННЫ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ОСОБ ПОЛУЧЕНИЯ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536920" y="2286000"/>
            <a:ext cx="6177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К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   АЛК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АН</a:t>
            </a:r>
            <a:r>
              <a:rPr b="1" lang="ru-RU" sz="3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 АЛК</a:t>
            </a: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1143000" y="2928960"/>
            <a:ext cx="71438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БОЛЕЕ ДЛИННОЙ          С МЕНЕЕ ДЛ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ЛЕРОДНОЙ                   УГЛЕ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ПЬЮ                              ЦЕП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Цель урока: 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ить и систематизировать знания по теме, осуществить контроль за качеством усвоения основополагающих вопросов, создать на уроке атмосферу поиска и успеш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учить строение, свойства и способы получения алкенов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РОМЫШЛЕННЫ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ОСОБ ПОЛУЧЕНИЯ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57760" y="428400"/>
            <a:ext cx="52862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К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  АЛК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 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РИМЕР: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, t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0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- С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эт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т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ил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  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226800" y="3000240"/>
            <a:ext cx="3640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f81bd"/>
                </a:solidFill>
                <a:uFillTx/>
                <a:latin typeface="Arial"/>
              </a:rPr>
              <a:t>ДЕ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АЛКАНОВ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ЛАБОРАТОРНЫ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ОСОБ ПОЛУЧЕНИЯ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14800" y="499680"/>
            <a:ext cx="59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АЛК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+ВОД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РИМЕР: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       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условия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≥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конц.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-С – С-Н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i="1" lang="ru-RU" sz="3200" spc="-1" strike="noStrike">
                <a:solidFill>
                  <a:srgbClr val="4f81bd"/>
                </a:solidFill>
                <a:latin typeface="Arial"/>
                <a:ea typeface="Arial"/>
              </a:rPr>
              <a:t>Н</a:t>
            </a:r>
            <a:r>
              <a:rPr b="1" i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2</a:t>
            </a:r>
            <a:r>
              <a:rPr b="1" i="1" lang="ru-RU" sz="3200" spc="-1" strike="noStrike">
                <a:solidFill>
                  <a:srgbClr val="4f81bd"/>
                </a:solidFill>
                <a:latin typeface="Arial"/>
                <a:ea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4f81bd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4f81bd"/>
                </a:solidFill>
                <a:latin typeface="Arial"/>
              </a:rPr>
              <a:t>  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эт</a:t>
            </a: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е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эт</a:t>
            </a: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иле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929040" y="43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V="1">
            <a:off x="3929040" y="3571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V="1">
            <a:off x="4643280" y="3571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643280" y="43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89360" y="5072040"/>
            <a:ext cx="354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f81bd"/>
                </a:solidFill>
                <a:uFillTx/>
                <a:latin typeface="Arial"/>
              </a:rPr>
              <a:t>ДЕ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ГИДРА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С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олуч.этена.avi" descr=""/>
          <p:cNvPicPr/>
          <p:nvPr/>
        </p:nvPicPr>
        <p:blipFill>
          <a:blip r:embed="rId1"/>
          <a:stretch/>
        </p:blipFill>
        <p:spPr>
          <a:xfrm>
            <a:off x="285840" y="2428920"/>
            <a:ext cx="30556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ЛАБОРАТОР-НЫ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ОСОБ ПОЛУЧЕНИЯ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2356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 – СН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+ Zn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СН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i="1" lang="ru-RU" sz="30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Br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Br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Br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ен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,2-дибром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а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(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илен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Arial"/>
                <a:ea typeface="Arial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  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00000"/>
                </a:solidFill>
                <a:latin typeface="Arial"/>
                <a:ea typeface="Arial"/>
              </a:rPr>
              <a:t>     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1285920" y="428616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2000160" y="4286160"/>
            <a:ext cx="71640" cy="36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4222800" y="857160"/>
            <a:ext cx="4370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f81bd"/>
                </a:solidFill>
                <a:uFillTx/>
                <a:latin typeface="Arial"/>
              </a:rPr>
              <a:t>ДЕ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ГАЛОГЕН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ЛАБОРАТОР-НЫ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ОСОБ ПОЛУЧЕНИЯ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214272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f81bd"/>
                </a:solidFill>
                <a:uFillTx/>
                <a:latin typeface="Arial"/>
              </a:rPr>
              <a:t>ДЕ</a:t>
            </a:r>
            <a:r>
              <a:rPr b="1" lang="ru-RU" sz="3000" spc="-1" strike="noStrike" u="sng">
                <a:solidFill>
                  <a:srgbClr val="cc0099"/>
                </a:solidFill>
                <a:uFillTx/>
                <a:latin typeface="Arial"/>
              </a:rPr>
              <a:t>ГИДРО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Arial"/>
              </a:rPr>
              <a:t>ГАЛОГЕН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ИРОВАНИЕ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ДАЛИТЬ  ВОДОРОД    ГАЛОГЕН        ДЕЙСТВИ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условие: спиртовой раствор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f81bd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H  H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-С–С-Н 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KOH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 →  Н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Cl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3000" spc="-1" strike="noStrike">
                <a:solidFill>
                  <a:srgbClr val="cc0099"/>
                </a:solidFill>
                <a:latin typeface="Arial"/>
                <a:ea typeface="Arial"/>
              </a:rPr>
              <a:t>H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cc0099"/>
                </a:solidFill>
                <a:latin typeface="Arial"/>
              </a:rPr>
              <a:t>Н</a:t>
            </a:r>
            <a:r>
              <a:rPr b="1" lang="ru-RU" sz="30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ен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хлор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ан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(эт</a:t>
            </a:r>
            <a:r>
              <a:rPr b="1" lang="ru-RU" sz="3000" spc="-1" strike="noStrike" u="sng">
                <a:solidFill>
                  <a:srgbClr val="800000"/>
                </a:solidFill>
                <a:uFillTx/>
                <a:latin typeface="Arial"/>
              </a:rPr>
              <a:t>илен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357960" y="257184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2714760" y="257184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1643040" y="257184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4500720" y="257184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H="1" flipV="1">
            <a:off x="1499760" y="5000760"/>
            <a:ext cx="7164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V="1">
            <a:off x="1500120" y="4429080"/>
            <a:ext cx="4608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999720" y="4357800"/>
            <a:ext cx="7164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"/>
          <p:cNvSpPr/>
          <p:nvPr/>
        </p:nvSpPr>
        <p:spPr>
          <a:xfrm>
            <a:off x="1000080" y="500076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32148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еханизм реакций присоедине-ния алкенов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357440" y="49968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Электрофильное присоединение: разрыв </a:t>
            </a:r>
            <a:r>
              <a:rPr b="0" lang="el-GR" sz="3000" spc="-1" strike="noStrike">
                <a:solidFill>
                  <a:srgbClr val="000000"/>
                </a:solidFill>
                <a:latin typeface="바탕"/>
              </a:rPr>
              <a:t>π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-связи протекает по гетеролитическому механизму, если атакующая частица является электрофило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Свободно-радикальное присоединение: разрыв связи протекает по гомолитическому механизму, если атакующая частица является радикало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285840" y="3500280"/>
            <a:ext cx="328608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вязь является донором электронов, поэтому она легко реагирует с электрофильными реаг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механизм присоед.avi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4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СХЕМЫ РЕАКЦИИ ПРИСОЕДИНЕНИЯ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280" y="1523880"/>
          <a:ext cx="8763120" cy="597384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609480"/>
                <a:gridCol w="1447920"/>
                <a:gridCol w="1981080"/>
                <a:gridCol w="1905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Г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нение реакции, её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=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 - 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?    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ОССТАНОВЛ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ПРАКТИЧЕСКОГО 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=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Br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 - 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?    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ЛОГЕН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БРОМИРОВА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ВАНИЕ НЕПРЕ-ДЕЛЬНЫХ СОЕДИНЕНИЙ (ОБЕСЦВЕЧИВАНИЕ БРОМНОЙ ВОДЫ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РАСТВОРИ-ТЕЛ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=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 - 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?   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ГАЛОГЕНИРОВ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ГИДРОХЛОРИРОВА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ХЛОРЭТАНА, ИСПОЛЬЗУЕМОГО ДЛЯ МЕСТНОЙ АНАСТЕЗИИ, В КАЧЕСТВЕ РАСТВОРИ-ТЕЛЯ И В СЕЛЬСКОМ ХОЗЯЙСТВЕ ДЛЯ ОБЕЗЗАРАЖИВАНИЯ ЗЕРНОХРАНИЛИ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=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  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-С - С-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?   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А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ЭТИЛОВОГО СПИРТА (РАСТВОРИТЕЛЬ В МЕДИЦИНЕ, В ПРО-ИЗВОДСТВЕ СИНТЕТИ-ЧЕСКОГО КАУЧУК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68" name="Прямая соединительная линия 10"/>
          <p:cNvSpPr/>
          <p:nvPr/>
        </p:nvSpPr>
        <p:spPr>
          <a:xfrm flipH="1">
            <a:off x="685800" y="2743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2"/>
          <p:cNvSpPr/>
          <p:nvPr/>
        </p:nvSpPr>
        <p:spPr>
          <a:xfrm flipH="1">
            <a:off x="1066320" y="27432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4"/>
          <p:cNvSpPr/>
          <p:nvPr/>
        </p:nvSpPr>
        <p:spPr>
          <a:xfrm flipH="1">
            <a:off x="4114800" y="2743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8"/>
          <p:cNvSpPr/>
          <p:nvPr/>
        </p:nvSpPr>
        <p:spPr>
          <a:xfrm flipH="1">
            <a:off x="4572000" y="2743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20"/>
          <p:cNvSpPr/>
          <p:nvPr/>
        </p:nvSpPr>
        <p:spPr>
          <a:xfrm flipH="1">
            <a:off x="4114800" y="3124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 flipH="1">
            <a:off x="4572000" y="3124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34"/>
          <p:cNvSpPr/>
          <p:nvPr/>
        </p:nvSpPr>
        <p:spPr>
          <a:xfrm flipH="1">
            <a:off x="4114800" y="3886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53"/>
          <p:cNvSpPr/>
          <p:nvPr/>
        </p:nvSpPr>
        <p:spPr>
          <a:xfrm flipH="1">
            <a:off x="685800" y="3886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55"/>
          <p:cNvSpPr/>
          <p:nvPr/>
        </p:nvSpPr>
        <p:spPr>
          <a:xfrm flipH="1">
            <a:off x="1066320" y="3886200"/>
            <a:ext cx="180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58"/>
          <p:cNvSpPr/>
          <p:nvPr/>
        </p:nvSpPr>
        <p:spPr>
          <a:xfrm flipV="1">
            <a:off x="4572000" y="388584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0"/>
          <p:cNvSpPr/>
          <p:nvPr/>
        </p:nvSpPr>
        <p:spPr>
          <a:xfrm flipV="1">
            <a:off x="685800" y="502884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64"/>
          <p:cNvSpPr/>
          <p:nvPr/>
        </p:nvSpPr>
        <p:spPr>
          <a:xfrm flipH="1">
            <a:off x="1066320" y="50292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66"/>
          <p:cNvSpPr/>
          <p:nvPr/>
        </p:nvSpPr>
        <p:spPr>
          <a:xfrm flipH="1">
            <a:off x="4191120" y="50292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70"/>
          <p:cNvSpPr/>
          <p:nvPr/>
        </p:nvSpPr>
        <p:spPr>
          <a:xfrm flipH="1">
            <a:off x="4572000" y="5029200"/>
            <a:ext cx="144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74"/>
          <p:cNvSpPr/>
          <p:nvPr/>
        </p:nvSpPr>
        <p:spPr>
          <a:xfrm flipH="1">
            <a:off x="685800" y="63244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76"/>
          <p:cNvSpPr/>
          <p:nvPr/>
        </p:nvSpPr>
        <p:spPr>
          <a:xfrm flipH="1">
            <a:off x="1066320" y="6324480"/>
            <a:ext cx="18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8"/>
          <p:cNvSpPr/>
          <p:nvPr/>
        </p:nvSpPr>
        <p:spPr>
          <a:xfrm flipH="1">
            <a:off x="4113360" y="63244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82"/>
          <p:cNvSpPr/>
          <p:nvPr/>
        </p:nvSpPr>
        <p:spPr>
          <a:xfrm flipV="1">
            <a:off x="4494960" y="6324480"/>
            <a:ext cx="18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85"/>
          <p:cNvSpPr/>
          <p:nvPr/>
        </p:nvSpPr>
        <p:spPr>
          <a:xfrm flipH="1">
            <a:off x="4114800" y="4267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87"/>
          <p:cNvSpPr/>
          <p:nvPr/>
        </p:nvSpPr>
        <p:spPr>
          <a:xfrm flipH="1">
            <a:off x="4572000" y="4267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91"/>
          <p:cNvSpPr/>
          <p:nvPr/>
        </p:nvSpPr>
        <p:spPr>
          <a:xfrm flipH="1">
            <a:off x="4572000" y="5410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95"/>
          <p:cNvSpPr/>
          <p:nvPr/>
        </p:nvSpPr>
        <p:spPr>
          <a:xfrm flipH="1">
            <a:off x="4495320" y="670572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7"/>
          <p:cNvSpPr/>
          <p:nvPr/>
        </p:nvSpPr>
        <p:spPr>
          <a:xfrm flipH="1">
            <a:off x="4191120" y="541008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99"/>
          <p:cNvSpPr/>
          <p:nvPr/>
        </p:nvSpPr>
        <p:spPr>
          <a:xfrm flipH="1">
            <a:off x="4114800" y="670392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РЕАКЦИЯ ПОЛИМЕРИЗАЦИИ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357440" y="356760"/>
            <a:ext cx="47862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Это процесс соединения одинаковых молекул в более крупны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РИМЕР:</a:t>
            </a: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 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(-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)n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иле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пол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иле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мономер)        (полимер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степень полимеризации, показывает число молекул, вступивших в реакцию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труктурное звено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94" name="Прямая со стрелкой 4"/>
          <p:cNvCxnSpPr/>
          <p:nvPr/>
        </p:nvCxnSpPr>
        <p:spPr>
          <a:xfrm>
            <a:off x="6286320" y="2428920"/>
            <a:ext cx="610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entury Schoolbook"/>
              </a:rPr>
              <a:t>РЕАКЦИИ</a:t>
            </a:r>
            <a:r>
              <a:rPr b="1" lang="ru-RU" sz="32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4f81bd"/>
                </a:solidFill>
                <a:latin typeface="Century Schoolbook"/>
              </a:rPr>
              <a:t>ОКИСЛЕ-НИЯ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142800" y="499680"/>
            <a:ext cx="600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alibri"/>
              </a:rPr>
              <a:t>ГОРЕНИЕ  АЛКЕНОВ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+ 7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4С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+ 6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97" name="Прямая со стрелкой 6"/>
          <p:cNvCxnSpPr/>
          <p:nvPr/>
        </p:nvCxnSpPr>
        <p:spPr>
          <a:xfrm>
            <a:off x="5714640" y="3285720"/>
            <a:ext cx="6152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горение этилена.avi" descr=""/>
          <p:cNvPicPr/>
          <p:nvPr/>
        </p:nvPicPr>
        <p:blipFill>
          <a:blip r:embed="rId1"/>
          <a:stretch/>
        </p:blipFill>
        <p:spPr>
          <a:xfrm>
            <a:off x="4500720" y="40719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1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entury Schoolbook"/>
              </a:rPr>
              <a:t>РЕАКЦИИ</a:t>
            </a:r>
            <a:r>
              <a:rPr b="1" lang="ru-RU" sz="32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4f81bd"/>
                </a:solidFill>
                <a:latin typeface="Century Schoolbook"/>
              </a:rPr>
              <a:t>ОКИСЛЕ-НИЯ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2356920"/>
            <a:ext cx="81532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800000"/>
                </a:solidFill>
                <a:uFillTx/>
                <a:latin typeface="Calibri"/>
              </a:rPr>
              <a:t> </a:t>
            </a:r>
            <a:r>
              <a:rPr b="1" lang="ru-RU" sz="2700" spc="-1" strike="noStrike" u="sng">
                <a:solidFill>
                  <a:srgbClr val="800000"/>
                </a:solidFill>
                <a:uFillTx/>
                <a:latin typeface="Calibri"/>
              </a:rPr>
              <a:t>МЯГКОЕ ОКИСЛЕНИЕ</a:t>
            </a:r>
            <a:r>
              <a:rPr b="1" lang="ru-RU" sz="2700" spc="-1" strike="noStrike">
                <a:solidFill>
                  <a:srgbClr val="800000"/>
                </a:solidFill>
                <a:latin typeface="Calibri"/>
              </a:rPr>
              <a:t> – ВЗАИМОДЕЙСТВИЕ С РАСТВОРОМ ПЕРМАНАГАНАТА КАЛ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=С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[O] + 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 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 - C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OH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этиленгликол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этандиол-1,2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!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чественная реакция на непредельность углеводород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кратную связ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01" name="Прямая со стрелкой 6"/>
          <p:cNvCxnSpPr/>
          <p:nvPr/>
        </p:nvCxnSpPr>
        <p:spPr>
          <a:xfrm>
            <a:off x="4214880" y="3714840"/>
            <a:ext cx="457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Прямая соединительная линия 8"/>
          <p:cNvSpPr/>
          <p:nvPr/>
        </p:nvSpPr>
        <p:spPr>
          <a:xfrm flipH="1">
            <a:off x="4857480" y="3857760"/>
            <a:ext cx="324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"/>
          <p:cNvSpPr/>
          <p:nvPr/>
        </p:nvSpPr>
        <p:spPr>
          <a:xfrm flipH="1">
            <a:off x="5714640" y="3929040"/>
            <a:ext cx="32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4647240" y="85716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акция Е.Е.Ваг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оксление марганцовкой этилена.avi" descr=""/>
          <p:cNvPicPr/>
          <p:nvPr/>
        </p:nvPicPr>
        <p:blipFill>
          <a:blip r:embed="rId1"/>
          <a:stretch/>
        </p:blipFill>
        <p:spPr>
          <a:xfrm>
            <a:off x="6357960" y="30718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5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именение этилена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990720"/>
          <a:ext cx="8686800" cy="5568840"/>
        </p:xfrm>
        <a:graphic>
          <a:graphicData uri="http://schemas.openxmlformats.org/drawingml/2006/table">
            <a:tbl>
              <a:tblPr/>
              <a:tblGrid>
                <a:gridCol w="2590920"/>
                <a:gridCol w="320040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имериз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изводство полиэтилена, пластм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Галоге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ение раствор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Гидрогалогени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местная анестезия, получения растворите-лей, в с/х для обеззараживания зернохранили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66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7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1362240" cy="99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8" descr=""/>
          <p:cNvPicPr/>
          <p:nvPr/>
        </p:nvPicPr>
        <p:blipFill>
          <a:blip r:embed="rId3"/>
          <a:stretch/>
        </p:blipFill>
        <p:spPr>
          <a:xfrm>
            <a:off x="6705720" y="335268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9" descr=""/>
          <p:cNvPicPr/>
          <p:nvPr/>
        </p:nvPicPr>
        <p:blipFill>
          <a:blip r:embed="rId4"/>
          <a:stretch/>
        </p:blipFill>
        <p:spPr>
          <a:xfrm>
            <a:off x="7467480" y="48769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4" descr=""/>
          <p:cNvPicPr/>
          <p:nvPr/>
        </p:nvPicPr>
        <p:blipFill>
          <a:blip r:embed="rId5"/>
          <a:stretch/>
        </p:blipFill>
        <p:spPr>
          <a:xfrm>
            <a:off x="6019920" y="5410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Задачи урока: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Образовательные – познакомить учащихся с гомологическим рядом алкенов, рассмотреть особенности их химического иэлектронного строения, изомерию и номенклатуру. Развить полученные ранее теоретические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редставления об изомерии и умения давать названия соединений по систематической номенклатуре, умения составлять уравнения химических реакций с участием непредельных углеводородов. Рассмотреть промышленные и лабораторные способы получения алкенов, развить общие представления о типах и механизмах химических реакций на примере алкенов. Показать место и значение алкенов среди углеводородов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304920"/>
          <a:ext cx="8229600" cy="5519520"/>
        </p:xfrm>
        <a:graphic>
          <a:graphicData uri="http://schemas.openxmlformats.org/drawingml/2006/table">
            <a:tbl>
              <a:tblPr/>
              <a:tblGrid>
                <a:gridCol w="2133720"/>
                <a:gridCol w="3352680"/>
                <a:gridCol w="27432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Гидра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ение этилового спирта, используемого как растворитель, анти-септик в медицине , в производстве синтетического кауч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Окисление раствор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ение антифризов, тормозных жидкостей, в производстве пластм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Особое свойство этиле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илен  ускоряет созревание плодов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Picture 38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9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447920" cy="113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0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1" descr=""/>
          <p:cNvPicPr/>
          <p:nvPr/>
        </p:nvPicPr>
        <p:blipFill>
          <a:blip r:embed="rId4"/>
          <a:stretch/>
        </p:blipFill>
        <p:spPr>
          <a:xfrm>
            <a:off x="7238880" y="198108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1" descr=""/>
          <p:cNvPicPr/>
          <p:nvPr/>
        </p:nvPicPr>
        <p:blipFill>
          <a:blip r:embed="rId5"/>
          <a:stretch/>
        </p:blipFill>
        <p:spPr>
          <a:xfrm>
            <a:off x="5943600" y="2895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2" descr=""/>
          <p:cNvPicPr/>
          <p:nvPr/>
        </p:nvPicPr>
        <p:blipFill>
          <a:blip r:embed="rId6"/>
          <a:stretch/>
        </p:blipFill>
        <p:spPr>
          <a:xfrm>
            <a:off x="7315200" y="3124080"/>
            <a:ext cx="1371600" cy="1200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7" descr=""/>
          <p:cNvPicPr/>
          <p:nvPr/>
        </p:nvPicPr>
        <p:blipFill>
          <a:blip r:embed="rId7"/>
          <a:stretch/>
        </p:blipFill>
        <p:spPr>
          <a:xfrm>
            <a:off x="6172200" y="441972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50880" y="1752480"/>
            <a:ext cx="849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c00000"/>
                </a:solidFill>
                <a:latin typeface="Century Schoolbook"/>
              </a:rPr>
              <a:t>       </a:t>
            </a:r>
            <a:r>
              <a:rPr b="1" lang="ru-RU" sz="2000" spc="-1" strike="noStrike" baseline="-25000">
                <a:solidFill>
                  <a:srgbClr val="c00000"/>
                </a:solidFill>
                <a:latin typeface="Century Schoolbook"/>
              </a:rPr>
              <a:t>1                2       3             4              5            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═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ru-RU" sz="2000" spc="-1" strike="noStrike" baseline="-25000">
                <a:solidFill>
                  <a:srgbClr val="ff5050"/>
                </a:solidFill>
                <a:latin typeface="Century Schoolbook"/>
              </a:rPr>
              <a:t>1                     4               5              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)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         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1" lang="ru-RU" sz="2000" spc="-1" strike="noStrike" baseline="-25000">
                <a:solidFill>
                  <a:srgbClr val="ff5050"/>
                </a:solidFill>
                <a:latin typeface="Century Schoolbook"/>
              </a:rPr>
              <a:t>2          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═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ru-RU" sz="2000" spc="-1" strike="noStrike" baseline="-25000">
                <a:solidFill>
                  <a:srgbClr val="ff5050"/>
                </a:solidFill>
                <a:latin typeface="Century Schoolbook"/>
              </a:rPr>
              <a:t>2         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═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5050"/>
                </a:solidFill>
                <a:latin typeface="Century Schoolbook"/>
              </a:rPr>
              <a:t>                                             </a:t>
            </a:r>
            <a:r>
              <a:rPr b="1" lang="ru-RU" sz="2000" spc="-1" strike="noStrike" baseline="-25000">
                <a:solidFill>
                  <a:srgbClr val="ff5050"/>
                </a:solidFill>
                <a:latin typeface="Century Schoolbook"/>
              </a:rPr>
              <a:t>3            4               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2920" y="3716280"/>
            <a:ext cx="403236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Calibri"/>
              </a:rPr>
              <a:t>Ответы:</a:t>
            </a:r>
            <a:r>
              <a:rPr b="0" lang="ru-RU" sz="2800" spc="-1" strike="noStrike">
                <a:solidFill>
                  <a:srgbClr val="f67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,5-диметилгексен-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цис-изомер-гексен-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3-метил-2-этилпентен-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2700360" y="5445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1979640" y="2421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3851280" y="2421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"/>
          <p:cNvSpPr/>
          <p:nvPr/>
        </p:nvSpPr>
        <p:spPr>
          <a:xfrm flipH="1">
            <a:off x="2411280" y="3573360"/>
            <a:ext cx="14472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2"/>
          <p:cNvSpPr/>
          <p:nvPr/>
        </p:nvSpPr>
        <p:spPr>
          <a:xfrm>
            <a:off x="1591200" y="3584160"/>
            <a:ext cx="134280" cy="26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3"/>
          <p:cNvSpPr/>
          <p:nvPr/>
        </p:nvSpPr>
        <p:spPr>
          <a:xfrm flipH="1">
            <a:off x="1547280" y="4149720"/>
            <a:ext cx="14292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484360" y="4149720"/>
            <a:ext cx="1447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следующие алкены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979640" y="2420640"/>
            <a:ext cx="518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Н=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+ НС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=СН-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+ Н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Н=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+ НОН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8360" y="4365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Century Schoolbook"/>
              </a:rPr>
              <a:t>Ответы:</a:t>
            </a:r>
            <a:r>
              <a:rPr b="0" lang="ru-RU" sz="2800" spc="-1" strike="noStrike">
                <a:solidFill>
                  <a:srgbClr val="101122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=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Н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СН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+ Н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=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НО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Н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14200" y="285840"/>
            <a:ext cx="8325000" cy="163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спользуя правило Марковникова, напишите уравнения следующих реакций присоеди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6929280" y="5643720"/>
            <a:ext cx="648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лево 5">
            <a:hlinkClick r:id="rId1" action="ppaction://hlinksldjump"/>
          </p:cNvPr>
          <p:cNvSpPr/>
          <p:nvPr/>
        </p:nvSpPr>
        <p:spPr>
          <a:xfrm>
            <a:off x="7215120" y="6357960"/>
            <a:ext cx="857160" cy="2142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75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75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75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ДОМАШНЕЕ ЗАДАНИЕ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229280" y="285840"/>
            <a:ext cx="491472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929040" y="499680"/>
            <a:ext cx="521496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Century Schoolbook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Century Schoolbook"/>
              </a:rPr>
              <a:t>ЗА РАБОТУ!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Задачи урока: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ьные – продолжить формирование естественнонаучной картины мира, способствовать эстетическому воспитанию учащихся (оформление записей лекционного материала и т.п.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вающие – на основе теоретических знаний развивать умения учащихся наблюдать, сравнивать, анализировать, обобщать, логически рассуждать, устанавливать взаимосвязь строения и свойств вещест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сновное содержание лекции: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7440" y="49968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онятие о непредельных углеводорода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Характеристика двойной связи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Изомерия и номенклатура алкено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Физические свойств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олучение алкено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войства алкено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468000" indent="-468000">
              <a:spcBef>
                <a:spcPts val="75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рименение алкено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Стрелка вправо 3">
            <a:hlinkClick r:id="rId1" action="ppaction://hlinksldjump"/>
          </p:cNvPr>
          <p:cNvSpPr/>
          <p:nvPr/>
        </p:nvSpPr>
        <p:spPr>
          <a:xfrm>
            <a:off x="2214720" y="6429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нятие об алкенах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57440" y="428400"/>
            <a:ext cx="47862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Алкены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– углеводороды, содержащие в молекуле одну двойную связь между атомами углерода, а качественный и количественный состав выражается общей формулой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С</a:t>
            </a:r>
            <a:r>
              <a:rPr b="1" lang="en-US" sz="2700" spc="-1" strike="noStrike" baseline="-25000">
                <a:solidFill>
                  <a:srgbClr val="cc00ff"/>
                </a:solidFill>
                <a:latin typeface="Century Schoolbook"/>
              </a:rPr>
              <a:t>n</a:t>
            </a: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Н</a:t>
            </a:r>
            <a:r>
              <a:rPr b="1" lang="en-US" sz="2700" spc="-1" strike="noStrike" baseline="-25000">
                <a:solidFill>
                  <a:srgbClr val="cc00ff"/>
                </a:solidFill>
                <a:latin typeface="Century Schoolbook"/>
              </a:rPr>
              <a:t>2n</a:t>
            </a: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, где </a:t>
            </a:r>
            <a:r>
              <a:rPr b="1" lang="en-US" sz="2700" spc="-1" strike="noStrike">
                <a:solidFill>
                  <a:srgbClr val="cc00ff"/>
                </a:solidFill>
                <a:latin typeface="Century Schoolbook"/>
              </a:rPr>
              <a:t>n </a:t>
            </a:r>
            <a:r>
              <a:rPr b="1" lang="en-US" sz="2700" spc="-1" strike="noStrike">
                <a:solidFill>
                  <a:srgbClr val="cc00ff"/>
                </a:solidFill>
                <a:latin typeface="Century Schoolbook"/>
                <a:ea typeface="Arial"/>
              </a:rPr>
              <a:t>≥ </a:t>
            </a: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c00ff"/>
                </a:solidFill>
                <a:latin typeface="Century Schoolbook"/>
              </a:rPr>
              <a:t>Алкены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относятся к непредельным углеводородам, так как их молекулы содержат меньшее число атомов водорода, чем насыщенные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286160" y="285840"/>
            <a:ext cx="4857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ид гибридизации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алентный уго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лина связ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 = С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роен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ид связи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 типу перекрывания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Характерис-тика двойной  связи (С=С)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6676920" y="285840"/>
            <a:ext cx="2457720" cy="6296400"/>
            <a:chOff x="6676920" y="285840"/>
            <a:chExt cx="2457720" cy="6296400"/>
          </a:xfrm>
        </p:grpSpPr>
        <p:sp>
          <p:nvSpPr>
            <p:cNvPr id="147" name="Text Box 4"/>
            <p:cNvSpPr/>
            <p:nvPr/>
          </p:nvSpPr>
          <p:spPr>
            <a:xfrm>
              <a:off x="8072640" y="2858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ff"/>
                  </a:solidFill>
                  <a:latin typeface="Calibri"/>
                </a:rPr>
                <a:t>sp</a:t>
              </a:r>
              <a:r>
                <a:rPr b="0" lang="ru-RU" sz="3200" spc="-1" strike="noStrike" baseline="30000">
                  <a:solidFill>
                    <a:srgbClr val="cc00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7734960" y="135720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120</a:t>
              </a:r>
              <a:r>
                <a:rPr b="0" lang="en-US" sz="3200" spc="-1" strike="noStrike">
                  <a:solidFill>
                    <a:srgbClr val="cc00ff"/>
                  </a:solidFill>
                  <a:latin typeface="Calibri"/>
                </a:rPr>
                <a:t>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6848280" y="2786040"/>
              <a:ext cx="16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0,134 н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6697800" y="3429000"/>
              <a:ext cx="23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плоскос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6676920" y="4286160"/>
              <a:ext cx="2457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ковалентна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неполяр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7372800" y="6000840"/>
              <a:ext cx="108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cc00ff"/>
                  </a:solidFill>
                  <a:latin typeface="Georgia"/>
                </a:rPr>
                <a:t>σ</a:t>
              </a: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ru-RU" sz="3200" spc="-1" strike="noStrike">
                  <a:solidFill>
                    <a:srgbClr val="cc00ff"/>
                  </a:solidFill>
                  <a:latin typeface="Calibri"/>
                </a:rPr>
                <a:t> </a:t>
              </a:r>
              <a:r>
                <a:rPr b="0" lang="el-GR" sz="3200" spc="-1" strike="noStrike">
                  <a:solidFill>
                    <a:srgbClr val="cc00ff"/>
                  </a:solidFill>
                  <a:latin typeface="Georgia"/>
                </a:rPr>
                <a:t>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32148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Схема образования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sp</a:t>
            </a:r>
            <a:r>
              <a:rPr b="1" lang="ru-RU" sz="2000" spc="-1" strike="noStrike" baseline="30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-гибридных орбиталей</a:t>
            </a:r>
            <a:endParaRPr b="1" lang="en-US" sz="20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154" name="Picture 2" descr="C:\Documents and Settings\olga\Рабочий стол\конкурс\алкен\алкен.GIF"/>
          <p:cNvPicPr/>
          <p:nvPr/>
        </p:nvPicPr>
        <p:blipFill>
          <a:blip r:embed="rId1"/>
          <a:stretch/>
        </p:blipFill>
        <p:spPr>
          <a:xfrm>
            <a:off x="2786040" y="1928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хема образования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sp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-гибридных орбиталей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156" name="этилен.avi" descr=""/>
          <p:cNvPicPr/>
          <p:nvPr/>
        </p:nvPicPr>
        <p:blipFill>
          <a:blip r:embed="rId1"/>
          <a:stretch/>
        </p:blipFill>
        <p:spPr>
          <a:xfrm>
            <a:off x="4857840" y="2214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7:46:49Z</dcterms:created>
  <dc:creator>Дубровина О.В.</dc:creator>
  <dc:description/>
  <dc:language>en-US</dc:language>
  <cp:lastModifiedBy>Retro</cp:lastModifiedBy>
  <dcterms:modified xsi:type="dcterms:W3CDTF">2014-12-22T09:10:56Z</dcterms:modified>
  <cp:revision>12</cp:revision>
  <dc:subject/>
  <dc:title>АЛКЕНЫ – НЕПРЕДЕЛЬНЫЕ УГЛЕВОДОРОДЫ. ПОЛУЧЕНИЕ, ХИМИЧЕСКИЕ СВОЙСТВА И ПРИМЕНЕНИЕ.</dc:title>
</cp:coreProperties>
</file>