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427-BBC4-4214-8337-C3A128BEBD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37E8-05CC-4E61-983A-FBB8A4665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109-20E2-4782-A449-0951A996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CAF-AB72-4E9A-990E-CC74F45F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C21-7A6D-46F8-ABDD-3078AC66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2B0-418C-4F57-9DDA-9B121E4B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82A-C725-4335-8369-77D8A941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F3F8-D9A0-4A42-A6DD-E0DCB76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9D4D-5FB1-42B9-8EFA-4C16549A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CFF-DCA1-4B3A-AD9A-D14CD62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128D-8504-43E3-8A31-D5DCBE01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F371-A45F-4511-8B38-FBDAC8CD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166-5754-4E24-9130-3694BB6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F07-86B0-4BA6-B539-0836D205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A587-88E2-46C7-9C25-FDB8BB7E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B8D6-B515-40C3-BA3C-8F3A1EE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38D-6D0D-4177-AA53-2B0B44A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85B7-651A-422E-985D-BB0E8C8A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0B91-347A-41EA-BE80-241CB66B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C8E9-3F7D-4D2F-88AD-E6C031F3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F119-280B-4530-91C2-725CC70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B1C3-769E-49AC-8C1F-7D2B6C5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0A1E-9A9F-4C53-8B72-41916AF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B09B-B193-4968-8F8C-8BDCEBC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7D9-CFCC-4C17-8CF6-6C7820B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89A7-3576-4E24-9918-FF6AD344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C9B5-7593-40ED-AD1B-502345F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760C-696A-44D1-9F7C-6181F34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E164-6239-449F-9B69-A76E812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1794-BB90-4499-BBAF-D6FC3C5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0AB2-5702-4F9C-B6A9-895C5651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D323-EFC2-4283-97E0-F86E2B32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73E-C810-49D5-A599-7CE9B26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83C-3A19-4806-A526-7DAEF26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7B0-5528-4BFB-89C1-A2F433D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A47-68B2-4A5F-9004-D38DEE3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987-159F-4B7C-8D45-912A92A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5A8-4F5B-44D4-A7C2-C6E4084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768-A8EB-4CD6-8F90-53FFF5106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F10-4222-4AC1-A4F0-17A320F4E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7691-C46A-4FE1-907F-D973DD529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440" y="1356840"/>
            <a:ext cx="71434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«Азбука дорожного движения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0721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Отчет о проведенных мероприятия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средней группы №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Воспитатель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900" spc="-1" strike="noStrike">
                <a:solidFill>
                  <a:srgbClr val="10253f"/>
                </a:solidFill>
                <a:latin typeface="Calibri"/>
              </a:rPr>
              <a:t>Рокоман М.Г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50"/>
                </a:solidFill>
                <a:latin typeface="Calibri"/>
              </a:rPr>
              <a:t>Сентябрь 2015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599840"/>
            <a:ext cx="55436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бъяснить надо запрост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Будь ты юн или ста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Мостовые – для транспорт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Для тебя – троту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ди через улицу там, пешехо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де знаком указан тебе переход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go3.imgsmail.ru/imgpreview?key=3acffc3f2c3089e&amp;mb=imgdb_preview_601"/>
          <p:cNvPicPr/>
          <p:nvPr/>
        </p:nvPicPr>
        <p:blipFill>
          <a:blip r:embed="rId1"/>
          <a:stretch/>
        </p:blipFill>
        <p:spPr>
          <a:xfrm>
            <a:off x="5857920" y="1500120"/>
            <a:ext cx="3119400" cy="2524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go4.imgsmail.ru/imgpreview?key=63daae172c7222a4&amp;mb=imgdb_preview_424"/>
          <p:cNvPicPr/>
          <p:nvPr/>
        </p:nvPicPr>
        <p:blipFill>
          <a:blip r:embed="rId2"/>
          <a:stretch/>
        </p:blipFill>
        <p:spPr>
          <a:xfrm>
            <a:off x="214200" y="4643280"/>
            <a:ext cx="217656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go3.imgsmail.ru/imgpreview?key=12a3295f794d9ce9&amp;mb=imgdb_preview_629"/>
          <p:cNvPicPr/>
          <p:nvPr/>
        </p:nvPicPr>
        <p:blipFill>
          <a:blip r:embed="rId3"/>
          <a:stretch/>
        </p:blipFill>
        <p:spPr>
          <a:xfrm>
            <a:off x="6072120" y="4205160"/>
            <a:ext cx="2500560" cy="26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User\AppData\Local\Microsoft\Windows\Temporary Internet Files\Content.IE5\N7MTO0RB\2_1230612812-18379[2].wpic"/>
          <p:cNvPicPr/>
          <p:nvPr/>
        </p:nvPicPr>
        <p:blipFill>
          <a:blip r:embed="rId4"/>
          <a:stretch/>
        </p:blipFill>
        <p:spPr>
          <a:xfrm>
            <a:off x="3371760" y="4906800"/>
            <a:ext cx="20955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тение художественной лит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071720" y="1214280"/>
            <a:ext cx="70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С. Михалков «Светоф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М. Пляцковский «Три горящих ц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С. Михалков «Скверная истор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К. Чуковский «Айбол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Я. Пишумов «Азбука 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Н. Сорокин «Для пешеход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Arial"/>
              </a:rPr>
              <a:t>Я. Пишумов «Просто это знак так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:\Users\User\AppData\Local\Microsoft\Windows\Temporary Internet Files\Content.IE5\N7MTO0RB\2_1230612812-18379[1].wpic"/>
          <p:cNvPicPr/>
          <p:nvPr/>
        </p:nvPicPr>
        <p:blipFill>
          <a:blip r:embed="rId1"/>
          <a:stretch/>
        </p:blipFill>
        <p:spPr>
          <a:xfrm>
            <a:off x="6143760" y="4357800"/>
            <a:ext cx="2095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чите вместе с 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1071720" y="1143000"/>
            <a:ext cx="6864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свет зажегся красн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начит, двигаться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Желтый свет – предупреж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Жди сигнала для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вет зеленый гово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Проходите , путь откры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. Миха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C:\Users\User\AppData\Local\Microsoft\Windows\Temporary Internet Files\Content.IE5\LSW4BM6B\%D1%81%D0%B2%D0%B5%D1%82%D0%BE%D1%84%D0%BE%D1%802[1].jpg"/>
          <p:cNvPicPr/>
          <p:nvPr/>
        </p:nvPicPr>
        <p:blipFill>
          <a:blip r:embed="rId1"/>
          <a:stretch/>
        </p:blipFill>
        <p:spPr>
          <a:xfrm>
            <a:off x="6929280" y="4143240"/>
            <a:ext cx="12988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8520" y="999720"/>
            <a:ext cx="5715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знакомление с пословицами и поговорками о П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28560" y="2142720"/>
            <a:ext cx="47149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Тише едешь – дальше        буд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Берегись бед, пока их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равила движения каждый должен знать обязательно на «Пять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Осторожность – мать безопа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http://go2.imgsmail.ru/imgpreview?key=6fff368f65d0e905&amp;mb=imgdb_preview_234"/>
          <p:cNvPicPr/>
          <p:nvPr/>
        </p:nvPicPr>
        <p:blipFill>
          <a:blip r:embed="rId1"/>
          <a:stretch/>
        </p:blipFill>
        <p:spPr>
          <a:xfrm>
            <a:off x="6072120" y="4199040"/>
            <a:ext cx="3071880" cy="265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go1.imgsmail.ru/imgpreview?key=370c17450474b5f4&amp;mb=imgdb_preview_826"/>
          <p:cNvPicPr/>
          <p:nvPr/>
        </p:nvPicPr>
        <p:blipFill>
          <a:blip r:embed="rId2"/>
          <a:stretch/>
        </p:blipFill>
        <p:spPr>
          <a:xfrm>
            <a:off x="214200" y="1785960"/>
            <a:ext cx="221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28520" y="999720"/>
            <a:ext cx="5715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знакомление с пословицами и поговорками о П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28560" y="2142720"/>
            <a:ext cx="47149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Тише едешь – дальше        буд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Берегись бед, пока их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равила движения каждый должен знать обязательно на «Пять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Осторожность – мать безопа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http://go2.imgsmail.ru/imgpreview?key=6fff368f65d0e905&amp;mb=imgdb_preview_234"/>
          <p:cNvPicPr/>
          <p:nvPr/>
        </p:nvPicPr>
        <p:blipFill>
          <a:blip r:embed="rId1"/>
          <a:stretch/>
        </p:blipFill>
        <p:spPr>
          <a:xfrm>
            <a:off x="6072120" y="4199040"/>
            <a:ext cx="3071880" cy="265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go1.imgsmail.ru/imgpreview?key=370c17450474b5f4&amp;mb=imgdb_preview_826"/>
          <p:cNvPicPr/>
          <p:nvPr/>
        </p:nvPicPr>
        <p:blipFill>
          <a:blip r:embed="rId2"/>
          <a:stretch/>
        </p:blipFill>
        <p:spPr>
          <a:xfrm>
            <a:off x="214200" y="1785960"/>
            <a:ext cx="221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движные иг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400" y="1499760"/>
            <a:ext cx="81867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Воробышки и автомобил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Светофо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Цветные автомоби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http://go4.imgsmail.ru/imgpreview?key=488b112086a3513c&amp;mb=imgdb_preview_746"/>
          <p:cNvPicPr/>
          <p:nvPr/>
        </p:nvPicPr>
        <p:blipFill>
          <a:blip r:embed="rId1"/>
          <a:stretch/>
        </p:blipFill>
        <p:spPr>
          <a:xfrm>
            <a:off x="4357800" y="3273480"/>
            <a:ext cx="4786200" cy="358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http://go1.imgsmail.ru/imgpreview?key=763a0b8d7434e646&amp;mb=imgdb_preview_1046"/>
          <p:cNvPicPr/>
          <p:nvPr/>
        </p:nvPicPr>
        <p:blipFill>
          <a:blip r:embed="rId2"/>
          <a:stretch/>
        </p:blipFill>
        <p:spPr>
          <a:xfrm>
            <a:off x="642960" y="3286080"/>
            <a:ext cx="30002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Дидактические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999800"/>
            <a:ext cx="59007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«Подумай – отгада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«Красный и зеле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«Собери машинку из кубик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«Улицы моего города» (макет иг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«Грузовой транспо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go1.imgsmail.ru/imgpreview?key=35ad5dc7b323fbad&amp;mb=imgdb_preview_8"/>
          <p:cNvPicPr/>
          <p:nvPr/>
        </p:nvPicPr>
        <p:blipFill>
          <a:blip r:embed="rId1"/>
          <a:stretch/>
        </p:blipFill>
        <p:spPr>
          <a:xfrm>
            <a:off x="5572080" y="4146480"/>
            <a:ext cx="3429000" cy="2711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User\AppData\Local\Microsoft\Windows\Temporary Internet Files\Content.IE5\LSW4BM6B\1.8_%28Road_sign%29[1].png"/>
          <p:cNvPicPr/>
          <p:nvPr/>
        </p:nvPicPr>
        <p:blipFill>
          <a:blip r:embed="rId2"/>
          <a:stretch/>
        </p:blipFill>
        <p:spPr>
          <a:xfrm>
            <a:off x="428760" y="5000760"/>
            <a:ext cx="20001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Users\User\Desktop\IMG_2483.JPG"/>
          <p:cNvPicPr/>
          <p:nvPr/>
        </p:nvPicPr>
        <p:blipFill>
          <a:blip r:embed="rId1"/>
          <a:stretch/>
        </p:blipFill>
        <p:spPr>
          <a:xfrm>
            <a:off x="214200" y="15001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User\Desktop\IMG_2489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User\AppData\Local\Microsoft\Windows\Temporary Internet Files\Content.IE5\LSW4BM6B\%D1%81%D0%B2%D0%B5%D1%82%D0%BE%D1%84%D0%BE%D1%802[1].jpg"/>
          <p:cNvPicPr/>
          <p:nvPr/>
        </p:nvPicPr>
        <p:blipFill>
          <a:blip r:embed="rId3"/>
          <a:stretch/>
        </p:blipFill>
        <p:spPr>
          <a:xfrm>
            <a:off x="1157400" y="5013360"/>
            <a:ext cx="11286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Просмотр мультфиль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2071800"/>
            <a:ext cx="45435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еселый светоф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аша и Медвед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у, пого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окодил Ге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Users\User\Desktop\IMG_2417.JPG"/>
          <p:cNvPicPr/>
          <p:nvPr/>
        </p:nvPicPr>
        <p:blipFill>
          <a:blip r:embed="rId1"/>
          <a:stretch/>
        </p:blipFill>
        <p:spPr>
          <a:xfrm rot="5613600">
            <a:off x="4888800" y="25462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840" y="1143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Рассматр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C:\Users\User\Desktop\IMG_2484.JPG"/>
          <p:cNvPicPr/>
          <p:nvPr/>
        </p:nvPicPr>
        <p:blipFill>
          <a:blip r:embed="rId1"/>
          <a:stretch/>
        </p:blipFill>
        <p:spPr>
          <a:xfrm rot="9628800">
            <a:off x="510480" y="2697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User\Desktop\IMG_2481.JPG"/>
          <p:cNvPicPr/>
          <p:nvPr/>
        </p:nvPicPr>
        <p:blipFill>
          <a:blip r:embed="rId2"/>
          <a:stretch/>
        </p:blipFill>
        <p:spPr>
          <a:xfrm rot="6445200">
            <a:off x="4745880" y="2844000"/>
            <a:ext cx="41623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5968"/>
                </a:solidFill>
                <a:latin typeface="Calibri"/>
              </a:rPr>
              <a:t>Психологи утверждают: у малыша дошкольного возраста поле зрения сужено. Поэтому он не может даже приблизительно определить  расстояние к приближающему транспортному средству. </a:t>
            </a:r>
            <a:br>
              <a:rPr sz="2800"/>
            </a:br>
            <a:r>
              <a:rPr b="0" i="1" lang="ru-RU" sz="2800" spc="-1" strike="noStrike">
                <a:solidFill>
                  <a:srgbClr val="215968"/>
                </a:solidFill>
                <a:latin typeface="Calibri"/>
              </a:rPr>
              <a:t>Даже если ребенок смотрит на машину, это совсем не значит, что он ее видит. Увлеченный собственными мыслями, внутренними переживаниями, часто он просто не замечает автомоби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Прослушивание пес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2071800"/>
            <a:ext cx="5257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«Песенка Незнай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(Муз. Г. Дементьев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«Светофо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go4.imgsmail.ru/imgpreview?key=74da48d7732ebe68&amp;mb=imgdb_preview_1088"/>
          <p:cNvPicPr/>
          <p:nvPr/>
        </p:nvPicPr>
        <p:blipFill>
          <a:blip r:embed="rId1"/>
          <a:stretch/>
        </p:blipFill>
        <p:spPr>
          <a:xfrm>
            <a:off x="428760" y="4000680"/>
            <a:ext cx="3058920" cy="2290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User\AppData\Local\Microsoft\Windows\Temporary Internet Files\Content.IE5\VRN925K6\120px-Bicycle_Traffic_Light[1].jpg"/>
          <p:cNvPicPr/>
          <p:nvPr/>
        </p:nvPicPr>
        <p:blipFill>
          <a:blip r:embed="rId2"/>
          <a:stretch/>
        </p:blipFill>
        <p:spPr>
          <a:xfrm>
            <a:off x="6399360" y="2428920"/>
            <a:ext cx="25477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9760" y="785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апка-передвижк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Безопасность дорожного  движ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D:\Docx\Desktop\IMG_2515.JPG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http://go4.imgsmail.ru/imgpreview?key=445de3f03cd9c0a7&amp;mb=imgdb_preview_1780"/>
          <p:cNvPicPr/>
          <p:nvPr/>
        </p:nvPicPr>
        <p:blipFill>
          <a:blip r:embed="rId1"/>
          <a:stretch/>
        </p:blipFill>
        <p:spPr>
          <a:xfrm>
            <a:off x="4500720" y="3429000"/>
            <a:ext cx="3719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Малыши в дошкольном возрасте совсем не воспринимают машину как угрозу: они еще не знают, что такое смерть, страдания и боль. Какой-то мяч для них значительно важнее, чем жизнь и здоровье. Поэтому приоритетным заданием в воспитании ребенка е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развитие в нем умения правильно оценивать ситуац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умело действовать в неординарной ситуации, не подвергая свою жизнь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ОД на тему: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Пешеходный перехо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1705320" y="3193920"/>
            <a:ext cx="39718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дать детям представление о пешеходном переходе, знаке, как правильно переходить дорогу; воспитывать у детей культуру поведения на ули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D:\Docx\Desktop\IMG_2505.JPG"/>
          <p:cNvPicPr/>
          <p:nvPr/>
        </p:nvPicPr>
        <p:blipFill>
          <a:blip r:embed="rId1"/>
          <a:stretch/>
        </p:blipFill>
        <p:spPr>
          <a:xfrm rot="5899200">
            <a:off x="5168160" y="2722320"/>
            <a:ext cx="4213080" cy="315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D:\Docx\Desktop\IMG_2494.JPG"/>
          <p:cNvPicPr/>
          <p:nvPr/>
        </p:nvPicPr>
        <p:blipFill>
          <a:blip r:embed="rId2"/>
          <a:stretch/>
        </p:blipFill>
        <p:spPr>
          <a:xfrm>
            <a:off x="250920" y="3716280"/>
            <a:ext cx="3997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:\Docx\Desktop\IMG_2502.JPG"/>
          <p:cNvPicPr/>
          <p:nvPr/>
        </p:nvPicPr>
        <p:blipFill>
          <a:blip r:embed="rId2"/>
          <a:stretch/>
        </p:blipFill>
        <p:spPr>
          <a:xfrm>
            <a:off x="468360" y="1424160"/>
            <a:ext cx="3743280" cy="499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D:\Docx\Desktop\IMG_2504.JPG"/>
          <p:cNvPicPr/>
          <p:nvPr/>
        </p:nvPicPr>
        <p:blipFill>
          <a:blip r:embed="rId3"/>
          <a:stretch/>
        </p:blipFill>
        <p:spPr>
          <a:xfrm>
            <a:off x="5148360" y="1460520"/>
            <a:ext cx="3716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:\Docx\Desktop\IMG_2499.JPG"/>
          <p:cNvPicPr/>
          <p:nvPr/>
        </p:nvPicPr>
        <p:blipFill>
          <a:blip r:embed="rId2"/>
          <a:stretch/>
        </p:blipFill>
        <p:spPr>
          <a:xfrm>
            <a:off x="1187280" y="1413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ппликация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Мой друг – светоф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User\Desktop\IMG_2431.JPG"/>
          <p:cNvPicPr/>
          <p:nvPr/>
        </p:nvPicPr>
        <p:blipFill>
          <a:blip r:embed="rId1"/>
          <a:stretch/>
        </p:blipFill>
        <p:spPr>
          <a:xfrm rot="3864600">
            <a:off x="200520" y="259776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User\Desktop\IMG_2435.JPG"/>
          <p:cNvPicPr/>
          <p:nvPr/>
        </p:nvPicPr>
        <p:blipFill>
          <a:blip r:embed="rId2"/>
          <a:stretch/>
        </p:blipFill>
        <p:spPr>
          <a:xfrm>
            <a:off x="5321160" y="2031840"/>
            <a:ext cx="3322800" cy="4497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User\AppData\Local\Microsoft\Windows\Temporary Internet Files\Content.IE5\LSW4BM6B\1.8_%28Road_sign%29[1].png"/>
          <p:cNvPicPr/>
          <p:nvPr/>
        </p:nvPicPr>
        <p:blipFill>
          <a:blip r:embed="rId3"/>
          <a:stretch/>
        </p:blipFill>
        <p:spPr>
          <a:xfrm rot="19970400">
            <a:off x="3844440" y="1906560"/>
            <a:ext cx="1116000" cy="1149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User\AppData\Local\Microsoft\Windows\Temporary Internet Files\Content.IE5\LSW4BM6B\%D1%81%D0%B2%D0%B5%D1%82%D0%BE%D1%84%D0%BE%D1%802[1].jpg"/>
          <p:cNvPicPr/>
          <p:nvPr/>
        </p:nvPicPr>
        <p:blipFill>
          <a:blip r:embed="rId4"/>
          <a:stretch/>
        </p:blipFill>
        <p:spPr>
          <a:xfrm>
            <a:off x="4214880" y="5286240"/>
            <a:ext cx="895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User\Desktop\IMG_2441.JPG"/>
          <p:cNvPicPr/>
          <p:nvPr/>
        </p:nvPicPr>
        <p:blipFill>
          <a:blip r:embed="rId1"/>
          <a:stretch/>
        </p:blipFill>
        <p:spPr>
          <a:xfrm>
            <a:off x="857160" y="1214280"/>
            <a:ext cx="7304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еседа «Дорожные зна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User\Desktop\IMG_2476.JPG"/>
          <p:cNvPicPr/>
          <p:nvPr/>
        </p:nvPicPr>
        <p:blipFill>
          <a:blip r:embed="rId1"/>
          <a:stretch/>
        </p:blipFill>
        <p:spPr>
          <a:xfrm rot="5238600">
            <a:off x="-109440" y="2692440"/>
            <a:ext cx="3868560" cy="2900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Users\User\Desktop\IMG_2478.JPG"/>
          <p:cNvPicPr/>
          <p:nvPr/>
        </p:nvPicPr>
        <p:blipFill>
          <a:blip r:embed="rId2"/>
          <a:stretch/>
        </p:blipFill>
        <p:spPr>
          <a:xfrm rot="5596800">
            <a:off x="5180040" y="2945880"/>
            <a:ext cx="4044960" cy="3035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Users\User\AppData\Local\Microsoft\Windows\Temporary Internet Files\Content.IE5\LSW4BM6B\%D1%81%D0%B2%D0%B5%D1%82%D0%BE%D1%84%D0%BE%D1%802[1].jpg"/>
          <p:cNvPicPr/>
          <p:nvPr/>
        </p:nvPicPr>
        <p:blipFill>
          <a:blip r:embed="rId3"/>
          <a:stretch/>
        </p:blipFill>
        <p:spPr>
          <a:xfrm>
            <a:off x="3643200" y="5357880"/>
            <a:ext cx="7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User\AppData\Local\Microsoft\Windows\Temporary Internet Files\Content.IE5\LSW4BM6B\1.8_%28Road_sign%29[1].png"/>
          <p:cNvPicPr/>
          <p:nvPr/>
        </p:nvPicPr>
        <p:blipFill>
          <a:blip r:embed="rId4"/>
          <a:stretch/>
        </p:blipFill>
        <p:spPr>
          <a:xfrm>
            <a:off x="7729560" y="13604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Users\User\AppData\Local\Microsoft\Windows\Temporary Internet Files\Content.IE5\N7MTO0RB\2_1230612812-18379[2].wpic"/>
          <p:cNvPicPr/>
          <p:nvPr/>
        </p:nvPicPr>
        <p:blipFill>
          <a:blip r:embed="rId5"/>
          <a:stretch/>
        </p:blipFill>
        <p:spPr>
          <a:xfrm>
            <a:off x="3357720" y="2143080"/>
            <a:ext cx="18208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</cp:lastModifiedBy>
  <cp:lastPrinted>2015-12-16T12:17:56Z</cp:lastPrinted>
  <dcterms:modified xsi:type="dcterms:W3CDTF">2017-12-20T20:08:04Z</dcterms:modified>
  <cp:revision>16</cp:revision>
  <dc:subject/>
  <dc:title>Слайд 1</dc:title>
</cp:coreProperties>
</file>