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299-C5A6-46B7-92C2-99277FEB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2E1-5A77-42A5-99E3-CD8055A0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5D5-9A92-4CC7-8E20-7C03A3C7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8F1-7269-4BD2-800F-051C25BB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A39-668B-4B92-92E8-D75828CF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352-5D89-40BD-970E-3E8BFEE3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0FA-5630-4FC2-AF2F-EBC7DB0C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35C-E3F4-471F-88E9-BB9649C0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37C-7867-47A9-8BEA-081157F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D0A-6C7A-42D0-9148-4868993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B33-EF91-415E-8F88-1419D64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699-E545-4B1E-81F7-F51D986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FFD-1F77-4B15-A3CD-51989AA91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yandex.ru/images?parent-reqid=1513592401603695-1118709950241342125503285-sas1-1744&amp;source=wiz" TargetMode="External"/><Relationship Id="rId3" Type="http://schemas.openxmlformats.org/officeDocument/2006/relationships/hyperlink" Target="https://yandex.ru/images?parent-reqid=1513592401603695-1118709950241342125503285-sas1-1744&amp;source=wiz" TargetMode="External"/><Relationship Id="rId4" Type="http://schemas.openxmlformats.org/officeDocument/2006/relationships/hyperlink" Target="https://yandex.ru/images?parent-reqid=1513592401603695-1118709950241342125503285-sas1-1744&amp;source=wiz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7432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Диагнос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речевого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детей 6 – 7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752480" y="4952880"/>
            <a:ext cx="708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учитель – логопед МКДОУ детского сада «Березк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г. Вихоревка Финкельштейн Т.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fon-dlya-prezentacii-vesna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99072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«Диагностики речевого развития» под редакцией Т.С. Комаровой и О.А.Соломенни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Выгодский Л.С. «Психологическое обследование детей», задание «Подбери картин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«Что лишнее» - модификация задания, предложенного О.Н.Усано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«Кто что делает?» - методика описана С.Е.Большаковой и в пособии «Логопедическое обследование ребен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«Определи место звука в слове» - по материалам Л.Е.Журовой. Обучение грамоте в детском са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«Расскажи любимую сказку» - Г.А. Урунтаева, Ю.А. Афонькина. Практикум по детской психоло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«Что это и чего не стало?» - С.Е. Большакова «логопедическое обследование ребен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fon-dlya-prezentacii-vesna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Звукопроизно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Альбом Иншаковой О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66880" y="4191120"/>
            <a:ext cx="38102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on-dlya-prezentacii-vesna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Развитие слов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Задание 1. «Подбери карти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4678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on-dlya-prezentacii-vesna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Звуковая культура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Задание 3. «Отбери карти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74678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on-dlya-prezentacii-vesna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Грамматический стр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Задание 1. «Какого цвета солнц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Задание 5. «Что это и чего не стал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on-dlya-prezentacii-vesna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Связная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Задание 1. «Объяснение сюжетных картин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Задание 2. «Разложи по поряд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Задание 4. «Цир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267440" cy="28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373392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on-dlya-prezentacii-vesna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0880"/>
            <a:ext cx="82296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едагогическая диагностика развития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еред поступлением в шко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особие для педагогов дошко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учреждений/ Под ред. Т.С. Комаров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О.А. Соломенниковой.- М.: МОЗАИКА – СИНТЕ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2013. – 96 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andex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2T01:19:03Z</dcterms:created>
  <dc:creator>Татьяна</dc:creator>
  <dc:description/>
  <dc:language>en-US</dc:language>
  <cp:lastModifiedBy>user</cp:lastModifiedBy>
  <dcterms:modified xsi:type="dcterms:W3CDTF">2017-12-20T01:57:5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