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E7C7-1EE8-490A-B333-8158CB72C47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2724-342A-4E8D-92DD-8819FC89CD4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E647-4164-49A2-97E4-301101B70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4F57-0260-4686-A4F9-DC2F70E4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1EF0-79DF-4009-82D3-4D134C357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20ED-C828-4BE3-A76A-4F1B95197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1749D-6ABA-4CBB-BFDE-C647AE557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D85630-E4D0-4944-8BCF-D98E388E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1F281-7501-4D83-8606-7E60E340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14E08-A568-4657-9AF8-B13B0461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E67630-70C6-4870-8C8F-8AFEDBB4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6C427-434D-43BF-932C-10B68A67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A2A5D-5837-4F82-A7AA-45EE9EFD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5FA5-257C-465F-8DAE-279A73C9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631966-33AC-431E-B682-28D77A64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5CA84-1EFF-4F01-9E56-5932411C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B04AA8-8C1B-4F3F-AB31-745A9C4D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F08BF-9010-4844-BE6F-AAF45C07B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F0AF2-6C99-4E0A-AE1E-766807EF6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BEB0-5130-4FA5-89F3-7A371FB8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8213-932A-411E-9B46-A90F09D4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DD02-5BFA-4EF4-B972-6187065D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7CC2-35DE-4BB9-B5A5-38871DB6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8BE1-407A-4F8D-80C1-1179D438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2752-FEE0-4199-8901-98C67A13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F873-7627-477B-A99A-F573F88F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A51A-C6CA-428D-AB02-20FEA609E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DEF9-1F4B-4601-B9E5-188FEE7A34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4032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Arial"/>
              </a:rPr>
              <a:t>Глобальные</a:t>
            </a:r>
            <a:br>
              <a:rPr sz="7200"/>
            </a:br>
            <a:r>
              <a:rPr b="1" lang="ru-RU" sz="7200" spc="-1" strike="noStrike">
                <a:solidFill>
                  <a:srgbClr val="c00000"/>
                </a:solidFill>
                <a:latin typeface="Tahoma"/>
              </a:rPr>
              <a:t>        проблемы</a:t>
            </a:r>
            <a:br>
              <a:rPr sz="7200"/>
            </a:br>
            <a:r>
              <a:rPr b="1" lang="ru-RU" sz="7200" spc="-1" strike="noStrike">
                <a:solidFill>
                  <a:srgbClr val="c00000"/>
                </a:solidFill>
                <a:latin typeface="Arial"/>
              </a:rPr>
              <a:t>человечества</a:t>
            </a:r>
            <a:br>
              <a:rPr sz="7200"/>
            </a:br>
            <a:r>
              <a:rPr b="1" lang="ru-RU" sz="2400" spc="-1" strike="noStrike">
                <a:solidFill>
                  <a:srgbClr val="c00000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4005360"/>
            <a:ext cx="8748720" cy="28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«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Мы – дети Галактик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Но самое главное, -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Мы дети твои, дорогая Земля!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Tahoma"/>
              </a:rPr>
              <a:t>    </a:t>
            </a:r>
            <a:r>
              <a:rPr b="0" lang="en-US" sz="4400" spc="-1" strike="noStrike">
                <a:solidFill>
                  <a:srgbClr val="c00000"/>
                </a:solidFill>
                <a:latin typeface="Tahoma"/>
              </a:rPr>
              <a:t>Энергетическая пробле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78920" y="1158480"/>
            <a:ext cx="87138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3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3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32"/>
                </a:solidFill>
                <a:latin typeface="Tahoma"/>
              </a:rPr>
              <a:t>Сегодня с  каждым годом возрастают объёмы добычи нефти, газа и других полезных ископаемых. По прогнозу учёных, при нынешних темпах разработки полезных ископаемых хватит всего лишь на сто л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179280" y="4010040"/>
            <a:ext cx="3024360" cy="2847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3"/>
          <a:stretch/>
        </p:blipFill>
        <p:spPr>
          <a:xfrm>
            <a:off x="3276720" y="4005360"/>
            <a:ext cx="2735280" cy="2852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4"/>
          <a:stretch/>
        </p:blipFill>
        <p:spPr>
          <a:xfrm>
            <a:off x="6084720" y="4005360"/>
            <a:ext cx="28800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11280" y="0"/>
            <a:ext cx="482436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c00000"/>
                </a:solidFill>
                <a:latin typeface="Tahoma"/>
              </a:rPr>
              <a:t>Пути разрешения</a:t>
            </a:r>
            <a:br>
              <a:rPr sz="4000"/>
            </a:br>
            <a:r>
              <a:rPr b="0" lang="en-US" sz="4000" spc="-1" strike="noStrike">
                <a:solidFill>
                  <a:srgbClr val="c00000"/>
                </a:solidFill>
                <a:latin typeface="Tahoma"/>
              </a:rPr>
              <a:t>      глобальных</a:t>
            </a:r>
            <a:br>
              <a:rPr sz="4000"/>
            </a:br>
            <a:r>
              <a:rPr b="0" lang="en-US" sz="4000" spc="-1" strike="noStrike">
                <a:solidFill>
                  <a:srgbClr val="c00000"/>
                </a:solidFill>
                <a:latin typeface="Tahoma"/>
              </a:rPr>
              <a:t>         пробле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-360" y="1915920"/>
            <a:ext cx="932508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3"/>
                </a:solidFill>
                <a:latin typeface="Arial"/>
              </a:rPr>
              <a:t>Я</a:t>
            </a:r>
            <a:r>
              <a:rPr b="0" lang="en-US" sz="2000" spc="-1" strike="noStrike">
                <a:solidFill>
                  <a:srgbClr val="000073"/>
                </a:solidFill>
                <a:latin typeface="Tahoma"/>
              </a:rPr>
              <a:t>вляется актуальной задачей для всего человечест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1.Обуздать гонку вооружения, запретить создания и применения систем вооружения массового уничтожения, людских и материальных ресурсов, ликвидацию ядерного оружия и т.д.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2.Экономное использование природных ресурсов и снижение загрязнений отходами почвы, воды и воздух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3.Снижение темпов роста народонаселения в развивающихся странах и преодоление демографического кризиса в развитых капиталистических странах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4. </a:t>
            </a: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Для решения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продовольственной проблемы необходимо использовать </a:t>
            </a: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биотехнологию, новые высокоурожайные сорта, дальнейшее развитие механизации, химизации и мелиора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410544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4400" spc="-1" strike="noStrike">
                <a:solidFill>
                  <a:srgbClr val="c00000"/>
                </a:solidFill>
                <a:latin typeface="Tahoma"/>
              </a:rPr>
              <a:t>Выво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79280" y="1125000"/>
            <a:ext cx="88567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73"/>
                </a:solidFill>
                <a:latin typeface="Tahoma"/>
              </a:rPr>
              <a:t>- Глобальные проблемы – это вызов человеческому разуму. Уйти от них невозможно. Их можно только преодолеть  усилиями всех стран путём сотрудничест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3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73"/>
                </a:solidFill>
                <a:latin typeface="Tahoma"/>
              </a:rPr>
              <a:t>- Каждый человек должен осознать, что  Человечество на грани гибели, и выживем мы или нет зависит от каждого из на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250920" y="2924280"/>
            <a:ext cx="85690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4400" spc="-1" strike="noStrike">
                <a:solidFill>
                  <a:srgbClr val="000032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32"/>
                </a:solidFill>
                <a:latin typeface="Tahoma"/>
              </a:rPr>
              <a:t>Пла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9640" y="169992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ahoma"/>
              </a:rPr>
              <a:t>1. Понятие «глобальные проблемы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ahoma"/>
              </a:rPr>
              <a:t>2. Причины глобальных пробл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ahoma"/>
              </a:rPr>
              <a:t>3. Экологические пробле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ahoma"/>
              </a:rPr>
              <a:t>4. Ядерная угроз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ahoma"/>
              </a:rPr>
              <a:t>5. Демографическая пробл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ahoma"/>
              </a:rPr>
              <a:t>6. Энергетическая пробл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ahoma"/>
              </a:rPr>
              <a:t>7. Что ждёт человечество в будуще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277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32"/>
                </a:solidFill>
                <a:latin typeface="Tahoma"/>
              </a:rPr>
              <a:t>Глобальные проблемы человечества</a:t>
            </a:r>
            <a:r>
              <a:rPr b="0" lang="en-US" sz="3200" spc="-1" strike="noStrike">
                <a:solidFill>
                  <a:srgbClr val="2929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– это проблемы, которые касающиеся всего человечества.</a:t>
            </a:r>
            <a:br>
              <a:rPr sz="3200"/>
            </a:b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    Ни одно государство не в состоянии справиться с этими проблем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324000" y="2997360"/>
            <a:ext cx="856908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Причины  глобальных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                пробле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d"/>
                </a:solidFill>
                <a:latin typeface="Tahoma"/>
              </a:rPr>
              <a:t>1. Огромные масштабы человеческой деятельности, которая радикально изменила природу, общество, образ жизни люд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d"/>
                </a:solidFill>
                <a:latin typeface="Tahoma"/>
              </a:rPr>
              <a:t>2. Неспособность человечества рационально распорядиться могучей силой прогресс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4400" spc="-1" strike="noStrike">
                <a:solidFill>
                  <a:srgbClr val="c00000"/>
                </a:solidFill>
                <a:latin typeface="Tahoma"/>
              </a:rPr>
              <a:t>Особенност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34136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d"/>
                </a:solidFill>
                <a:latin typeface="Tahoma"/>
              </a:rPr>
              <a:t>Носят планетарный характе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d"/>
                </a:solidFill>
                <a:latin typeface="Tahoma"/>
              </a:rPr>
              <a:t>Угрожают гибелью всему человечеств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d"/>
                </a:solidFill>
                <a:latin typeface="Tahoma"/>
              </a:rPr>
              <a:t>Требуют коллективных усилий мирового сообще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2"/>
          <a:stretch/>
        </p:blipFill>
        <p:spPr>
          <a:xfrm>
            <a:off x="250920" y="3573360"/>
            <a:ext cx="871380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ahoma"/>
              </a:rPr>
              <a:t>         </a:t>
            </a:r>
            <a:r>
              <a:rPr b="0" lang="en-US" sz="3600" spc="-1" strike="noStrike">
                <a:solidFill>
                  <a:srgbClr val="c00000"/>
                </a:solidFill>
                <a:latin typeface="Tahoma"/>
              </a:rPr>
              <a:t>Экологические проблем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8000" y="1052640"/>
            <a:ext cx="8856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d"/>
                </a:solidFill>
                <a:latin typeface="Tahoma"/>
              </a:rPr>
              <a:t>Истончение озонового слоя и увеличение притока ультрафиолетовой ради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d"/>
                </a:solidFill>
                <a:latin typeface="Tahoma"/>
              </a:rPr>
              <a:t>Загрязнение атмосферы углекислым газам и другими отходами деятельности челове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d"/>
                </a:solidFill>
                <a:latin typeface="Tahoma"/>
              </a:rPr>
              <a:t>Эрозия почвы, засоление и заболачива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d"/>
                </a:solidFill>
                <a:latin typeface="Tahoma"/>
              </a:rPr>
              <a:t>Вырубка лесных массивов особенно в экваториальных район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d"/>
                </a:solidFill>
                <a:latin typeface="Tahoma"/>
              </a:rPr>
              <a:t>Загрязнение гидросферы (вод мирового океан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324000" y="4365720"/>
            <a:ext cx="8496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4400" spc="-1" strike="noStrike">
                <a:solidFill>
                  <a:srgbClr val="c00000"/>
                </a:solidFill>
                <a:latin typeface="Tahoma"/>
              </a:rPr>
              <a:t>Ядерная угроз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8000" y="2349000"/>
            <a:ext cx="5184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d"/>
                </a:solidFill>
                <a:latin typeface="Tahoma"/>
              </a:rPr>
              <a:t>Подобная опасность уменьшилась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d"/>
                </a:solidFill>
                <a:latin typeface="Tahoma"/>
              </a:rPr>
              <a:t>но полностью не исчезла, т.к. в начале XXI столет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d"/>
                </a:solidFill>
                <a:latin typeface="Tahoma"/>
              </a:rPr>
              <a:t>возникла возможность применения ядерного оруж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d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5796000" y="1330200"/>
            <a:ext cx="333864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Tahoma"/>
              </a:rPr>
              <a:t>   </a:t>
            </a:r>
            <a:r>
              <a:rPr b="0" lang="en-US" sz="4400" spc="-1" strike="noStrike">
                <a:solidFill>
                  <a:srgbClr val="c00000"/>
                </a:solidFill>
                <a:latin typeface="Tahoma"/>
              </a:rPr>
              <a:t>Демографическая пробле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d"/>
                </a:solidFill>
                <a:latin typeface="Tahoma"/>
              </a:rPr>
              <a:t>Количество землян уже перевалило за 7</a:t>
            </a:r>
            <a:r>
              <a:rPr b="0" lang="ru-RU" sz="2400" spc="-1" strike="noStrike">
                <a:solidFill>
                  <a:srgbClr val="00004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4d"/>
                </a:solidFill>
                <a:latin typeface="Tahoma"/>
              </a:rPr>
              <a:t>миллиардн</a:t>
            </a:r>
            <a:r>
              <a:rPr b="0" lang="ru-RU" sz="2400" spc="-1" strike="noStrike">
                <a:solidFill>
                  <a:srgbClr val="00004d"/>
                </a:solidFill>
                <a:latin typeface="Arial"/>
              </a:rPr>
              <a:t>ов</a:t>
            </a:r>
            <a:r>
              <a:rPr b="0" lang="ru-RU" sz="2400" spc="-1" strike="noStrike">
                <a:solidFill>
                  <a:srgbClr val="00004d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468360" y="2638440"/>
            <a:ext cx="82072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713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Tahoma"/>
              </a:rPr>
              <a:t>     </a:t>
            </a:r>
            <a:r>
              <a:rPr b="0" lang="en-US" sz="4400" spc="-1" strike="noStrike">
                <a:solidFill>
                  <a:srgbClr val="c00000"/>
                </a:solidFill>
                <a:latin typeface="Tahoma"/>
              </a:rPr>
              <a:t>Демографическая пробле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7640" y="1125000"/>
            <a:ext cx="8785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10173"/>
                </a:solidFill>
                <a:latin typeface="Tahoma"/>
              </a:rPr>
              <a:t>Демография регистрирует убыль коренного населения в развитых странах Запада по причине резкого сокращения рождаем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179280" y="3068640"/>
            <a:ext cx="3961080" cy="3789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3"/>
          <a:stretch/>
        </p:blipFill>
        <p:spPr>
          <a:xfrm>
            <a:off x="4356000" y="3068640"/>
            <a:ext cx="460872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1:14:14Z</dcterms:created>
  <dc:creator>Екатерина</dc:creator>
  <dc:description/>
  <dc:language>en-US</dc:language>
  <cp:lastModifiedBy>Пользователь</cp:lastModifiedBy>
  <dcterms:modified xsi:type="dcterms:W3CDTF">2017-12-20T06:54:48Z</dcterms:modified>
  <cp:revision>69</cp:revision>
  <dc:subject/>
  <dc:title>Экономика и экология: поиски равновесия.</dc:title>
</cp:coreProperties>
</file>