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39.png" ContentType="image/png"/>
  <Override PartName="/ppt/media/image43.jpeg" ContentType="image/jpeg"/>
  <Override PartName="/ppt/media/image34.jpeg" ContentType="image/jpeg"/>
  <Override PartName="/ppt/media/image37.png" ContentType="image/pn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0DB83D-9272-4BFA-8E83-CE2179E69CC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7F3A97-2E1D-41FE-B293-FC5AF173AF2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CAE3E7-969B-4215-AC35-CD923973FB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FBA721-DB33-473B-978C-D2D2D6C3610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B4011E-400B-413D-8489-05ACD33B5D5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A77317-E744-4441-A0A2-A430B9E8C7C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D05DF6-C90A-4ED1-8A7A-88AB4733ED4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D27A70-A062-4520-87D1-B6C55DD04F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477F45-3BE9-47FA-B387-E37353E2206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6F3A3E-5A8C-4DA7-AAFE-25BEFDCD2D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627D96-A263-4FF8-B968-E7B6C07D2F0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A674D8-9657-448D-932E-743AE3423E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189761-19F9-4EA1-9637-A15796C821F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3A1BDD-6791-400D-B797-79566608A2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9EFCA7-DF65-4BEA-AAD8-25F003BF50D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A538D6-CF3A-48B0-8DB3-CA1EE8D6C6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77D7BC-A7F9-4F40-85A2-97068E91478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593C81-3EE0-4B00-92C3-63BB7B7878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C275BC-857A-4475-80C8-FCC58E82609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4A3DFA-ED58-416B-83D6-63297F9C4B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8B1C89-3EAE-4E9E-AD6D-F5FF3B908D5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4450E2-5BEE-4DE8-ABB3-6B29017A033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270CD4-41AC-4839-8114-09AD10CBBA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CCBC81-F0C1-4EA9-BC0E-6F817A25939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3221A0-2673-4267-8F15-322ED3C13C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AF9B57-E5B4-4EB5-98D9-50EEEC46392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23B261-B64C-49B4-93EE-E51A7152C58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B53B18-5048-4AC4-AE17-DB11ED92858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048873-64EA-4AD1-AE41-7B8FB3C5FBE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ADBE2C-F871-4814-8DF7-85C977F9F87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5FC4EE-804B-45A4-AC79-899E8409D8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F5239B-B9A3-461C-9433-DA4D1C62AC5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1C91A4-82FF-4887-9803-70B9F97C5D6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70EA05-69CD-4E29-9D09-F157E59E8C0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4A2F7A-F45E-473D-B1EB-1919F00E6B3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6CF747-B5BA-44DE-9563-19F224FFE63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D81868-FB91-471F-AD29-C76B3B548E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EADEE7-5722-4A0D-A93C-6FE0886DB80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490C5A-B810-4E02-9DF4-2661295592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9845A4-91F0-4212-9358-D90E50B0C3B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79E283-B45A-41B6-877C-B9FD1E60D5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F55D2-0BAD-4A31-90D9-38E1FE2A4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67D8A-87EF-46C2-ADD8-B98B1E7C7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78236-2007-4D0D-8D84-6B8FB4887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FCF42-1690-47CA-A121-26086DFD4B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B4521-1EFD-443F-93C2-4443D850F0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1F304-F411-4B3E-BBDC-131205E73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05520-EC56-4CAA-8FB6-661CE64C6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55A1A-DDF1-4DDB-8E77-A0C28D2B7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34E9-A676-45F3-84BA-53CE1F2C15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44A61-9053-4347-BB2D-E83697FED2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9304E-829D-4EB0-A49F-E7DD02604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0CE0F-BFB5-4869-9379-B70561437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480C50-DAE9-4FC1-A00E-3BF18EC4B502}" type="slidenum">
              <a:rPr b="0" lang="ru-RU" sz="18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500040" y="1571760"/>
            <a:ext cx="792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entury Schoolbook"/>
              </a:rPr>
              <a:t>Образы отрицательных персонаж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500040" y="310500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539640" y="412128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92900"/>
                </a:solidFill>
                <a:latin typeface="Arial"/>
              </a:rPr>
              <a:t>ИЗО 3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92900"/>
                </a:solidFill>
                <a:latin typeface="Arial"/>
              </a:rPr>
              <a:t>УМК«Перспективная начальная школа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92900"/>
                </a:solidFill>
                <a:latin typeface="Arial"/>
              </a:rPr>
              <a:t>Учитель начальных классов: Куртяпова О.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508640" cy="5923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4572000" y="846000"/>
            <a:ext cx="4572000" cy="60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5651640" y="335772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500120" y="0"/>
            <a:ext cx="6072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6782040" cy="50864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468360" y="566100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зы чудовищ возникли в результате преобразований настоящих животных и птиц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619280" y="549360"/>
            <a:ext cx="5975280" cy="28112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324000" y="457344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 реальному виду добавлены различные детали: лапы, крылья, шипы, клы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707000" y="428760"/>
            <a:ext cx="3641760" cy="3214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5214960" y="39290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285840" y="214200"/>
            <a:ext cx="3500280" cy="348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1643040" y="378612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5805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14200" y="357120"/>
            <a:ext cx="2533680" cy="1809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3857760" y="278604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3"/>
          <a:stretch/>
        </p:blipFill>
        <p:spPr>
          <a:xfrm>
            <a:off x="2428920" y="5676840"/>
            <a:ext cx="3857760" cy="1181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4"/>
          <a:stretch/>
        </p:blipFill>
        <p:spPr>
          <a:xfrm>
            <a:off x="6357960" y="285840"/>
            <a:ext cx="2200320" cy="2076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5"/>
          <a:stretch/>
        </p:blipFill>
        <p:spPr>
          <a:xfrm>
            <a:off x="0" y="3051000"/>
            <a:ext cx="3214800" cy="2235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6"/>
          <a:stretch/>
        </p:blipFill>
        <p:spPr>
          <a:xfrm>
            <a:off x="6643800" y="3643200"/>
            <a:ext cx="2089080" cy="2857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7"/>
          <a:stretch/>
        </p:blipFill>
        <p:spPr>
          <a:xfrm>
            <a:off x="3643200" y="28584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395280" y="551664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зразец – это  глиняная плитка с рельефным орнамент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3370320" cy="3370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2"/>
          <a:stretch/>
        </p:blipFill>
        <p:spPr>
          <a:xfrm>
            <a:off x="3786120" y="1785960"/>
            <a:ext cx="51944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2147760" y="127080"/>
            <a:ext cx="4849920" cy="6605640"/>
          </a:xfrm>
          <a:prstGeom prst="rect">
            <a:avLst/>
          </a:prstGeom>
          <a:ln w="0">
            <a:noFill/>
          </a:ln>
        </p:spPr>
      </p:pic>
      <p:pic>
        <p:nvPicPr>
          <p:cNvPr id="53" name="Мелодия из детства - В гостях у сказки-0.4-17.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392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5692680" cy="3786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5500800" y="3019320"/>
            <a:ext cx="3333600" cy="38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395280" y="585792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Цветными изразцами украшали печ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3773520" cy="3000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6786720" y="142920"/>
            <a:ext cx="2197080" cy="292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>
            <a:off x="4357800" y="314316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642960" y="285840"/>
            <a:ext cx="81439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шебная черная краска</a:t>
            </a:r>
            <a:br>
              <a:rPr sz="2400"/>
            </a:b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яркие цвета смешать с черной краской, они станут тяжелыми, мрачными, тусклыми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инствен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214280" y="2214720"/>
            <a:ext cx="7058160" cy="18097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285840" y="4286160"/>
            <a:ext cx="88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м больше черной краски, тем тяжелее и мрачнее цв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785960" y="4929120"/>
            <a:ext cx="6083280" cy="16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250120" cy="5950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"/>
          <p:cNvSpPr/>
          <p:nvPr/>
        </p:nvSpPr>
        <p:spPr>
          <a:xfrm>
            <a:off x="857160" y="28584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мика лица  -  выражение чув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1000080" y="1071720"/>
            <a:ext cx="6913440" cy="5786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"/>
          <p:cNvSpPr/>
          <p:nvPr/>
        </p:nvSpPr>
        <p:spPr>
          <a:xfrm>
            <a:off x="1214280" y="28584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мика лица  --  гл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1000080" y="50004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рицательный образ - зл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214280"/>
            <a:ext cx="2778120" cy="3714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6330960" y="1071720"/>
            <a:ext cx="2813040" cy="4044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3071880" y="2643120"/>
            <a:ext cx="313200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1071720" y="714240"/>
            <a:ext cx="7143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Сегодня я узнал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Мне понравилось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Мне показалось интерес</a:t>
            </a:r>
            <a:r>
              <a:rPr b="1" lang="ru-RU" sz="3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ным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395280" y="428616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3571920" y="1357200"/>
            <a:ext cx="213372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4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828800" y="182520"/>
            <a:ext cx="5486400" cy="649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1785960" y="25560"/>
            <a:ext cx="5429160" cy="67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071720" y="0"/>
            <a:ext cx="6878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903240"/>
            <a:ext cx="4751280" cy="5954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5286240" y="0"/>
            <a:ext cx="3857760" cy="5738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08:38:23Z</dcterms:created>
  <dc:creator>Татьяна</dc:creator>
  <dc:description/>
  <cp:keywords/>
  <dc:language>en-US</dc:language>
  <cp:lastModifiedBy>admin</cp:lastModifiedBy>
  <dcterms:modified xsi:type="dcterms:W3CDTF">2016-12-23T06:22:26Z</dcterms:modified>
  <cp:revision>132</cp:revision>
  <dc:subject/>
  <dc:title>Слайд 1</dc:title>
</cp:coreProperties>
</file>