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DF4-B4D0-40C3-9163-D966670B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148-F0B3-41C7-A919-4DD5CEDD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252-AF27-4E86-B044-72726F8E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126-6D6E-43BE-8262-EFD2306F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450-0A07-48EE-9183-246B9446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14F8-027D-4678-9E78-9CE47DD6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4B2F-C130-4054-AFB4-DFF78674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ABA4-93C8-4CF5-82A8-D6381296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3CE5-DB47-4FD2-B001-7716867D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24C2-649F-41D6-A77B-151919B8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3EA-3FAD-45A1-87C9-AD42ED2E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2717-E564-4BF6-A593-57AFB73C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7463-DF63-4F16-AEA6-295446C5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CA9C-45E4-4D8B-A661-D95C12DC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60C2-C91A-4C13-8F02-296A1B6A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8608-AF92-484A-A653-E9227F2D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1E2D-A748-4EDB-8069-A2504496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9E88-F341-4602-99C6-2FBF452C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BE46A-6822-4FF7-8BCF-700DA23A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62CF-4E2D-4FD0-AD01-CDE7FF00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84DA-FBAE-47F9-96AF-BBA719AE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9A4-E744-4B32-B3ED-2D22E62F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F5068-D43C-4A60-BA43-6C541A11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1704C-B00E-45FF-AC5F-484E122F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38BC-9A29-4FAB-809E-CA890783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174AE-B5B2-4A1D-AF00-16B63B7F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0AEB-2FC5-4C8E-9EF9-EDFD2401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9446-3D78-4776-9007-F0CB549F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B5DCB-8726-4BD0-BB35-207C2131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AB18D-09DC-46DA-85AE-61ECDA3D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C5FB-C588-48FD-8D0F-62935D7F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D3E-5973-4A22-8C3A-B7B93271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003-0838-4F2B-8CF1-920DAB76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3E8-9E4C-4B67-8280-856CCC1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A8B-04E2-435E-8CD3-ED08921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F49-3210-48EA-9457-7AFC40F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3240" y="0"/>
            <a:ext cx="91407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7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1" marL="409680" indent="-17172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2" marL="615960" indent="-17136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3" marL="822240" indent="-17136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4" marL="1028880" indent="-17172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5" marL="1028880" indent="-171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6" marL="1028880" indent="-171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8BBE-E062-4186-A628-C2825E9CA318}" type="datetime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2B13-B761-4B97-8C45-5EFE11198F3E}" type="slidenum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3240" y="0"/>
            <a:ext cx="91407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1" marL="409680" indent="-17172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2" marL="615960" indent="-17136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3" marL="822240" indent="-17136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4" marL="1028880" indent="-17172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5" marL="1028880" indent="-171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6" marL="1028880" indent="-171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3240" y="0"/>
            <a:ext cx="91407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7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1" marL="409680" indent="-17172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2" marL="615960" indent="-17136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3" marL="822240" indent="-17136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4" marL="1028880" indent="-17172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5" marL="1028880" indent="-171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6" marL="1028880" indent="-171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4C4D-0A93-4C5E-A053-65E59DAE8A63}" type="datetime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6C28-AF0F-4217-9E1D-CF003E24C67C}" type="slidenum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3240" y="0"/>
            <a:ext cx="91407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7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2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4840" indent="-17136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1" marL="409680" indent="-17172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2" marL="615960" indent="-17136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3" marL="822240" indent="-17136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4" marL="1028880" indent="-171720">
              <a:lnSpc>
                <a:spcPct val="90000"/>
              </a:lnSpc>
              <a:spcBef>
                <a:spcPts val="1349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5" marL="1028880" indent="-171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  <a:p>
            <a:pPr lvl="6" marL="1028880" indent="-171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15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3A6E-C93B-4FE9-BAB2-2CA562439CF1}" type="datetime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9E9A-12BF-444A-A4E8-01F0BE6B55B3}" type="slidenum"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skazayka.ru/most-azamata-chuvashskaya-skazka/" TargetMode="External"/><Relationship Id="rId3" Type="http://schemas.openxmlformats.org/officeDocument/2006/relationships/hyperlink" Target="https://yandex.ru/images?parent-reqid=1492850743579816-1834884062901394994365836-man1-4079&amp;uinfo=sw-1280-sh-1024-ww-1263-wh-869-pd-1-wp-5x4_1280x1024" TargetMode="External"/><Relationship Id="rId4" Type="http://schemas.openxmlformats.org/officeDocument/2006/relationships/hyperlink" Target="https://ru.wikipedia.org/wiki/&#1052;&#1086;&#1089;&#1090;" TargetMode="External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9200" y="1476360"/>
            <a:ext cx="7202520" cy="21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5400" spc="-1" strike="noStrike">
                <a:solidFill>
                  <a:srgbClr val="0070c0"/>
                </a:solidFill>
                <a:latin typeface="Monotype Corsiva"/>
              </a:rPr>
              <a:t>Какое разное слово мост </a:t>
            </a:r>
            <a:br>
              <a:rPr sz="5400"/>
            </a:br>
            <a:r>
              <a:rPr b="0" lang="ru-RU" sz="2400" spc="-1" strike="noStrike">
                <a:solidFill>
                  <a:srgbClr val="1b4855"/>
                </a:solidFill>
                <a:latin typeface="Monotype Corsiva"/>
              </a:rPr>
              <a:t>В рамках проекта «Мосты в жизни города и человека»</a:t>
            </a:r>
            <a:br>
              <a:rPr sz="1800"/>
            </a:br>
            <a:endParaRPr b="0" lang="en-US" sz="2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9560" y="4400640"/>
            <a:ext cx="441972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3329"/>
                </a:solidFill>
                <a:latin typeface="Arial"/>
                <a:ea typeface="Arial"/>
              </a:rPr>
              <a:t>©МУ ДПО «Информационный образовательный Центр»</a:t>
            </a:r>
            <a:endParaRPr b="0" lang="en-US" sz="13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3329"/>
                </a:solidFill>
                <a:latin typeface="Arial"/>
                <a:ea typeface="Arial"/>
              </a:rPr>
              <a:t>©Детский сад № 104 </a:t>
            </a:r>
            <a:endParaRPr b="0" lang="en-US" sz="13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3329"/>
                </a:solidFill>
                <a:latin typeface="Arial"/>
                <a:ea typeface="Arial"/>
              </a:rPr>
              <a:t>Автор: © Аня С., 5 лет, с мамой</a:t>
            </a:r>
            <a:endParaRPr b="0" lang="en-US" sz="13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3329"/>
                </a:solidFill>
                <a:latin typeface="Arial"/>
                <a:ea typeface="Arial"/>
              </a:rPr>
              <a:t>Воспитатели: ©Грачева М.Р., Юдина Г.В. </a:t>
            </a:r>
            <a:endParaRPr b="0" lang="en-US" sz="13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3329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3329"/>
                </a:solidFill>
                <a:latin typeface="Arial"/>
                <a:ea typeface="Arial"/>
              </a:rPr>
              <a:t>Рыбинск  2017</a:t>
            </a:r>
            <a:endParaRPr b="0" lang="en-US" sz="1300" spc="-1" strike="noStrike">
              <a:solidFill>
                <a:srgbClr val="286d7f"/>
              </a:solidFill>
              <a:latin typeface="Georgia"/>
            </a:endParaRPr>
          </a:p>
        </p:txBody>
      </p:sp>
      <p:pic>
        <p:nvPicPr>
          <p:cNvPr id="180" name="Рисунок 4" descr=""/>
          <p:cNvPicPr/>
          <p:nvPr/>
        </p:nvPicPr>
        <p:blipFill>
          <a:blip r:embed="rId1"/>
          <a:stretch/>
        </p:blipFill>
        <p:spPr>
          <a:xfrm>
            <a:off x="304920" y="3035160"/>
            <a:ext cx="4041720" cy="273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5120" y="663120"/>
            <a:ext cx="8478720" cy="189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Monotype Corsiva"/>
              </a:rPr>
              <a:t>Мы открыли энциклопедию  с мамой и нашли там вот что</a:t>
            </a:r>
            <a:br>
              <a:rPr sz="30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сть и космический мост! Это связь между Землей и космическим кораблем или спутником!</a:t>
            </a:r>
            <a:endParaRPr b="0" lang="en-US" sz="2400" spc="-1" strike="noStrike">
              <a:solidFill>
                <a:srgbClr val="1b4855"/>
              </a:solidFill>
              <a:latin typeface="Georgia"/>
            </a:endParaRPr>
          </a:p>
        </p:txBody>
      </p:sp>
      <p:pic>
        <p:nvPicPr>
          <p:cNvPr id="202" name="Объект 5" descr="C:\Documents and Settings\Ноутбук\Рабочий стол\К проекту\косм..jpg"/>
          <p:cNvPicPr/>
          <p:nvPr/>
        </p:nvPicPr>
        <p:blipFill>
          <a:blip r:embed="rId1"/>
          <a:stretch/>
        </p:blipFill>
        <p:spPr>
          <a:xfrm>
            <a:off x="622440" y="2825640"/>
            <a:ext cx="4016160" cy="29973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6" descr="C:\Documents and Settings\Ноутбук\Рабочий стол\К проекту\косм.2.jpg"/>
          <p:cNvPicPr/>
          <p:nvPr/>
        </p:nvPicPr>
        <p:blipFill>
          <a:blip r:embed="rId2"/>
          <a:stretch/>
        </p:blipFill>
        <p:spPr>
          <a:xfrm>
            <a:off x="4819680" y="2825640"/>
            <a:ext cx="395604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71520" y="607680"/>
            <a:ext cx="8470800" cy="25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Monotype Corsiva"/>
              </a:rPr>
              <a:t>Я озадачила папу</a:t>
            </a:r>
            <a:br>
              <a:rPr sz="3000"/>
            </a:br>
            <a:r>
              <a:rPr b="1" lang="ru-RU" sz="2700" spc="-1" strike="noStrike">
                <a:solidFill>
                  <a:srgbClr val="000000"/>
                </a:solidFill>
                <a:latin typeface="Monotype Corsiva"/>
              </a:rPr>
              <a:t>Папа подумал и сказал: «А ведь у моей машины то же есть мост! Эта такая деталь автомобиля, которая связывает между собой колеса»</a:t>
            </a:r>
            <a:br>
              <a:rPr sz="2700"/>
            </a:br>
            <a:endParaRPr b="0" lang="en-US" sz="2700" spc="-1" strike="noStrike">
              <a:solidFill>
                <a:srgbClr val="1b4855"/>
              </a:solidFill>
              <a:latin typeface="Georgia"/>
            </a:endParaRPr>
          </a:p>
        </p:txBody>
      </p:sp>
      <p:pic>
        <p:nvPicPr>
          <p:cNvPr id="205" name="Рисунок 2" descr="C:\Documents and Settings\Ноутбук\Рабочий стол\К проекту\мост машины.jpg"/>
          <p:cNvPicPr/>
          <p:nvPr/>
        </p:nvPicPr>
        <p:blipFill>
          <a:blip r:embed="rId1"/>
          <a:stretch/>
        </p:blipFill>
        <p:spPr>
          <a:xfrm>
            <a:off x="2814480" y="3121200"/>
            <a:ext cx="4475160" cy="2752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2720" y="379080"/>
            <a:ext cx="713124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Monotype Corsiva"/>
              </a:rPr>
              <a:t>Воспитатель нам прочитала  чувашскую сказку «Мост Азамата»</a:t>
            </a:r>
            <a:endParaRPr b="0" lang="en-US" sz="30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651280" y="2727360"/>
            <a:ext cx="339084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Monotype Corsiva"/>
              </a:rPr>
              <a:t>В этой сказке радуга является мостом! </a:t>
            </a:r>
            <a:endParaRPr b="0" lang="en-US" sz="2700" spc="-1" strike="noStrike">
              <a:solidFill>
                <a:srgbClr val="286d7f"/>
              </a:solidFill>
              <a:latin typeface="Georgia"/>
            </a:endParaRPr>
          </a:p>
        </p:txBody>
      </p:sp>
      <p:pic>
        <p:nvPicPr>
          <p:cNvPr id="208" name="Объект 7" descr="C:\Documents and Settings\Ноутбук\Рабочий стол\К проекту\мост азамата.jpg"/>
          <p:cNvPicPr/>
          <p:nvPr/>
        </p:nvPicPr>
        <p:blipFill>
          <a:blip r:embed="rId1"/>
          <a:stretch/>
        </p:blipFill>
        <p:spPr>
          <a:xfrm>
            <a:off x="1006560" y="2122560"/>
            <a:ext cx="4305240" cy="303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681120"/>
            <a:ext cx="717228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Monotype Corsiva"/>
              </a:rPr>
              <a:t>В книжке мама нашла интересный стишок про «мостик»  и  я нарисовала его</a:t>
            </a:r>
            <a:endParaRPr b="0" lang="en-US" sz="3000" spc="-1" strike="noStrike">
              <a:solidFill>
                <a:srgbClr val="1b4855"/>
              </a:solidFill>
              <a:latin typeface="Georgia"/>
            </a:endParaRPr>
          </a:p>
        </p:txBody>
      </p:sp>
      <p:pic>
        <p:nvPicPr>
          <p:cNvPr id="210" name="Рисунок 9" descr=""/>
          <p:cNvPicPr/>
          <p:nvPr/>
        </p:nvPicPr>
        <p:blipFill>
          <a:blip r:embed="rId1"/>
          <a:stretch/>
        </p:blipFill>
        <p:spPr>
          <a:xfrm>
            <a:off x="3913200" y="221616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0"/>
          <p:cNvSpPr/>
          <p:nvPr/>
        </p:nvSpPr>
        <p:spPr>
          <a:xfrm>
            <a:off x="0" y="2317680"/>
            <a:ext cx="416556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вязывает вмест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ечки берега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остик поднебесн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5000"/>
              </a:lnSpc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дуга-дуга!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304920" y="781200"/>
            <a:ext cx="8515080" cy="164448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5"/>
          <p:cNvSpPr/>
          <p:nvPr/>
        </p:nvSpPr>
        <p:spPr>
          <a:xfrm>
            <a:off x="811080" y="2538360"/>
            <a:ext cx="7912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от сколько разных значений имеет слово «Мост»! Словом «мост» можно назвать соединение не только чего-то: берега, колеса и другое, а и дружбу между людьми!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7" descr=""/>
          <p:cNvPicPr/>
          <p:nvPr/>
        </p:nvPicPr>
        <p:blipFill>
          <a:blip r:embed="rId1"/>
          <a:stretch/>
        </p:blipFill>
        <p:spPr>
          <a:xfrm>
            <a:off x="1079640" y="792000"/>
            <a:ext cx="7729560" cy="16830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9"/>
          <p:cNvSpPr/>
          <p:nvPr/>
        </p:nvSpPr>
        <p:spPr>
          <a:xfrm>
            <a:off x="882720" y="2736720"/>
            <a:ext cx="7480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ост соединяет противоположные стороны и сближает людей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1" descr=""/>
          <p:cNvPicPr/>
          <p:nvPr/>
        </p:nvPicPr>
        <p:blipFill>
          <a:blip r:embed="rId1"/>
          <a:stretch/>
        </p:blipFill>
        <p:spPr>
          <a:xfrm>
            <a:off x="817560" y="712800"/>
            <a:ext cx="7497720" cy="12445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2"/>
          <p:cNvSpPr/>
          <p:nvPr/>
        </p:nvSpPr>
        <p:spPr>
          <a:xfrm>
            <a:off x="914400" y="2006640"/>
            <a:ext cx="783576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1. Все обо всем: Детская энциклопедия (пер. с итал. Горелой И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Издательство: Астрель, АСТ, ИЗДАТЕЛЬСТВО, 2001 г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2. Громова Л.А. Загадки с подсказками, И: Проф-Пресс, 2017г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en-US" sz="1800" spc="-1" strike="noStrike" u="sng">
                <a:solidFill>
                  <a:srgbClr val="6b9f25"/>
                </a:solidFill>
                <a:uFillTx/>
                <a:latin typeface="Franklin Gothic Book"/>
                <a:hlinkClick r:id="rId2"/>
              </a:rPr>
              <a:t>http://www.skazayka.ru/most-azamata-chuvashskaya-skazka/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4.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1800" spc="-1" strike="noStrike" u="sng">
                <a:solidFill>
                  <a:srgbClr val="6b9f25"/>
                </a:solidFill>
                <a:uFillTx/>
                <a:latin typeface="Franklin Gothic Book"/>
                <a:hlinkClick r:id="rId3"/>
              </a:rPr>
              <a:t>https://yandex.ru/images?parent-reqid=1492850743579816-1834884062901394994365836-man1-4079&amp;uinfo=sw-1280-sh-1024-ww-1263-wh-869-pd-1-wp-5x4_1280x102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5. </a:t>
            </a:r>
            <a:r>
              <a:rPr b="0" lang="en-US" sz="1800" spc="-1" strike="noStrike" u="sng">
                <a:solidFill>
                  <a:srgbClr val="6b9f25"/>
                </a:solidFill>
                <a:uFillTx/>
                <a:latin typeface="Franklin Gothic Book"/>
                <a:hlinkClick r:id="rId4"/>
              </a:rPr>
              <a:t>https://ru.wikipedia.org/wiki/%D0%9C%D0%BE%D1%81%D1%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4" descr=""/>
          <p:cNvPicPr/>
          <p:nvPr/>
        </p:nvPicPr>
        <p:blipFill>
          <a:blip r:embed="rId1"/>
          <a:stretch/>
        </p:blipFill>
        <p:spPr>
          <a:xfrm>
            <a:off x="219240" y="865080"/>
            <a:ext cx="3047760" cy="35845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83080" y="868320"/>
            <a:ext cx="5232240" cy="336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детском саду на занятиях нас знакомили с разными мостами. Я узнала, что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мост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– это сооружение для перехода через любое препятствие: реку, дорогу или овраг. Так же на физкультурном занятии мы выполняли                    упражнение «Мостик» </a:t>
            </a:r>
            <a:endParaRPr b="0" lang="en-US" sz="2700" spc="-1" strike="noStrike">
              <a:solidFill>
                <a:srgbClr val="1b4855"/>
              </a:solidFill>
              <a:latin typeface="Georgia"/>
            </a:endParaRPr>
          </a:p>
        </p:txBody>
      </p:sp>
      <p:pic>
        <p:nvPicPr>
          <p:cNvPr id="183" name="Рисунок 3" descr=""/>
          <p:cNvPicPr/>
          <p:nvPr/>
        </p:nvPicPr>
        <p:blipFill>
          <a:blip r:embed="rId2"/>
          <a:stretch/>
        </p:blipFill>
        <p:spPr>
          <a:xfrm>
            <a:off x="2305080" y="4091040"/>
            <a:ext cx="2571840" cy="191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1322280" y="1036800"/>
            <a:ext cx="6669360" cy="1761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006560" y="2685600"/>
            <a:ext cx="7130880" cy="24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86d7f"/>
                </a:solidFill>
                <a:latin typeface="Georgia"/>
              </a:rPr>
              <a:t>Что еще  может быть мостом?</a:t>
            </a:r>
            <a:endParaRPr b="0" lang="en-US" sz="4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1" descr=""/>
          <p:cNvPicPr/>
          <p:nvPr/>
        </p:nvPicPr>
        <p:blipFill>
          <a:blip r:embed="rId1"/>
          <a:stretch/>
        </p:blipFill>
        <p:spPr>
          <a:xfrm>
            <a:off x="1036800" y="811080"/>
            <a:ext cx="7132320" cy="1803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006560" y="2448000"/>
            <a:ext cx="7130880" cy="26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86d7f"/>
                </a:solidFill>
                <a:latin typeface="Georgia"/>
              </a:rPr>
              <a:t>Что  </a:t>
            </a:r>
            <a:r>
              <a:rPr b="1" lang="ru-RU" sz="4000" spc="-1" strike="noStrike">
                <a:solidFill>
                  <a:srgbClr val="286d7f"/>
                </a:solidFill>
                <a:latin typeface="Georgia"/>
              </a:rPr>
              <a:t>«Мостом» </a:t>
            </a:r>
            <a:r>
              <a:rPr b="0" lang="ru-RU" sz="4000" spc="-1" strike="noStrike">
                <a:solidFill>
                  <a:srgbClr val="286d7f"/>
                </a:solidFill>
                <a:latin typeface="Georgia"/>
              </a:rPr>
              <a:t>называют любое соединение между чем- то</a:t>
            </a:r>
            <a:endParaRPr b="0" lang="en-US" sz="4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944640" y="774720"/>
            <a:ext cx="7388280" cy="1687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061640" y="2259000"/>
            <a:ext cx="76201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54160" indent="-254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Я спрошу у мамы,</a:t>
            </a:r>
            <a:r>
              <a:rPr b="0" lang="ru-RU" sz="2400" spc="-1" strike="noStrike">
                <a:solidFill>
                  <a:srgbClr val="286d7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то значит «мост»?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 marL="254160" indent="-254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Я посмотрю с мамой в интернете про слово «мост»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 marL="254160" indent="-254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Я почитаю с мамой энциклопедию 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 marL="254160" indent="-254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Я спрошу у папы, какие еще он знает мосты?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 marL="254160" indent="-254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рошу у воспитателя: что может быть мостом?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2"/>
          <p:cNvSpPr/>
          <p:nvPr/>
        </p:nvSpPr>
        <p:spPr>
          <a:xfrm>
            <a:off x="4538520" y="1801800"/>
            <a:ext cx="4348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Что есть такое выражение «Сжигать за собой мосты». Это когда один человек прекращает дружбу или общение с другим человеком или с группой людей ,то в таком случае говорят: «Сжигаю за собой мосты», то есть к прошлому уже не вернутьс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Рисунок 3" descr=""/>
          <p:cNvPicPr/>
          <p:nvPr/>
        </p:nvPicPr>
        <p:blipFill>
          <a:blip r:embed="rId1"/>
          <a:stretch/>
        </p:blipFill>
        <p:spPr>
          <a:xfrm>
            <a:off x="623880" y="1913040"/>
            <a:ext cx="3664080" cy="25653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1616040" y="78264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Мама рассказала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69480" y="635040"/>
            <a:ext cx="72010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Monotype Corsiva"/>
              </a:rPr>
              <a:t>А потом мы посмотрели в интернете и нашли много всего интересного про слово мост</a:t>
            </a:r>
            <a:endParaRPr b="0" lang="en-US" sz="30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719280" y="2252520"/>
            <a:ext cx="81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сть телевизионный мост! Это связь между источником телевизионного сигнала  и точкой, куда поступает этот сигнал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Рисунок 5" descr="C:\Documents and Settings\Ноутбук\Рабочий стол\К проекту\телесвязь.png"/>
          <p:cNvPicPr/>
          <p:nvPr/>
        </p:nvPicPr>
        <p:blipFill>
          <a:blip r:embed="rId1"/>
          <a:stretch/>
        </p:blipFill>
        <p:spPr>
          <a:xfrm>
            <a:off x="1149480" y="3462480"/>
            <a:ext cx="3114720" cy="19983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C:\Documents and Settings\Ноутбук\Рабочий стол\К проекту\телесвязь2.jpg"/>
          <p:cNvPicPr/>
          <p:nvPr/>
        </p:nvPicPr>
        <p:blipFill>
          <a:blip r:embed="rId2"/>
          <a:stretch/>
        </p:blipFill>
        <p:spPr>
          <a:xfrm>
            <a:off x="4932360" y="3478320"/>
            <a:ext cx="3106800" cy="198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5080" y="642600"/>
            <a:ext cx="79851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Monotype Corsiva"/>
              </a:rPr>
              <a:t>А есть еще и воздушный мост! Это сообщение по воздуху между пунктами, не имеющими других прямых средств связи</a:t>
            </a:r>
            <a:endParaRPr b="0" lang="en-US" sz="2700" spc="-1" strike="noStrike">
              <a:solidFill>
                <a:srgbClr val="1b4855"/>
              </a:solidFill>
              <a:latin typeface="Georgia"/>
            </a:endParaRPr>
          </a:p>
        </p:txBody>
      </p:sp>
      <p:pic>
        <p:nvPicPr>
          <p:cNvPr id="198" name="Рисунок 6" descr="C:\Documents and Settings\Ноутбук\Рабочий стол\К проекту\возд.шары.jpg"/>
          <p:cNvPicPr/>
          <p:nvPr/>
        </p:nvPicPr>
        <p:blipFill>
          <a:blip r:embed="rId1"/>
          <a:stretch/>
        </p:blipFill>
        <p:spPr>
          <a:xfrm>
            <a:off x="2190600" y="2660760"/>
            <a:ext cx="4802400" cy="32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776160" y="1176480"/>
            <a:ext cx="76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Monotype Corsiva"/>
              </a:rPr>
              <a:t>Оказывается в стране Чехия город имеет название Мос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0" name="Picture 2" descr="Most, nové město.jpg"/>
          <p:cNvPicPr/>
          <p:nvPr/>
        </p:nvPicPr>
        <p:blipFill>
          <a:blip r:embed="rId1"/>
          <a:stretch/>
        </p:blipFill>
        <p:spPr>
          <a:xfrm>
            <a:off x="1787400" y="2154240"/>
            <a:ext cx="5724720" cy="340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2T05:24:39Z</dcterms:created>
  <dc:creator/>
  <dc:description/>
  <cp:keywords/>
  <dc:language>en-US</dc:language>
  <cp:lastModifiedBy/>
  <dcterms:modified xsi:type="dcterms:W3CDTF">2017-12-20T07:47:3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8952569991</vt:lpwstr>
  </property>
</Properties>
</file>