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9BC-6E6C-4237-B760-6A28A328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78A-0606-49B3-9ADD-453DAE9B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020-495C-4382-8FB3-FC722AB5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6A-E2A4-4525-98F4-D810B879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DA78-AA8A-43E2-90F0-0F875E1E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C6F3-19AA-4865-904B-60E538C3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F10A-649D-43D1-9C97-73C661AD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8E94-C1E7-4606-807E-0BDA5BB2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AA48-F6A0-49F3-AC4C-268C0DC7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FD56-F8C5-46C3-B27E-6AF4A27C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449F-8B86-4034-BEDD-F44AF74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95D-B8B2-4D57-8350-02717A97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7B25-F8BA-4BD2-840B-D70A76A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E5F9-EC69-4AD9-8A08-E5E99F6D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54C6-51B2-4E9E-B9C6-7DDAE9C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03D-9581-4685-A137-BB32C88B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3D0D-3421-4162-AA9C-8B6E748E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6C7-FC04-4557-B761-9DA07C8E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6B3-E2AF-4D94-8A0A-6700C0C6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B44-2797-4687-863A-0164D398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407-EA75-40A4-81CF-5139F182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10A-8624-44F5-84A1-7453B1BC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A7B-6C27-4806-8E3A-C044306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763-ECF4-4CB4-B302-18E74F7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B0A3-ADA5-4861-896F-4BC168DBDD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905C-AC55-46DC-BAA1-F16ACAF68B0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лина красная Василия Шукшина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лина красная, Калина вызрела... Я у залеточки характер вызнала. Характер вызнала, Характер ой какой! Я не уважила, а он пошел с другой. А он пошел с другой, а я не спорила, -Так, значит, он хорош, а я не стоила! А я пошла с другим, Ему не верится: Он подошел ко мне удостовериться. Удостоверился, но не добился слов, а я одно твержу: «Ты потерял любовь, она найденная -Другому мальчику переведенная.Ты потерял любовь, и я уверенно другому мальчику передоверена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daeb3ea107c7d8759d4564f6a8e_prev"/>
          <p:cNvPicPr/>
          <p:nvPr/>
        </p:nvPicPr>
        <p:blipFill>
          <a:blip r:embed="rId1"/>
          <a:stretch/>
        </p:blipFill>
        <p:spPr>
          <a:xfrm>
            <a:off x="4356000" y="1916280"/>
            <a:ext cx="44960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ругая жизн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вода не было. В загс с другой женщиной он шел с «чистым» паспортом — старый, с отметкой о первом браке, как-то потеря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Его жизнь — шумная и короткая, ее — тихая и долгая.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8" descr="d4a5437c5495"/>
          <p:cNvPicPr/>
          <p:nvPr/>
        </p:nvPicPr>
        <p:blipFill>
          <a:blip r:embed="rId1"/>
          <a:stretch/>
        </p:blipFill>
        <p:spPr>
          <a:xfrm>
            <a:off x="824040" y="1600200"/>
            <a:ext cx="3303360" cy="4530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b6370d318bf1"/>
          <p:cNvPicPr/>
          <p:nvPr/>
        </p:nvPicPr>
        <p:blipFill>
          <a:blip r:embed="rId2"/>
          <a:stretch/>
        </p:blipFill>
        <p:spPr>
          <a:xfrm>
            <a:off x="5076720" y="1628640"/>
            <a:ext cx="35989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"Живет такой парень"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11" descr="171_BA6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171_BA2"/>
          <p:cNvPicPr/>
          <p:nvPr/>
        </p:nvPicPr>
        <p:blipFill>
          <a:blip r:embed="rId2"/>
          <a:stretch/>
        </p:blipFill>
        <p:spPr>
          <a:xfrm>
            <a:off x="1698480" y="1600200"/>
            <a:ext cx="155592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171_BA4"/>
          <p:cNvPicPr/>
          <p:nvPr/>
        </p:nvPicPr>
        <p:blipFill>
          <a:blip r:embed="rId3"/>
          <a:stretch/>
        </p:blipFill>
        <p:spPr>
          <a:xfrm>
            <a:off x="838080" y="3941640"/>
            <a:ext cx="3275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«Живет такой парень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63 году говорили о романе Шукшина с поэтессой Беллой Ахмадулиной, которую он даже снял в своей первой картине "Живет такой парень" в роли журналистки. Через несколько месяцев их роман завершился, и судьба свела Шукшина с Викторией Софрон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4" descr="dd60252e664f"/>
          <p:cNvPicPr/>
          <p:nvPr/>
        </p:nvPicPr>
        <p:blipFill>
          <a:blip r:embed="rId1"/>
          <a:stretch/>
        </p:blipFill>
        <p:spPr>
          <a:xfrm>
            <a:off x="4648320" y="2660760"/>
            <a:ext cx="40384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ad34e83fde9ec26e6a087ac958f_prev"/>
          <p:cNvPicPr/>
          <p:nvPr/>
        </p:nvPicPr>
        <p:blipFill>
          <a:blip r:embed="rId1"/>
          <a:stretch/>
        </p:blipFill>
        <p:spPr>
          <a:xfrm>
            <a:off x="1332000" y="260280"/>
            <a:ext cx="604836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настасия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ршая дочь Лидии Федосеевой – Шукшиной –Анастасия Ворон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11-36-1s"/>
          <p:cNvPicPr/>
          <p:nvPr/>
        </p:nvPicPr>
        <p:blipFill>
          <a:blip r:embed="rId1"/>
          <a:stretch/>
        </p:blipFill>
        <p:spPr>
          <a:xfrm>
            <a:off x="7308720" y="1844640"/>
            <a:ext cx="1143000" cy="172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ed02-24a92"/>
          <p:cNvPicPr/>
          <p:nvPr/>
        </p:nvPicPr>
        <p:blipFill>
          <a:blip r:embed="rId2"/>
          <a:stretch/>
        </p:blipFill>
        <p:spPr>
          <a:xfrm>
            <a:off x="5724360" y="4076640"/>
            <a:ext cx="2540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551d7998e88d"/>
          <p:cNvPicPr/>
          <p:nvPr/>
        </p:nvPicPr>
        <p:blipFill>
          <a:blip r:embed="rId1"/>
          <a:stretch/>
        </p:blipFill>
        <p:spPr>
          <a:xfrm>
            <a:off x="2759040" y="277920"/>
            <a:ext cx="362412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701a9c566a77"/>
          <p:cNvPicPr/>
          <p:nvPr/>
        </p:nvPicPr>
        <p:blipFill>
          <a:blip r:embed="rId1"/>
          <a:stretch/>
        </p:blipFill>
        <p:spPr>
          <a:xfrm>
            <a:off x="3095640" y="936720"/>
            <a:ext cx="2952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1593e78cb6beba6c59676905f44"/>
          <p:cNvPicPr/>
          <p:nvPr/>
        </p:nvPicPr>
        <p:blipFill>
          <a:blip r:embed="rId1"/>
          <a:stretch/>
        </p:blipFill>
        <p:spPr>
          <a:xfrm>
            <a:off x="1762200" y="627120"/>
            <a:ext cx="5619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545cb8fc00ae"/>
          <p:cNvPicPr/>
          <p:nvPr/>
        </p:nvPicPr>
        <p:blipFill>
          <a:blip r:embed="rId1"/>
          <a:stretch/>
        </p:blipFill>
        <p:spPr>
          <a:xfrm>
            <a:off x="2905200" y="1874880"/>
            <a:ext cx="33336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Рождение - это предоплата за путь, который суждено пройти…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силий Шукшин родился 25 июля 1929 года в селе Сростки, Бийского района, Алтайского края в крестьянской семь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f317916f168e"/>
          <p:cNvPicPr/>
          <p:nvPr/>
        </p:nvPicPr>
        <p:blipFill>
          <a:blip r:embed="rId1"/>
          <a:stretch/>
        </p:blipFill>
        <p:spPr>
          <a:xfrm>
            <a:off x="4932360" y="170028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74eb393f8aa8"/>
          <p:cNvPicPr/>
          <p:nvPr/>
        </p:nvPicPr>
        <p:blipFill>
          <a:blip r:embed="rId1"/>
          <a:stretch/>
        </p:blipFill>
        <p:spPr>
          <a:xfrm>
            <a:off x="2905200" y="19512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2b30366c8332"/>
          <p:cNvPicPr/>
          <p:nvPr/>
        </p:nvPicPr>
        <p:blipFill>
          <a:blip r:embed="rId1"/>
          <a:stretch/>
        </p:blipFill>
        <p:spPr>
          <a:xfrm>
            <a:off x="2905200" y="2036880"/>
            <a:ext cx="3333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5" descr="110378d51a940e777a5d8747f38_prev"/>
          <p:cNvPicPr/>
          <p:nvPr/>
        </p:nvPicPr>
        <p:blipFill>
          <a:blip r:embed="rId1"/>
          <a:stretch/>
        </p:blipFill>
        <p:spPr>
          <a:xfrm>
            <a:off x="457200" y="184644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96944634"/>
          <p:cNvPicPr/>
          <p:nvPr/>
        </p:nvPicPr>
        <p:blipFill>
          <a:blip r:embed="rId2"/>
          <a:stretch/>
        </p:blipFill>
        <p:spPr>
          <a:xfrm>
            <a:off x="5065560" y="1600200"/>
            <a:ext cx="3203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оследний го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ний год жизни Шукшина складывался для него на редкость удачно как в плане творческом, так и личном. В 1973 году вместе с семьей он наконец переехал из тесной комнатки на Переяславской улице в новую квартиру на улице Бочкова. В свет выходит новый сборник его рассказов "Характеры", который тут же становится главным событием в прозе и предметом острейших дискуссий. В Большом драматическом театре Г. Товстоногов решается ставить спектакль по пьесе Шукшина "Энергичные люди"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13" descr="5d3a23379ea2"/>
          <p:cNvPicPr/>
          <p:nvPr/>
        </p:nvPicPr>
        <p:blipFill>
          <a:blip r:embed="rId1"/>
          <a:stretch/>
        </p:blipFill>
        <p:spPr>
          <a:xfrm>
            <a:off x="858960" y="1773360"/>
            <a:ext cx="340020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e9ea490f5baa"/>
          <p:cNvPicPr/>
          <p:nvPr/>
        </p:nvPicPr>
        <p:blipFill>
          <a:blip r:embed="rId2"/>
          <a:stretch/>
        </p:blipFill>
        <p:spPr>
          <a:xfrm>
            <a:off x="5430960" y="1600200"/>
            <a:ext cx="247176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1a277ed1efc4ee7d8fe210cd4e7_prev"/>
          <p:cNvPicPr/>
          <p:nvPr/>
        </p:nvPicPr>
        <p:blipFill>
          <a:blip r:embed="rId3"/>
          <a:stretch/>
        </p:blipFill>
        <p:spPr>
          <a:xfrm>
            <a:off x="5205240" y="3941640"/>
            <a:ext cx="2922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шук"/>
          <p:cNvPicPr/>
          <p:nvPr/>
        </p:nvPicPr>
        <p:blipFill>
          <a:blip r:embed="rId1"/>
          <a:stretch/>
        </p:blipFill>
        <p:spPr>
          <a:xfrm>
            <a:off x="2428920" y="34596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силий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укшин рос мальчишкой замкнутым, что называется, "себе на уме". В общении со сверстниками он держал себя строго и требовал, чтобы те называли его не Васей, а Василием. Те, естественно, не понимали подобных просьб и частенько насмехались над товарищем. В таких случаях Шукшин поступал соответственно своему характеру - убегал в протоки Катуни и скрывался на ее островах по несколько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shukshinvasmakar07_89b"/>
          <p:cNvPicPr/>
          <p:nvPr/>
        </p:nvPicPr>
        <p:blipFill>
          <a:blip r:embed="rId1"/>
          <a:stretch/>
        </p:blipFill>
        <p:spPr>
          <a:xfrm>
            <a:off x="5238720" y="1746360"/>
            <a:ext cx="2857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ное детство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шестнадцать лет, окончив семь классов, Шукшин уехал из Сросток: хотел "выйти в люди". С 1945 по 1947 годы он учился в Бийском автомобильном техникуме (35 км от Сросток), но закончить его он так и не сумел - чтобы прокормить семью, пришлось учебу бросить и устраиваться на раб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або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Picture 5" descr="52a81581bb9f"/>
          <p:cNvPicPr/>
          <p:nvPr/>
        </p:nvPicPr>
        <p:blipFill>
          <a:blip r:embed="rId1"/>
          <a:stretch/>
        </p:blipFill>
        <p:spPr>
          <a:xfrm>
            <a:off x="1047600" y="1712880"/>
            <a:ext cx="2857680" cy="4305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м местом работы Шукшина стал трест «Союзпроммеханизация», который относился к московской конторе. Устроившись туда в 1947 году в качестве слесаря-такелажника, Шукшин вскоре был направлен сначала на турбинный завод в Калугу, затем - на тракторный завод во Влади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служить "от звонка до звонка" Шукшину не удалось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апреле 1949 года последовала новая смена рабочего места - на этот раз его отправили на строительство электростанции на станцию Щербинка Московско-Курской железной дороги. Там он проработал несколько месяцев, после чего попал на строительство железнодорожного моста на станции Голицыно. Именно там (в октябре) его и застала повестка из военкомата о призыве на действительную военную служб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ончив учебку по специальности радиста, Шукшин в 1950 году попал в одну из частей Черноморского флота, дислоцированную в Севастопол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2bc62bfed5fd"/>
          <p:cNvPicPr/>
          <p:nvPr/>
        </p:nvPicPr>
        <p:blipFill>
          <a:blip r:embed="rId1"/>
          <a:stretch/>
        </p:blipFill>
        <p:spPr>
          <a:xfrm>
            <a:off x="5148360" y="1557360"/>
            <a:ext cx="2786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частливое время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возвращения в 1953 году в родные Сростки, Василий и Мария сыграли свадьбу. Мария Ивановна говорит, что это было самое счастливое время. Василий экстерном сдал экзамены за 10 классов и поступил на работу в школу сельской молодежи в качестве учителя 5-7-х классов (преподавал русский язык и литературу) и одновременно  исполнял обязанности дирек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ba1e3b65f436"/>
          <p:cNvPicPr/>
          <p:nvPr/>
        </p:nvPicPr>
        <p:blipFill>
          <a:blip r:embed="rId1"/>
          <a:stretch/>
        </p:blipFill>
        <p:spPr>
          <a:xfrm>
            <a:off x="4648320" y="2556000"/>
            <a:ext cx="4038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н ее первый муж. Она его первая жена.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 в пятнадцать к Василию пришла первая любовь. Это была четырнадцатилетняя девочка из их села Маша Шумская. Как и все деревенские пары, они сидели на лавочке до рассвета, гуляли по берегу, мечтали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maria"/>
          <p:cNvPicPr/>
          <p:nvPr/>
        </p:nvPicPr>
        <p:blipFill>
          <a:blip r:embed="rId1"/>
          <a:stretch/>
        </p:blipFill>
        <p:spPr>
          <a:xfrm>
            <a:off x="5148360" y="1557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сква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от тогда Шукшин решил отправиться в Москву, поступать на сценарный факультет ВГ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ия не препятствовала мужу, поскольку видела, что тот просто бредил Москвой. Поддержала сына и мать Мария Сергеевна, более того, сделала все, что могла - продала корову и вырученные деньги отдала сы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53Z</dcterms:created>
  <dc:creator>притуленко мария ивановна</dc:creator>
  <dc:description/>
  <dc:language>en-US</dc:language>
  <cp:lastModifiedBy>Ольга</cp:lastModifiedBy>
  <dcterms:modified xsi:type="dcterms:W3CDTF">2017-12-06T06:18:45Z</dcterms:modified>
  <cp:revision>45</cp:revision>
  <dc:subject/>
  <dc:title>Калина красная Василия Шукшина…</dc:title>
</cp:coreProperties>
</file>