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E51-3374-4B69-A5E3-45CF4BC9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DB8-DA3D-44C9-9A3F-82D23169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3C5-6217-4F14-AE8A-F875C9B8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02F-8BC0-4BC9-A9C4-9E2AD420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582-021C-4017-9607-6FAE2722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57CF-B4D6-41AD-9D8B-15CF9F1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46C8-FA18-4BE5-954E-036F8EF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506-4B73-4CEB-94BD-146353E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E90A-5867-4223-AC89-EB3D73B7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6C3-C913-489C-A7C6-2342D91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6AED-1E3B-4C4F-B8C7-CE6668F7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55B-4E7A-4538-8B18-F0C7B078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76F-E9E6-4860-A0F4-1FA9FCCE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33A-4EFC-462B-9F29-74424EC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2E60-C1A5-4648-892A-DB54432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2EF-D0CB-414C-9F4D-7DF517FB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06C7-9EC7-453E-AAE1-0C3A5D9A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5A7-9DBE-4F70-AA48-5C38095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437-F618-483F-A45B-99D4D08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546-97C4-46B4-8A8D-E5E2A31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DC1-771D-4AA3-A6A9-5750BA7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101-052C-499A-85CC-F7F37DFD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82A-5E99-46F3-9249-6894B6C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90E-D177-4A5E-BCEE-59AB6D8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827-2289-4997-8565-F70018E26C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41E-5B26-4788-A8E0-E745AC3DD7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sent Per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Употребляет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писания событий, которые начались в прошлом и завершились к настоящему врем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писания событий, которые произошли в прошлом, но их результат важен в настоящ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писания действия, которое началось в прошлом и еще не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чило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gnal wo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ж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-либ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ког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ч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, с тех по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ч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м год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y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7342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твердительное предлож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                +has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+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         +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a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ju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writt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letter to her grann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** 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543640" y="1916280"/>
            <a:ext cx="215640" cy="1296720"/>
          </a:xfrm>
          <a:custGeom>
            <a:avLst/>
            <a:gdLst>
              <a:gd name="textAreaLeft" fmla="*/ 0 w 215640"/>
              <a:gd name="textAreaRight" fmla="*/ 77760 w 21564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215120" y="2852640"/>
            <a:ext cx="16765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РИЦАТЕЛЬНО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90792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, YOU,WE, 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Y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630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+ </a:t>
            </a:r>
            <a:r>
              <a:rPr b="0" lang="en-US" sz="4400" spc="-1" strike="noStrike">
                <a:solidFill>
                  <a:srgbClr val="002060"/>
                </a:solidFill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(ed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, HE, 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has n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a </a:t>
            </a:r>
            <a:r>
              <a:rPr b="1" lang="en-US" sz="3200" spc="-1" strike="noStrike">
                <a:solidFill>
                  <a:srgbClr val="00b0f0"/>
                </a:solidFill>
                <a:latin typeface="Comic Sans MS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writ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etter to her friend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ve not= have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s not= has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ОПРОСИТЕЛЬНОЕ ПРЕДЛОЖЕНИ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83204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484000" y="1844640"/>
            <a:ext cx="6335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ve/ha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+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 (ed)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ve you done your home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Слово +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ve/ha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+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+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(ed)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What have you done since 3 o’cloc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Present Perfect</a:t>
            </a:r>
            <a:br>
              <a:rPr sz="4400"/>
            </a:b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</a:rPr>
              <a:t>never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b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Franc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bough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ook toda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Ha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</a:rPr>
              <a:t>ev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en in China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3:51:46Z</dcterms:created>
  <dc:creator>XP</dc:creator>
  <dc:description/>
  <dc:language>en-US</dc:language>
  <cp:lastModifiedBy>Юля</cp:lastModifiedBy>
  <dcterms:modified xsi:type="dcterms:W3CDTF">2017-12-19T23:17:02Z</dcterms:modified>
  <cp:revision>11</cp:revision>
  <dc:subject/>
  <dc:title>Present Perfect</dc:title>
</cp:coreProperties>
</file>