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8B96-870B-494E-B932-6A8ADBC4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B1D4-F877-4C8E-B467-C12B28EC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CB76-D844-433E-B1DD-048EDC00F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F6B6-8A83-4275-A529-60625A99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728E-6E96-4440-A3A8-14FE2D55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470E-92EC-4378-B7D3-A020B2A7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DDF9-335E-4D8A-9BDE-8CADC2AE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CAC6-1ABC-4EC5-BBDD-676EFDD7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D989-A9E6-4B06-8295-747B5093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A136-DD43-4371-8B2C-11BB3449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3D44-0467-40FC-81C2-6BF94C3A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CC1B-C2A9-4C5D-B065-39394EC3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EB0F-287E-45A5-8E4B-5D8DE3F0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89B4-F0F9-4BC5-B15E-C581E3BA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0B75-2E65-462F-BC3E-E100B373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D934-F6E5-460E-AC4D-B507671E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EB26-2E08-47FC-B9AF-03A4DC14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F537DB-E5C1-4860-AF5F-3FA1FAEC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B02753-5F56-471C-BEB0-F6E9C2F9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A8A476-E101-461D-A0CB-EA4DAD73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D3318C-5B59-4BDF-944D-F621613C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2B50C1-61BE-41E2-A14C-4F8A6FFB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510A-081E-46A2-AF83-99021D10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CD39D5-B31D-479D-902B-1E4C85A1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032F60-96BB-49F0-B0B5-46A76554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963E8-5C24-404B-9FA1-1F01DE2C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0D0A6E-8807-423A-B1BD-283914A2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D4DAB-CAC4-4D84-94C3-22B3F1D5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C0C408-1472-4EAD-AFAF-16D9EF32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B8C5DB-0FBD-478A-A891-C0A829E0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09E81-E061-4974-8BC3-B1BDF6C6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88341-3C8D-4E36-B77B-A839A574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3C39C-7459-4F5B-A6A9-46D981E7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DAB0-780C-4F49-80A9-04C2E3C6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8D152-B97A-483F-BC5D-F69C10B2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367D0-C411-4213-ADEE-77F24CEA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653EE-0E2A-44CE-B467-798C5D72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12AF9-3D3D-47F0-A9BE-74762AC2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F122F-8095-4666-B48B-A355E17F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2E5EB-B34C-4D23-870C-5DCE3D35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238FA-03E8-410A-9630-023E8204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7CEA0-5BB8-4764-9FF0-3572E151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9B8C3-DDA9-4CF8-A14F-C44FDC4D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499539-4933-4076-AE06-209ADB0F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EDF7-BA1C-4FFE-91A0-D60C853F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45A1C5-A661-48D7-AAF2-5BEBE24E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1CEF6F-7554-42CD-9966-4A3B51FD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FD6C78-6F37-4288-9BB7-7C8834E8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553BE0-577B-4136-8480-840C822A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88CEC6-8631-46BB-B68F-6AF605B0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692996-DC57-4C37-8A4A-B9CB9E91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2DF341-2D25-47D8-BBE7-ABBDD698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3ED0ED-F467-4258-9094-A84EF980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C74988-2821-4C8B-95B7-39477594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1EBC14-9B06-4992-B82C-723CEE69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FBE0-F511-4047-A086-2F945AAA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2EE6C0-677A-4A0C-A4F7-0D156186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05DC0E-92B4-40ED-8196-F339FC8D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944723-AD57-428F-8A21-B006F739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C49DA8-F303-4FBC-9C15-46A09D69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E3B358-E58C-4272-B9B4-74F299C2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3434BF-03F1-44EF-8C41-F3811EB4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21640D-F696-4EE2-8D20-CCBECE27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1B2A5B-4579-4ED5-AF63-F131C949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002A7F-63B8-4527-97D3-E8AD9179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1F1410-DDA2-4D35-8135-34857CB6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C598-E318-4569-A07C-A355D775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8C72F0-93A6-4DF1-B0EB-25303A9F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4E7E66-F4AC-4462-8195-C96613D2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95BAD6-7E9E-443F-942F-59C4F1E7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0E7719-0DE1-4A81-B77B-7F63DBEE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D8287B-C87D-44E7-90F7-1E24177C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125809-99B5-42A6-87EB-4190FEAC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2D85CB-4187-4DD1-8D1D-962E2C35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578014-5C72-439D-AACC-992A04DD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173864-05B5-459F-AD50-7B90AB52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ADF796-8342-41B7-B923-B0495681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3158-0944-4EA4-A787-3105C33D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BD28A6-ECA3-49FC-B27D-336023EC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3C79C9-CFE6-4B47-8C42-A1AE90E2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ED9CA0-D8B7-4B37-9F1D-EF64C3F0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75BDBC-B62C-46EB-95B9-B307FFAE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D1FE79-5C38-4A3B-ABAA-81AFF843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7D85-A1D3-41CB-ABD1-8B946BFF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766B-9133-4DF4-95D2-9D1D532A040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6F14-F1AC-4367-BBAC-FBE455E4B16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B4D4-5CE8-466D-8F86-C859D6F76BD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1723-C5F5-4938-9299-F6D2240968E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4B9E-A6EA-4DB1-90EE-F2D3E3F4E4B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F45D-2E80-4BBA-A29D-4AC5B24C6BE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9B4E-EE66-4764-A8B7-969DFF1B9F1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ОБУЧАЮЩЕЕ ИЗЛОЖЕ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42600" y="1428840"/>
            <a:ext cx="74674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НАЛИЧНИКОМ ОКНА БЫЛО ГНЕЗДО ЛАСТОЧЕК. ОДНАЖДЫ ИЗ ГНЕЗДА ВЫПАЛ ПТЕНЧИК. ЛАСТОЧКИ КРУЖИЛИСЬ НАД НИМ И ЗВУЧНО ПИЩАЛИ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ЭТО УВИДЕЛ ПЕТЯ. ОН ПОДНЯЛ ПТИЧКУ И ПОСАДИЛ В ГНЕЗДО. ЛАСТОЧКИ ВЕСЕЛО ЗАЩЕБЕТАЛИ.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3" name="Picture 2" descr="http://www.falenki.ru/files/u2/sm100831_3.jpg"/>
          <p:cNvPicPr/>
          <p:nvPr/>
        </p:nvPicPr>
        <p:blipFill>
          <a:blip r:embed="rId1"/>
          <a:stretch/>
        </p:blipFill>
        <p:spPr>
          <a:xfrm>
            <a:off x="6284880" y="285840"/>
            <a:ext cx="23828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Прямоугольник 1" descr=""/>
          <p:cNvPicPr/>
          <p:nvPr/>
        </p:nvPicPr>
        <p:blipFill>
          <a:blip r:embed="rId1"/>
          <a:stretch/>
        </p:blipFill>
        <p:spPr>
          <a:xfrm>
            <a:off x="993600" y="5462640"/>
            <a:ext cx="6444000" cy="8222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http://www.xn--80afaf5asbr.xn--p1ai/disk_ornaments_narodov_mira/domovaya_reziba/001_rasha/okna/page_0005/okna_domovaya_reziba_0050_orig.jpg"/>
          <p:cNvPicPr/>
          <p:nvPr/>
        </p:nvPicPr>
        <p:blipFill>
          <a:blip r:embed="rId2"/>
          <a:stretch/>
        </p:blipFill>
        <p:spPr>
          <a:xfrm>
            <a:off x="714240" y="428760"/>
            <a:ext cx="3171960" cy="4790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http://www.xn--80afaf5asbr.xn--p1ai/disk_ornaments_narodov_mira/domovaya_reziba/001_rasha/okna/page_0004/okna_domovaya_reziba_0033_orig.jpg"/>
          <p:cNvPicPr/>
          <p:nvPr/>
        </p:nvPicPr>
        <p:blipFill>
          <a:blip r:embed="rId3"/>
          <a:stretch/>
        </p:blipFill>
        <p:spPr>
          <a:xfrm>
            <a:off x="4500720" y="500040"/>
            <a:ext cx="317160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http://www.pokescope.com/contest/Objects1/Category2_48_350.jpg"/>
          <p:cNvPicPr/>
          <p:nvPr/>
        </p:nvPicPr>
        <p:blipFill>
          <a:blip r:embed="rId1"/>
          <a:stretch/>
        </p:blipFill>
        <p:spPr>
          <a:xfrm>
            <a:off x="285840" y="285840"/>
            <a:ext cx="4476600" cy="28573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http://img-fotki.yandex.ru/get/4609/28965519.2c/0_59950_ee637400_XL"/>
          <p:cNvPicPr/>
          <p:nvPr/>
        </p:nvPicPr>
        <p:blipFill>
          <a:blip r:embed="rId2"/>
          <a:stretch/>
        </p:blipFill>
        <p:spPr>
          <a:xfrm>
            <a:off x="4000680" y="3286080"/>
            <a:ext cx="4262400" cy="3197160"/>
          </a:xfrm>
          <a:prstGeom prst="rect">
            <a:avLst/>
          </a:prstGeom>
          <a:ln w="0">
            <a:noFill/>
          </a:ln>
        </p:spPr>
      </p:pic>
      <p:pic>
        <p:nvPicPr>
          <p:cNvPr id="359" name="Прямоугольник 3" descr=""/>
          <p:cNvPicPr/>
          <p:nvPr/>
        </p:nvPicPr>
        <p:blipFill>
          <a:blip r:embed="rId3"/>
          <a:stretch/>
        </p:blipFill>
        <p:spPr>
          <a:xfrm>
            <a:off x="480960" y="3840120"/>
            <a:ext cx="3292560" cy="1170000"/>
          </a:xfrm>
          <a:prstGeom prst="rect">
            <a:avLst/>
          </a:prstGeom>
          <a:ln w="0">
            <a:noFill/>
          </a:ln>
        </p:spPr>
      </p:pic>
      <p:pic>
        <p:nvPicPr>
          <p:cNvPr id="360" name="Прямоугольник 4" descr=""/>
          <p:cNvPicPr/>
          <p:nvPr/>
        </p:nvPicPr>
        <p:blipFill>
          <a:blip r:embed="rId4"/>
          <a:stretch/>
        </p:blipFill>
        <p:spPr>
          <a:xfrm>
            <a:off x="4925880" y="493560"/>
            <a:ext cx="317052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285840" y="357120"/>
          <a:ext cx="8358120" cy="5857920"/>
        </p:xfrm>
        <a:graphic>
          <a:graphicData uri="http://schemas.openxmlformats.org/drawingml/2006/table">
            <a:tbl>
              <a:tblPr/>
              <a:tblGrid>
                <a:gridCol w="4179960"/>
                <a:gridCol w="4178160"/>
              </a:tblGrid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Где было гнездо ласточек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 наличником окн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Что случилось однажды с птенчиком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>
                      <a:noFill/>
                    </a:lnB>
                    <a:solidFill>
                      <a:srgbClr val="fe863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ал из гнезд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>
                      <a:noFill/>
                    </a:lnB>
                    <a:solidFill>
                      <a:srgbClr val="fe8637">
                        <a:alpha val="20000"/>
                      </a:srgbClr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Как вели себя ласточки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жились, пищали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Кто это увидел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863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8637">
                        <a:alpha val="20000"/>
                      </a:srgbClr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Что сделал мальчик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нял птичку, посадил в гнезд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Как теперь вели себя птицы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ело щебета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62" name="Прямая соединительная линия 7"/>
          <p:cNvSpPr/>
          <p:nvPr/>
        </p:nvSpPr>
        <p:spPr>
          <a:xfrm flipH="1">
            <a:off x="4284720" y="357120"/>
            <a:ext cx="1440" cy="628812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http://www.proza.ru/pics/2009/09/03/625.jpg"/>
          <p:cNvPicPr/>
          <p:nvPr/>
        </p:nvPicPr>
        <p:blipFill>
          <a:blip r:embed="rId1"/>
          <a:stretch/>
        </p:blipFill>
        <p:spPr>
          <a:xfrm>
            <a:off x="285840" y="285840"/>
            <a:ext cx="855324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4:20:58Z</dcterms:created>
  <dc:creator>Бакшаевы</dc:creator>
  <dc:description/>
  <dc:language>en-US</dc:language>
  <cp:lastModifiedBy>Пользователь Windows</cp:lastModifiedBy>
  <dcterms:modified xsi:type="dcterms:W3CDTF">2013-11-25T16:00:58Z</dcterms:modified>
  <cp:revision>6</cp:revision>
  <dc:subject/>
  <dc:title>Обучающее изложение</dc:title>
</cp:coreProperties>
</file>