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673-050A-4715-90D3-4E62037D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9F0-7756-40EE-9F4A-92D91DD5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445-5009-4F68-B154-67733160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8DD-1E84-4EA3-AE06-7FF7E4E0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45D-AA25-478C-98D1-A50D4889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EFE-009D-4D3A-B282-33D82174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978-D50F-448D-9317-E694BA55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0B9-43A6-4E0F-98AB-AD502117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90B-E2AF-401B-8916-D13F4C20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AE8-161D-4182-932F-AAA2587A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E91-93FC-4C50-9A4F-D76B8CB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EC4-46E7-44A2-91DB-00F2D48E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991A-0ED5-447A-AC10-54F7AD0A9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15840" y="364680"/>
            <a:ext cx="6970680" cy="34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Calibri Light"/>
              </a:rPr>
              <a:t>Мастер – класс </a:t>
            </a:r>
            <a:br>
              <a:rPr sz="4000"/>
            </a:br>
            <a:r>
              <a:rPr b="1" i="1" lang="ru-RU" sz="4800" spc="-1" strike="noStrike">
                <a:solidFill>
                  <a:srgbClr val="ff0000"/>
                </a:solidFill>
                <a:latin typeface="Calibri Light"/>
              </a:rPr>
              <a:t>«Развитие познавательных интересов через                       игры с песком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65280" y="5486400"/>
            <a:ext cx="634680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и: педагог-психолог Ситникова Е.В. и учитель-логопед Подковырова Н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Без названия (1).jpg"/>
          <p:cNvPicPr/>
          <p:nvPr/>
        </p:nvPicPr>
        <p:blipFill>
          <a:blip r:embed="rId1"/>
          <a:stretch/>
        </p:blipFill>
        <p:spPr>
          <a:xfrm>
            <a:off x="1722600" y="3909960"/>
            <a:ext cx="24685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6640" y="364680"/>
            <a:ext cx="714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Я открою вам секреты,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Только надо знать при этом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Правила моей страны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Очень все они просты!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Я сейчас их изложу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И запомнить попрошу!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Вредных нет у нас в стране —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Ведь не место им в песке!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Здесь нельзя кусаться, драться!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И нельзя песком кидаться!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Никого не обижать,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Стран чужих не разорять!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Песок — мирная страна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Можно строить и чудить,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Можно много сотворить: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Горы, реки и моря,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Чтобы жизнь вокруг была</a:t>
            </a:r>
            <a:br>
              <a:rPr sz="2400"/>
            </a:br>
            <a:r>
              <a:rPr b="0" lang="ru-RU" sz="2400" spc="-1" strike="noStrike">
                <a:solidFill>
                  <a:srgbClr val="190504"/>
                </a:solidFill>
                <a:latin typeface="Calibri Light"/>
              </a:rPr>
              <a:t>Все вы поняли меня?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41200" y="365040"/>
            <a:ext cx="6784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итуал «выхода» из Песочной стра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1840" y="1453680"/>
            <a:ext cx="6740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ладошки наши посмотри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дрее стали ведь он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, милый наш пес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ы всем сегодня нам помог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75120" y="4071960"/>
            <a:ext cx="42814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741320" y="0"/>
            <a:ext cx="740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1801800" y="553320"/>
            <a:ext cx="6918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 повышение психолого-педагогической компетентности участников семинара в области использования различных методов работы с разными видами песка в условиях детско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Создание позитивного настроя на работу, доверительной и деловой атмосферы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Обогащение педагогических знаний и умений воспитателей в области применения нетрадиционных форм обучения дете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Формирование у педагогов нового взгляда на ребёнка как на субъект воспитания с его потребностями и переживаниями, как на партнёра по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пособствовать снятию напряжения, расслаблен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5. Способствовать внедрению в практику работы педагогов инновационных методик и технолог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направленных на сохранение здоровья дошкольни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1758960" y="0"/>
            <a:ext cx="738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920960" y="643320"/>
            <a:ext cx="6786360" cy="515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полезны игры с песк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вивают восприятие, внимание, образное мышление, речь, внимание, навыки самоконтро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формируют представления об окружающем ми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вивают глазомер и мелкую мотор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успокаивают и расслабляют, снимают напряжение и агресс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спитывают чувство уверенности и успеш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могают познавать внешний и свой внутренний ми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65040"/>
            <a:ext cx="6686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Эффект песочной терап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68400" y="1563840"/>
            <a:ext cx="664704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зитивное влияние на эмоциональное состоя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ложительная динамика в развитии образного мышл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тактильной чувстви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риентировки в простран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енсорно – моторного восприя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5440" y="365040"/>
            <a:ext cx="6659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Игры с песком разнообразн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61840" y="1271520"/>
            <a:ext cx="70246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учающие игр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помогают в овладении навыками чтения, письма, счёта, развивают фонематический слух, а также проводить коррекцию звукопроизношени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знавательные игр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дают возможность детям познать многогранность окружающего ми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ективные игр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открывают потенциальные возможности ребёнка, развивают его творчество и фантазию. С помощью этих игр проводится психологическая диагностика, коррекция и развитие ребё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сихотерапевтические игр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помогают снять нервное напряжение, в том числе в период адаптации к новым обстоятельств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81360" y="874800"/>
            <a:ext cx="663408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ЧТО НУЖНО ДЛЯ ИГРЫ В ПЕСО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15840" y="1496520"/>
            <a:ext cx="66992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нужно для игры в пес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ужно, в сущности, так ма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, желанье, добро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 Вера в Детство не проп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ейший ящик от сто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расим голубою краск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сть золотистого пе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да вольется дивной сказ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ушек маленьких наб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ьмем в игру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бно Б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оздадим свой Мир Чудес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я Познания Дор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0960" y="716040"/>
            <a:ext cx="65944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Оборудование «педагогической песочницы»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0960" y="1218960"/>
            <a:ext cx="6891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непроницаемый деревянный ящик или пластиковый таз (контейнер).  Желательно, чтобы у песочниц были съемные крыш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ор игрового материала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патки, широкие кисточки, сита, ворон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ные пластиковые формочки разной величины — геометрические; изображающие животных, транспорт, людей; формочки для те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иатюрные игрушки (высотой 5–10 см), изображающие людей разного пола и возраста; различных животных и растения; транспорт и пр. (игрушки из «киндер-сюрпризов» для занятий в младших группах не использоват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ор игрушечной посуды и игрушечные кроватки (для игр «Песочный детский сад» и «Семья»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ные здания и построй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совый материал: камешки, ракушки, веточки, палочки, большие пуговицы, одноразовые соломки для коктей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стиковые буквы, цифры, счётные палочки, геометрические фиг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оры посуды, лопатки, сито, воронки, формочки разной величины, широкие кисточки, штампики, трафареты для рис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1987560" y="984960"/>
            <a:ext cx="729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 к песку для песочницы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сок для детской песочницы должен быть сертифицирова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го необходимо промыть, прокалить в духовке 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варцева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у процедуру делают не реже одного раза в недел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обновлять песок в песочнице один раз в год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6" descr="Без названия (1).jpg"/>
          <p:cNvPicPr/>
          <p:nvPr/>
        </p:nvPicPr>
        <p:blipFill>
          <a:blip r:embed="rId1"/>
          <a:stretch/>
        </p:blipFill>
        <p:spPr>
          <a:xfrm>
            <a:off x="4040280" y="4008600"/>
            <a:ext cx="353052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905200" y="137880"/>
            <a:ext cx="607680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нятиях по пескотерапии есть свой ритуал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ы знакомим ребёнка с правилами поведения в песочнице (чем младше дети, тем короче правила). т.к. часть песка обычно при игре высыпается из песочницы, нужно обратить внимание на этот фак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- ль: Песочная фея загрустила, потому что её подружки- песчинки потерялись и  не смогли вернуться домой в песочницу. Песочная фея просит тебя, малыш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 Береги песчинки, - не выбрасывай их из песочницы. Если  случайно песок всыпался, покажи это взрослому, и он поможет вернуться им обратно домой. 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выбрасывать песок из песочниц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счинки очень не любят, когда их берут в рот, или бросаются ими в других детей. 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брать песок в рот  и бросать его в других люде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сочная фея любит, когда у детей чистые ручки и носики. 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л с песком - помой ручки и покажи чистые ладошки зеркал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animashki-elfy-29.gif"/>
          <p:cNvPicPr/>
          <p:nvPr/>
        </p:nvPicPr>
        <p:blipFill>
          <a:blip r:embed="rId1"/>
          <a:stretch/>
        </p:blipFill>
        <p:spPr>
          <a:xfrm>
            <a:off x="925560" y="1270080"/>
            <a:ext cx="2384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2:08:41Z</dcterms:created>
  <dc:creator>Dmytro</dc:creator>
  <dc:description/>
  <dc:language>en-US</dc:language>
  <cp:lastModifiedBy>Vlad</cp:lastModifiedBy>
  <dcterms:modified xsi:type="dcterms:W3CDTF">2017-12-20T16:28:31Z</dcterms:modified>
  <cp:revision>48</cp:revision>
  <dc:subject/>
  <dc:title>Название презентации</dc:title>
</cp:coreProperties>
</file>