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6797-4561-4831-84B8-91FF410474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FB9-4433-460B-9F5F-7283B6C945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D45B-0314-4B50-861B-2F6A9E722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049-1F6B-4354-A3C0-E077EBEB2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093-DB4D-4515-BD56-5FD02F83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B9A-87FC-4A1D-97B4-176058F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3B8-41AE-4F62-AE48-FFC8C233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8BA-DE7A-4002-B99E-28291D75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6EE-2A51-4741-984F-980752FA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318-9DC5-4740-AFF1-0265D4BA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B8B4-84C0-4EA6-9E94-461732D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A81B-73BB-4272-844A-874A1F7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A82-4161-401C-BF27-B493E4BF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11E-EE03-4833-8008-A351BEE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EE9-F4A8-48EE-8D2C-1D69022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1C6-B6F6-4FCD-9EA9-944DD9E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2ACB-4F77-4A3F-AF39-2C891963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3FA-5AE4-464E-B42E-F96ECA5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F07-402C-493F-A477-F48FFBE4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B7A4-F9BA-4972-87BC-A67F3E50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9EE-4C49-43E8-969E-91E0FFDA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CE1-BCD5-477D-9485-C2B9319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5A2-0345-4A39-8D57-0527D91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661-4D9C-4FF2-B7A5-618AAD3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418-1C5A-4D92-816B-89B8C82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3A8-B501-4AD9-8C8A-24590AEC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B8F-0E6B-4136-AE17-40635DCD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B41-F800-499A-8493-F315CC1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D0A-F00D-4B89-9762-74E38DC3F528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ECA-7717-4045-94CF-0AEE3778B34D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56000" y="4724280"/>
            <a:ext cx="277164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пов Александр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довских Анастас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: Губанова Зоя Серг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93840" y="1341360"/>
            <a:ext cx="785016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Алюминий на кухне: опасный враг или верный помощник?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 rot="21417600">
            <a:off x="539280" y="4002120"/>
            <a:ext cx="3807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6624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Tahoma"/>
              </a:rPr>
              <a:t>обзор и анализ литературы по изучению влияния алюминия на организм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оциологический опрос  по использованию алюминиевой посуды  и дезодорантов –         антиперспирантов и губной помады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абораторные исследования  по определению  рН  среды различных видов пищи, которую готовят в алюминиевой посуде.  (химический  мето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Tahoma"/>
              </a:rPr>
              <a:t>исследование с помощью качественного анализа растворов  на наличие  в них ионов </a:t>
            </a:r>
            <a:r>
              <a:rPr b="0" lang="en-US" sz="2000" spc="-1" strike="noStrike">
                <a:solidFill>
                  <a:srgbClr val="99ff66"/>
                </a:solidFill>
                <a:latin typeface="Tahoma"/>
              </a:rPr>
              <a:t>Al</a:t>
            </a:r>
            <a:r>
              <a:rPr b="0" lang="ru-RU" sz="2000" spc="-1" strike="noStrike">
                <a:solidFill>
                  <a:srgbClr val="99ff66"/>
                </a:solidFill>
                <a:latin typeface="Tahoma"/>
              </a:rPr>
              <a:t>3+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анализ исследований  и выво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4284720" y="549360"/>
            <a:ext cx="44784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ы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057040" y="234936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оны металла: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Al</a:t>
            </a: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780000" y="549360"/>
            <a:ext cx="47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 rot="20764800">
            <a:off x="5202360" y="3693600"/>
            <a:ext cx="3600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8920" y="1125360"/>
            <a:ext cx="718488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Алюминий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ccff"/>
                </a:solidFill>
                <a:latin typeface="Tahoma"/>
              </a:rPr>
              <a:t>– самый  распространенный металл в прир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13"/>
          <p:cNvPicPr/>
          <p:nvPr/>
        </p:nvPicPr>
        <p:blipFill>
          <a:blip r:embed="rId1">
            <a:alphaModFix amt="20000"/>
          </a:blip>
          <a:srcRect l="2540" t="2301" r="4979" b="2264"/>
          <a:stretch/>
        </p:blipFill>
        <p:spPr>
          <a:xfrm rot="21363600">
            <a:off x="4149360" y="2841480"/>
            <a:ext cx="3529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6920" y="21333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66"/>
                </a:solidFill>
                <a:latin typeface="Tahoma"/>
              </a:rPr>
              <a:t>Алюминий – лёгкий, серебристо – белый, пластичный металл, хорошо проводит электрический ток и теп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839960" y="1124640"/>
            <a:ext cx="58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Физические 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4643280" y="3841920"/>
            <a:ext cx="35355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2781000"/>
            <a:ext cx="6621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Tahoma"/>
              </a:rPr>
              <a:t>Алюминий</a:t>
            </a:r>
            <a:r>
              <a:rPr b="0" lang="ru-RU" sz="3200" spc="-1" strike="noStrike">
                <a:solidFill>
                  <a:srgbClr val="99ff66"/>
                </a:solidFill>
                <a:latin typeface="Tahoma"/>
              </a:rPr>
              <a:t> – сильный восстановитель, он находится в левой части электрохимического ряда напряжений  металлов. Алюминий реагирует со многими простыми и сложными вещест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55280" y="907560"/>
            <a:ext cx="799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619280" y="5300640"/>
            <a:ext cx="59529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484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Алюминий  легко соединяется с кислородом при комнатной температур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4071600"/>
            <a:ext cx="86043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34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+ 3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= 2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1268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Алюминий взаимодействует со многими простыми веществами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560" y="321300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2Al</a:t>
            </a:r>
            <a:r>
              <a:rPr b="1" lang="ru-RU" sz="4000" spc="-1" strike="noStrike">
                <a:solidFill>
                  <a:srgbClr val="00cc99"/>
                </a:solidFill>
                <a:latin typeface="Tahoma"/>
              </a:rPr>
              <a:t>  +  3С</a:t>
            </a: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l</a:t>
            </a:r>
            <a:r>
              <a:rPr b="1" lang="ru-RU" sz="4000" spc="-1" strike="noStrike" baseline="-25000">
                <a:solidFill>
                  <a:srgbClr val="00cc99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00cc99"/>
                </a:solidFill>
                <a:latin typeface="Tahoma"/>
              </a:rPr>
              <a:t>  =  2</a:t>
            </a: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Al Cl</a:t>
            </a:r>
            <a:r>
              <a:rPr b="1" lang="ru-RU" sz="4000" spc="-1" strike="noStrike" baseline="-25000">
                <a:solidFill>
                  <a:srgbClr val="00cc99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Al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3S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Al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ffff"/>
                </a:solidFill>
                <a:latin typeface="Tahoma"/>
              </a:rPr>
              <a:t>2Al</a:t>
            </a: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9ffff"/>
                </a:solidFill>
                <a:latin typeface="Tahoma"/>
              </a:rPr>
              <a:t> +</a:t>
            </a: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9ffff"/>
                </a:solidFill>
                <a:latin typeface="Tahoma"/>
              </a:rPr>
              <a:t>3C</a:t>
            </a: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9ffff"/>
                </a:solidFill>
                <a:latin typeface="Tahoma"/>
              </a:rPr>
              <a:t>=</a:t>
            </a:r>
            <a:r>
              <a:rPr b="1" lang="ru-RU" sz="40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9ffff"/>
                </a:solidFill>
                <a:latin typeface="Tahoma"/>
              </a:rPr>
              <a:t>2A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Tahoma"/>
              </a:rPr>
              <a:t>4А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l </a:t>
            </a:r>
            <a:r>
              <a:rPr b="1" lang="ru-RU" sz="4000" spc="-1" strike="noStrike">
                <a:solidFill>
                  <a:srgbClr val="cc66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+ </a:t>
            </a:r>
            <a:r>
              <a:rPr b="1" lang="ru-RU" sz="4000" spc="-1" strike="noStrike">
                <a:solidFill>
                  <a:srgbClr val="cc66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3C</a:t>
            </a:r>
            <a:r>
              <a:rPr b="1" lang="ru-RU" sz="4000" spc="-1" strike="noStrike">
                <a:solidFill>
                  <a:srgbClr val="cc66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 = </a:t>
            </a:r>
            <a:r>
              <a:rPr b="1" lang="ru-RU" sz="4000" spc="-1" strike="noStrike">
                <a:solidFill>
                  <a:srgbClr val="cc66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Al</a:t>
            </a:r>
            <a:r>
              <a:rPr b="1" lang="en-US" sz="4000" spc="-1" strike="noStrike" baseline="-25000">
                <a:solidFill>
                  <a:srgbClr val="cc66ff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cc66ff"/>
                </a:solidFill>
                <a:latin typeface="Tahoma"/>
              </a:rPr>
              <a:t>C</a:t>
            </a:r>
            <a:r>
              <a:rPr b="1" lang="en-US" sz="4000" spc="-1" strike="noStrike" baseline="-25000">
                <a:solidFill>
                  <a:srgbClr val="cc66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люмин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обый  металл.  Он взаимодействует и с кислотами и с основаниями. А поэтому является переходным элементом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3644640"/>
            <a:ext cx="7518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2Al +6HCl = 2AlCl</a:t>
            </a:r>
            <a:r>
              <a:rPr b="1" lang="en-US" sz="4000" spc="-1" strike="noStrike" baseline="-25000">
                <a:solidFill>
                  <a:srgbClr val="ff33cc"/>
                </a:solidFill>
                <a:latin typeface="Tahoma"/>
              </a:rPr>
              <a:t>3 </a:t>
            </a: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+ 3</a:t>
            </a:r>
            <a:r>
              <a:rPr b="1" lang="ru-RU" sz="4000" spc="-1" strike="noStrike">
                <a:solidFill>
                  <a:srgbClr val="ff33cc"/>
                </a:solidFill>
                <a:latin typeface="Tahoma"/>
              </a:rPr>
              <a:t>Н</a:t>
            </a:r>
            <a:r>
              <a:rPr b="1" lang="en-US" sz="40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2Al  +  2NaOH  +  6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O   =   2Na[Al(O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]   +   3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6000" y="2204640"/>
            <a:ext cx="7518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юминий очень активный металл, который взаимодействует и с кислотами и со щелочами. Его соединения проявляют амфотерные свойства, то есть его оксид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и гидроксид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)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также взаимодействуют и с кислотами и с основа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6012000" y="476280"/>
            <a:ext cx="266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ёгкость алюминия и его сплавов и большая устойчивость по отношению к воздуху и воде обусловливают их применение в машиностроении, авиастроении, судостро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356000" y="907560"/>
            <a:ext cx="446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Человеческое общество с самого своего появления стремилось максимально улучшить условия среды об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1"/>
          <a:srcRect l="39421" t="11202" r="9361" b="22807"/>
          <a:stretch/>
        </p:blipFill>
        <p:spPr>
          <a:xfrm>
            <a:off x="2195640" y="4395960"/>
            <a:ext cx="38890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юминий действительно  выполняет в живом организме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ажную биологическую роль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Принимает участие в построении эпителиальной и соединительной тка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Участвует в процессе регенерации кост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Оказывает активирующее или ингибирующее действие на реакционную способность пищеварительных фер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15640" y="785520"/>
            <a:ext cx="7086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99ff66"/>
                </a:solidFill>
                <a:latin typeface="Tahoma"/>
              </a:rPr>
              <a:t>Алюминиевой посудой широко пользуются в быту, и до недавнего времени её считали безвред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000160" y="2928960"/>
            <a:ext cx="48992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79280" y="2781000"/>
            <a:ext cx="68007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30 лет назад определили, что так называемый пищевой алюминий опасен для нашего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1600200" cy="201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ыток солей алюминия снижает задержку кальция в организме, уменьшает адсорбцию фосфора, одновременно в 10-20 раз увеличивается содержание алюминия в костях, печени, семенниках, мозге и в паращитовидной желез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4365720"/>
            <a:ext cx="2521080" cy="19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7451640" y="47628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00000" y="4723920"/>
            <a:ext cx="76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66"/>
                </a:solidFill>
                <a:latin typeface="Tahoma"/>
              </a:rPr>
              <a:t>Избыток алюминия парализует нервную и иммунную системы; особенно угнетающе действует на детский организм. Он может стать причиной появления повышенной возбудимости и нарушения психомоторных реакций у детей, анемии, головной б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15640" y="98100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Алюминий в производстве посуды используется совсем недолго, меньше 100 лет,  в отличие от  меди, бронзы, золота, серебра и железа, известных  уже несколько тысячелетий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2124000" y="1447920"/>
            <a:ext cx="612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, не смотря на то, что о вреде алюминиевой посуды говорит немало источников,  в России и странах СНГ есть 26 предприятий, на которых по-прежнему выпускается алюминиевая посуда. Эта  посуда по-прежнему пользуется спросом среди хозя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 rot="327600">
            <a:off x="899640" y="4149720"/>
            <a:ext cx="2935440" cy="2198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 rot="21223200">
            <a:off x="5219280" y="4076280"/>
            <a:ext cx="2735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Какую посуду вы используете дома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Диаграмма 20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265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Знаете ли вы, о недостатках алюминиевых кастрюл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Диаграмма 12" descr=""/>
          <p:cNvPicPr/>
          <p:nvPr/>
        </p:nvPicPr>
        <p:blipFill>
          <a:blip r:embed="rId1"/>
          <a:srcRect l="0" t="0" r="0" b="-145"/>
          <a:stretch/>
        </p:blipFill>
        <p:spPr>
          <a:xfrm>
            <a:off x="1547640" y="3284640"/>
            <a:ext cx="590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714240"/>
            <a:ext cx="70866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Знаете ли вы, что алюминиевая посуда 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запрещена к использованию в детских садах, школах?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Диаграмма 17" descr=""/>
          <p:cNvPicPr/>
          <p:nvPr/>
        </p:nvPicPr>
        <p:blipFill>
          <a:blip r:embed="rId1"/>
          <a:srcRect l="0" t="0" r="0" b="-188"/>
          <a:stretch/>
        </p:blipFill>
        <p:spPr>
          <a:xfrm>
            <a:off x="1403280" y="2637000"/>
            <a:ext cx="604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63640" y="836280"/>
            <a:ext cx="712944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Давно известно, что очень вредными для человека являются тяжелые металлы, особенно ртуть, кадмий, свинец.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 rot="529800">
            <a:off x="6588000" y="3500280"/>
            <a:ext cx="2157480" cy="288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232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72723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селение  плохо информировано о вреде,  который  алюминиевая посуда может нанести здоровью человека при  неправильном её использов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6227640" y="333360"/>
            <a:ext cx="2683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401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37432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Опыт№1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е взаимодействия алюминия с растворами кислот и основ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0" y="457200"/>
            <a:ext cx="6660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0" y="1123920"/>
            <a:ext cx="66600" cy="2095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0" y="5249880"/>
            <a:ext cx="9144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l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l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3Н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5678280"/>
            <a:ext cx="8643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Al  +  2NaOH  +  6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  =   2Na[Al(O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  +   3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90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 rot="556800">
            <a:off x="6948000" y="836640"/>
            <a:ext cx="1878120" cy="2660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 rot="21294600">
            <a:off x="4284720" y="2276640"/>
            <a:ext cx="20462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Опыт 2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26920" y="1413000"/>
          <a:ext cx="8066160" cy="5445000"/>
        </p:xfrm>
        <a:graphic>
          <a:graphicData uri="http://schemas.openxmlformats.org/drawingml/2006/table">
            <a:tbl>
              <a:tblPr/>
              <a:tblGrid>
                <a:gridCol w="777960"/>
                <a:gridCol w="3645000"/>
                <a:gridCol w="36432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анная к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Рисовая к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шенная к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Гречневая к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ака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уп вермишелевый на курином буль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артофельное пю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Бор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Гуля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мпот из свежих ябл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Щ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312"/>
          <p:cNvSpPr/>
          <p:nvPr/>
        </p:nvSpPr>
        <p:spPr>
          <a:xfrm>
            <a:off x="1835280" y="41076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и были проверены наиболее распространенные блюда, которые готовят в школьной столовой индикаторами  и была определена среда этих блю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P118048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55640" y="4508280"/>
            <a:ext cx="762624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вод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ми было обнаружено, что различные блюда имеют различную среду растворов: молочные каши имеют щелочную среду, мясные блюда, приготовленные с добавлением томатного соуса – кислую среду, все компоты имеют кислу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P1180472 (2)"/>
          <p:cNvPicPr/>
          <p:nvPr/>
        </p:nvPicPr>
        <p:blipFill>
          <a:blip r:embed="rId1"/>
          <a:stretch/>
        </p:blipFill>
        <p:spPr>
          <a:xfrm>
            <a:off x="1692360" y="981000"/>
            <a:ext cx="626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714240"/>
            <a:ext cx="7086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люминиевой кастрюле проведено кипячение чистой воды в течении 15 мин, а затем эта вода была проверена на содержание ионов алюми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4797360"/>
            <a:ext cx="70866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обе воды, которая кипятилась в алюминиевой посуде,  ионов алюминия не обнаруже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P1180494 (2)"/>
          <p:cNvPicPr/>
          <p:nvPr/>
        </p:nvPicPr>
        <p:blipFill>
          <a:blip r:embed="rId1"/>
          <a:stretch/>
        </p:blipFill>
        <p:spPr>
          <a:xfrm>
            <a:off x="2700360" y="2421000"/>
            <a:ext cx="4068720" cy="22892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323640" y="1148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ыт 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920" y="785880"/>
            <a:ext cx="41767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юминий не любит контакта с кислотами и щелочами, потому, что кислоты и щелочи, содержащиеся в продуктах, защитную пленку алюминия  все-таки разрушают, и тогда металл переходит в пищу.  Но щи, кисель или мясо в кисло-сладком соусе как раз и есть такие реактивы которые имеют кислую среду, а молоко и молочные каши имеет щелочную реакцию. В результате в наши блюда со стенок кастрюль переходят соединения, не предусмотренные кулинарными рецепт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P1180473 (2)"/>
          <p:cNvPicPr/>
          <p:nvPr/>
        </p:nvPicPr>
        <p:blipFill>
          <a:blip r:embed="rId1"/>
          <a:stretch/>
        </p:blipFill>
        <p:spPr>
          <a:xfrm>
            <a:off x="5002200" y="1785960"/>
            <a:ext cx="3924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331640" y="112536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нахождении в контакте с алюминиевой  посудой длительное время, вода также насыщается ионами. Интенсивность перехода ионов в раствор, отраженная в данном опыте, говорит о том, что хранение продуктов в металлической посуде небезопасно с точки зрения насыщения их ионами  алюми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285920" y="785880"/>
            <a:ext cx="6572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Ни в коем случае алюминиевая посуда не годится для варки диетических блюд и детского питания.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Рисунок1"/>
          <p:cNvPicPr/>
          <p:nvPr/>
        </p:nvPicPr>
        <p:blipFill>
          <a:blip r:embed="rId1"/>
          <a:stretch/>
        </p:blipFill>
        <p:spPr>
          <a:xfrm>
            <a:off x="7956720" y="549360"/>
            <a:ext cx="5428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684360" y="1989000"/>
            <a:ext cx="5545080" cy="86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В алюминиевой посуде без вреда для здоровья можно кипятить только  чистую  в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льзоваться алюминиевой посудой постоянно нельзя, так как ионы алюминия могут накапливаться в организме человека, что способствует ухудшению здоровья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2484360" y="1052640"/>
            <a:ext cx="39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выв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1628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сем недавно был исследован  считавшийся до  недавнего времени нетоксичным 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 и оказалось что и этот металл, не являющийся тяжелым, может оказывать вредное влияние на организм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 rot="20756400">
            <a:off x="5173200" y="3959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 rot="699000">
            <a:off x="658800" y="4182840"/>
            <a:ext cx="38163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18920" y="1196640"/>
            <a:ext cx="5977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Нельзя готовить в алюминиевой посуде молочные блюда и блюда из овощей и фру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Нельзя  готовить в алюминиевой посуде различные маринады с добавлением уксусной и лимонной кисло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24000" y="1125000"/>
            <a:ext cx="521964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Алюминий попадет в организм человека в основном с пищей, при использовании дезодорантов и даже с губной пома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2951280" cy="2433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68360" y="633240"/>
            <a:ext cx="3311640" cy="269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4500720" y="4305240"/>
            <a:ext cx="3889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928880"/>
            <a:ext cx="7561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2fff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явить  и установить возможность попадания ионов алюминия  в организм через алюминиевую  посуду, доказать что алюминиевая посуда непригодна дл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b8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500040" y="189000"/>
            <a:ext cx="828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357200" y="83664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им исследованием мы хотели бы ответить на следующие вопро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052280"/>
            <a:ext cx="7058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с помощью химических методов можно определить  наличие  ионо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</a:rPr>
              <a:t>3+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 пище после её приготовления в алюминиевой посуде,  то можно установить, что ионы алюминия попадают в организм человека с пищей и представляют  опасность для здоровья  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5616720" y="54936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потеза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5280" y="1125360"/>
            <a:ext cx="67867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 возможные пути попадания ионов алюминия в организм человека через использование в быту алюминиевой посу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ытным путем подтвердив непригодность алюминиевой посуды для приготовления и хранения пи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6804000" y="285840"/>
            <a:ext cx="1967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1116000" y="4470480"/>
            <a:ext cx="3384720" cy="23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6902280" y="3971880"/>
            <a:ext cx="22417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етическим путем изучить химические свойства алюми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влияние и возможное негативное воздействие на живой организм ионо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</a:rPr>
              <a:t>3+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насколько  широко алюминиевая посуда   используется в быту в наше врем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рН  среды различных видов пищи, которую готовят в алюминиевой посу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помощью качественного анализа растворов  исследовать  их на наличие ионо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основе проведенных исследований сделать вывод о пользе или вреде алюминиевой посуды и дать рекомендации по её правильному использов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6443640" y="476280"/>
            <a:ext cx="2295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2:38:52Z</dcterms:created>
  <dc:creator>Admin</dc:creator>
  <dc:description/>
  <dc:language>en-US</dc:language>
  <cp:lastModifiedBy>Сергей</cp:lastModifiedBy>
  <dcterms:modified xsi:type="dcterms:W3CDTF">2017-12-20T14:50:09Z</dcterms:modified>
  <cp:revision>67</cp:revision>
  <dc:subject/>
  <dc:title>Проектная работа </dc:title>
</cp:coreProperties>
</file>