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1E9-D65F-4C0C-A000-B084E8E1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E9A-FE66-469F-89A6-8BB23E5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5AD-1FFD-4053-92B8-4CF82B93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4E5-C54D-4B09-B084-A825898E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8F4-4399-4073-9BB5-1606ED50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6E1-2768-4FF2-A75F-1387E06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109-A318-48D9-AADC-8718C60F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44E-3815-4B7F-99DC-540F428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152-60CE-46CE-B055-D6E95D7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CE3-256D-44F0-A287-AE9FC6D3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C61-C1C4-424A-819F-89DE59C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CB6-830E-4D72-BBBF-F2A93AAC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AFB4-E967-49E0-BCB7-B79B74E47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68360" y="765000"/>
            <a:ext cx="83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мбовская тропинка к  А.С. Пушк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26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р"/>
          <p:cNvPicPr/>
          <p:nvPr/>
        </p:nvPicPr>
        <p:blipFill>
          <a:blip r:embed="rId2"/>
          <a:stretch/>
        </p:blipFill>
        <p:spPr>
          <a:xfrm>
            <a:off x="1116000" y="2133720"/>
            <a:ext cx="7128000" cy="4724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195640" y="476280"/>
            <a:ext cx="56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пасибо,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ushkin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808200" y="260280"/>
            <a:ext cx="30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вы,А.С.Пушкину не удалось побывать в тамбовских кр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Тамбовщине жили предки вели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4643280" y="189000"/>
            <a:ext cx="39592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ревнейший род Пушкиных вплетён в историю  Тамбовщин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дин из предков,Пётр Михайлович Пушкин,по прозванию Желтоух,был полковым воеводой в Козлове в 1653-1656 год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225234_html_508d2006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алексей фёдорович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50920" y="189000"/>
            <a:ext cx="468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дед поэта, Алексей Фёдорович Пушкин,родился в 171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порщиком участвовал в русско-турецкой войне 1735-1739 годов.В1746 году в чине капитана ушёл в отставку и поселился в имении своей жены в селе Покровском,километрах двадцати пяти от нынешнего Липец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 конца жизни А.Ф.Пушкин прожил  в тамбовском имении и умер в 1777г.Похоронен на кладбище при Вознесенской церкви в Липец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мария алексеевна"/>
          <p:cNvPicPr/>
          <p:nvPr/>
        </p:nvPicPr>
        <p:blipFill>
          <a:blip r:embed="rId2"/>
          <a:stretch/>
        </p:blipFill>
        <p:spPr>
          <a:xfrm>
            <a:off x="0" y="0"/>
            <a:ext cx="2987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916360" y="189000"/>
            <a:ext cx="622764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Дочь Алексея Фёдоровича, Мария Алексеевна Ганнибал, стала любимой бабушкой поэ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История её замужества 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1773 г. на липецкие заводы приехал по казённым делам сын арапа Петра Великиго флотский офицер Осип Абрамович Ганнибал. Бывая с визитом у А.Ф. Пушкина ,он познакомился с двадцативосьмилетней Марией. Свадьба состоялась в том же году в Липецке, где у Пушкиных имелся свой дом. Брак оказался неудачным. Мария Алексеевна при разводе отсудила у О.А.Ганнибала село Кобрино Петербургской  губернии для содержания малолетней дочери Надежды-будущей матери поэ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осле этого Мария Алексеевна покинула Тамбовскую губернию и ,по всей видимости, больше сюда не приезжала. Когда будущие родители поэта Надежда Осиповна Ганнибал и Сергей Львович Пушкин поженились, бабушка продала своё Кобринское имение и поселилась с ним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Бабушка А.С.Пушкина после отъезда из Тамбовской губернии прожила ещё почти40 лет. Умерла она в 1818 году,похоронена в Святогорском монастыре Псковской губернии.Спустя 18 лет здесь же будет погребён её гениальный вну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g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58760" y="65160"/>
            <a:ext cx="354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кать на старых картах Тамбовской губернии нынешнюю Знаменку.Село,за свою историю сменившее несколько названий, долгие годы принадлежало помещикам.Загряжским и в пушкинские времена было более  известно как Кариан-Загряжское.Здесь расположилось  одно из лучших дворянских гнёзд на Тамбовщине.В этом доме 27августа 1812 года,на второй день после Бородинской битвы,родилась Наталья Гончарова-будущая жена А.С.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 сохранён и до сех пор.Сейчас в нём разместился музей Н.Н.Гончар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наташа"/>
          <p:cNvPicPr/>
          <p:nvPr/>
        </p:nvPicPr>
        <p:blipFill>
          <a:blip r:embed="rId3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свадьба"/>
          <p:cNvPicPr/>
          <p:nvPr/>
        </p:nvPicPr>
        <p:blipFill>
          <a:blip r:embed="rId2"/>
          <a:stretch/>
        </p:blipFill>
        <p:spPr>
          <a:xfrm>
            <a:off x="0" y="0"/>
            <a:ext cx="4524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24560" y="65160"/>
            <a:ext cx="4268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оскве в церкви Большого Вознесения на Малой Никитской А.С.Пушкин 18 февраля 1831 года обвенчался с красавицей Натальей Николаевной Гончаровой.ей шел 19-й год, а Пушкину 32-й.Жили он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ин за другим у них родилось четверо детей. Когда великого поэта не стало, старшей его дочери,Марии,было всего 5 лет,младшей Наталье-мене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александр александрович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8760" y="208080"/>
            <a:ext cx="390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рший сын поэта Александр Александрович Пушкин(1833-1914г.) выбрал карьеру военного. Великий поэт когда-то сказал:»Не дай Бог ему идти по моим следам, писать стихи да ссорится с царя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правнучка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911840" y="281160"/>
            <a:ext cx="398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астоящее время  в Мичуринске живёт прапраправнучка А.С.Пушкина-Галина Северьяновна Усова, доцент кафедры селекции Мичуринской сельскохозяйствен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8:31:54Z</dcterms:created>
  <dc:creator>Студент</dc:creator>
  <dc:description/>
  <dc:language>en-US</dc:language>
  <cp:lastModifiedBy>user</cp:lastModifiedBy>
  <dcterms:modified xsi:type="dcterms:W3CDTF">2017-12-09T09:57:43Z</dcterms:modified>
  <cp:revision>4</cp:revision>
  <dc:subject/>
  <dc:title>Слайд 1</dc:title>
</cp:coreProperties>
</file>