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D40-D5D4-419B-86B9-5823A369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FE9-CE61-4EA3-917E-5154EAB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2D2-45B9-4B4B-9C0A-3B62B9EF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DBD-77A6-4EB9-A9C2-54B0EC4C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1990C-13B8-4C24-856E-45BC31222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DD639-B441-482A-A698-97B195A51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B2D84-2AF3-4CBE-90C5-A721911EDA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03CA7-C31A-402C-A7A9-4C5808500B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6DD13-C444-4BF8-A831-39BC42A25F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E453D-8094-45E0-B288-32BB712D1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D4F96-1B4A-43E8-AD29-778D28E52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85A-07DB-4B7F-BC4C-79B275B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FE14F-B816-44A2-B1F9-77BB7EA6EA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03E21-3A22-41ED-8277-9A35512FAE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8F478-7D14-4E29-B5E5-51CB38359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9DA9-FE24-4E52-853E-9D183352A1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54F69-10E6-4439-B5AA-85251EE992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EB12C-742C-42FF-87FE-2915063C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12D6A-D21A-4433-A571-7C8C835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7798B-835A-4616-BF9F-5051102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10C6E-E4EB-495F-AE44-00D98A7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09829-EB5D-443E-A1D8-C5196EE8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C05-BB26-4C65-A220-74F5C10F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7C34B-B18F-45B5-AC50-B032E68E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552A0-849F-4F1D-93D9-C914FF30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43442-EA0B-47DB-B310-1388204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46A59-3372-4769-8368-7ED5D3A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D857A-24E9-4245-87E8-F84CF93A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AA9B5-750E-4AA0-B0ED-1BD59A78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B94C1-91A9-4BFB-B747-7F3F6819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F84-CFBA-4B9A-9B02-6BEA523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01C-50F8-49F1-BFDF-F8E833D4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6C1-4666-4F45-B1BC-5392D54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F24-CFB0-4200-A08C-B61A28E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E61-616C-41B1-BD79-7A39197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863-385A-4C8C-9EBB-F34D602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4F4-1454-4B5C-AA4C-351977A0A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42440" y="65008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dventure"/>
              </a:rPr>
              <a:t>Fedot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0A90-6D15-4A66-B92A-10A3A79C6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8F8-DE54-476D-B46A-8DC83E5D9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7238880" cy="573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СТИ ПСИХОЛОГИЧЕСКОГО СОПРОВОЖДЕНИЯ ДЕТЕЙ С ОГРАНИЧЕННЫМИ ВОЗМОЖНОСТЯМИ ЗДОРОВЬЯ В УСЛОВИЯХ ДОШКОЛЬНОГО ОБРАЗОВАТЕЛЬНОГО УЧРЕЖДЕНИЯ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3300"/>
                </a:solidFill>
                <a:latin typeface="Century"/>
                <a:ea typeface="바탕"/>
              </a:rPr>
              <a:t>                 </a:t>
            </a:r>
            <a:r>
              <a:rPr b="1" lang="ru-RU" sz="2000" spc="-1" strike="noStrike">
                <a:solidFill>
                  <a:srgbClr val="003300"/>
                </a:solidFill>
                <a:latin typeface="Century"/>
                <a:ea typeface="바탕"/>
              </a:rPr>
              <a:t>составили: Галова Е.С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Century"/>
                <a:ea typeface="바탕"/>
              </a:rPr>
              <a:t>                                                         Елина Н.Я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Century"/>
                <a:ea typeface="바탕"/>
              </a:rPr>
              <a:t>                                                                Муаматуллина Ю.Р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Century"/>
                <a:ea typeface="바탕"/>
              </a:rPr>
              <a:t>                                                            Яковлева С.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04384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 - ПРОСВЕТИТЕЛЬСКОЕ И ПРОФИЛАКТИЧЕСКОЕ   НАПРАВЛ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данным направлениям обеспечивает оказание педагогам и родителям помощи в воспитании и обучении ребёнка с ОВ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оло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разрабатывает рекомендации в соответствии с возрастными и индивидуально-типологическими особенностями дете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одит мероприятия, способствующие повышению профессиональной компетенции педагогов, включению родителей в решение коррекционно-воспитательных за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7572240" cy="45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 – МЕТОДИЧЕСКОЕ НАПРАВЛ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ое направление деятельности педагога - психолога включает в себя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готовку материалов к консилиумам, методическим объединениям, педагогическим советам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участие в указанных мероприятиях, 3. оформление докумен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СИХОЛОГО-ПЕДАГОГИЧЕСКАЯ РАБОТА С РОДИТЕЛЯМИ ДЕТЕЙ С ОГРАНИЧЕННЫМИ ВОЗМОЖНОСТЯМИ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6867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им из важных направлений в деятельности психолого-педагогической службы является работа с семьями (родителями) детей с ОВЗ. Работе с родителями детей с ОВЗ неслучайно уделяется достаточно большое внимание. Для таких детей, контакт которых с окружающим миром сужен, неизмеримо возрастает роль семьи. Семье принадлежат значительные возможности в решении определённых вопросов: воспитания детей, включение их в социальные и трудовые сферы, становление детей с ОВЗ как активных членов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одителей проходят несколько этапов в осознании того, что их ребёнок имеет ограниченные возможности здоровья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не справляется с воспитанием ребёнка, замечает какие-либо отклонения в развитии, но не обращает на это внимания, считая, что с возрастом пройдё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ье сообщают о проблемах в развитии ребёнка (врачи, воспитатели, знакомые и т.д.) и предлагают пройти обследование, но родители не хотят этого делать, ссылаясь на занятос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емья проходит обследование ребёнка для того, чтобы от родителей «отстали», не понимая, что это необходимо им в первую очередь, а не воспитателям, специалистам и т.д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мья узнаёт об ограниченных возможностях здоровья своего ребёнка, но не принимает это, считая, что врачи поставили неправильный диагноз. - Семья принимает сложившуюся ситуацию и живёт дальше с учётом потребностей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СЕМЕЙ,      ВОСПИТЫВАЮЩИХ РЕБЁНКА С ОГРАНИЧЕННЫМИ ВОЗМОЖНОСТЯМИ ЗДОРОВ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шленное ограничение в общен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перопек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принятие родителями своих дет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у родителей знаний и навыков, необходимых для воспитания ребёнка с ОВ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омощь в решении этих проблем является приоритетным направлением в системе психолого-педагогической работы с родителями детей с ОВЗ. Исходя из всего вышесказанного, учитывая проблемы, возникающие в семьях, где воспитываются дети с ОВЗ, мы определили общую цель психолого-педагогической работы с родителями таки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ПСИХОЛОГО-ПЕДАГОГИЧЕСКОЙ РАБОТ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И ПОМОЩЬ СЕМЬЯМ ПО АДАПТАЦИИ И ИНТЕГРАЦИИ ДЕТЕЙ С ОВЗ В ОБЩ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740088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вичная диагностика ребёнка и его семь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лее глубокое знакомство специалиста с родителями, налаживание непосредственного контакт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работка на основе медицинских карт и диагностики специалистов программ индивидуального сопровождения детей с ОВЗ, а также определение дальнейшего образовательного маршрута детей. ЭТАПЫ РАБОТ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ставление плана работы специалиста с родителями детей с ОВ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Непосредственная работа с родителям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коррекционная помощь семьям по адаптации и интеграции ребенка в общество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мен опытом воспитания детей с ОВЗ между семьями воспитанников и выпускников ДОУ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педагогической компетентности родителей в области психической и познавательной сфер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8721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РАБОТЫ ПЕДАГОГА-ПСИХОЛОГА С РОДИТЕЛЯМИ ДЕТЕЙ С ОВЗ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1. Бесед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лективны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нсульта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лективны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атическ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ы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одительские собрания в нетрадиционной форм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 круглый стол «родительская гостиная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дивидуальные и групповые занятия с детьми с участием роди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дение совместных с родителями праздников, конкурсов, развлечений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-757080" y="2708280"/>
            <a:ext cx="8231040" cy="493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1285920" y="500040"/>
            <a:ext cx="742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е государственные образовательные стандар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етей 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В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 РФ, гарантирующей всем детям право на обязательное и бесплатное среднее образование. Специальный образовательный стандарт должен стать базовым инструментом реализации конституционных прав на образование граждан 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В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7200" y="285840"/>
            <a:ext cx="73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ОЕ СОТРУДНИЧЕСТВО СО СПЕЦИАЛИСТАМИ ДОУ ПОМОГАЕТ РОДИТЕЛ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ТЬ ПОЛУЧЕННЫЕ ЗНАНИЯ И УМЕНИЯ В РАБОТЕ СО СВОИМИ ДЕТЬМИ ДО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ТЬ ПРИНИМАТЬ СВОЕГО РЕБЁНКА ТАКИМ, КАКОЙ ОН ЕСТЬ – ВО ВСЕХ ЕГО ПРОЯВЛЕНИЯ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4280" y="2071440"/>
            <a:ext cx="70725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000160" y="285840"/>
            <a:ext cx="696456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 с ОВЗ - это дети с ограниченными возможностями здоровь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другие дети в возрасте до 18 лет, не признанные в установленном порядке детьми-инвалидами, но имеющие временные или постоянные отклонения в физическом и (или) психическом развитии и нуждающиеся в создании специальных условий обучения и вос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1143000" y="428760"/>
            <a:ext cx="7215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ДОШКОЛЬНИКОВ С ОВЗ НЕ ОДНОРОД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неё входят дети с разными нарушениями развития, выраженность которых может быть различна: дети с нарушениями опорно-двигательного аппарата; дети с нарушениями интеллектуального развития; дети с нарушениями эмоционально-волевой сферы; дети с комплексными (сложными) нарушениями развития; дети с нарушениями слуха; дети с нарушениями зрения; дети с  нарушениям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5920" y="857160"/>
            <a:ext cx="702792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МИ НАПРАВЛЕНИЯМИ РАБОТЫ ПСИХОЛОГА ДОУ С ДЕТЬМИ С ОВЗ ЯВЛЯЕТСЯ 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иагностическ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рекционная и развивающая работ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филактическая и консультативная работа с педагогами и родителями, воспитывающими детей данной категор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28880" y="285480"/>
            <a:ext cx="628632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ГРАММЫ КОРРЕКЦИОННОЙ РАБОТЫ ОПРЕДЕЛЯЮТ СЛЕДУЮЩИЕ ПРИНЦИПЫ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блюдение интересов ребён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системность и доступнос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 непрерывность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ариативнос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нцип создания ситуации успех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. принцип психологической комфортности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уманность и реалисти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357200" y="1214280"/>
            <a:ext cx="7143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ОРРЕКЦИОННОЙ РАБОТЫ НА ДОШКОЛЬНОЙ СТУПЕНИ ОБРАЗОВАНИЯ ВКЛЮЧАЕТ В СЕБЯ ВЗАИМОСВЯЗАННЫЕ НАПРАВЛЕНИЯ. ДАННЫЕ НАПРАВЛЕНИЯ ОТРАЖАЮТ ЕЁ ОСНОВНОЕ 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ое на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ее на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методическое на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-просветительское на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ое на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720" y="549360"/>
            <a:ext cx="721044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ОЕ НАПРАВЛ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пешности воспитания и обучения детей с ОВЗ необходима правильная оценка их возможностей и выявление особых образовательных потребностей. В связи с этим особая роль отводится психолого -медико - педагогической диагностике. Разработаны специальные диагностические карты, которые позволяют специалисту выяснить характер нарушений у ребенка и разработать тактику работы с ним для всех участников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ЕЕ НАПРАВ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правлениями коррекционно-развивающей работы психолога с детьми с ОВЗ, находящимися в условиях образовательной интеграции, являются: развитие эмоционально-личностной сферы и коррекция ее недостатков; развитие познавательной деятельности и целенаправленное формирование высших психических функций; формирование произвольной регуляции деятельности и поведения; формирование и развитие социальных навыков и соци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09:15Z</dcterms:created>
  <dc:creator>Федотова Виктория Александровна</dc:creator>
  <dc:description/>
  <dc:language>en-US</dc:language>
  <cp:lastModifiedBy>Компьютер</cp:lastModifiedBy>
  <dcterms:modified xsi:type="dcterms:W3CDTF">2017-12-17T19:06:37Z</dcterms:modified>
  <cp:revision>17</cp:revision>
  <dc:subject/>
  <dc:title>Слайд 1</dc:title>
</cp:coreProperties>
</file>