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4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44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089-D109-439E-B9D0-CA4C7BC0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58D-1D55-46E0-A90C-3DA3CEE0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623-D532-4D85-AE4D-4653FD18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79E-922F-4626-86D0-8BF946C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1FE-9D53-470C-BD8F-00D15BB8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1B8-58D0-40F6-9B1A-D0FDBAB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2D5-1288-400D-84E2-C5D30EC6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F14-C48E-4D3F-8448-59AFE4A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916-3C8E-41D7-B2DA-2E40F8B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BD3-8AA2-4536-A000-ED717E3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7C5-9EDD-4E3F-8D43-A0F595E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766-6EE3-43BE-99F2-6422964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534-1DD4-4305-B7F1-734EBF2EF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image" Target="../media/image46.gif"/><Relationship Id="rId8" Type="http://schemas.openxmlformats.org/officeDocument/2006/relationships/image" Target="../media/image46.gi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1.bp.blogspot.com/-aSwrNMX6Yl8/UMjPaB1OAJI/AAAAAAAADXI/Coe3z4bNYAY/s1600/&#1096;&#1072;&#1073;&#1083;&#1086;&#1085;+&#1079;&#1080;&#1084;&#1085;&#1103;&#1103;+&#1085;&#1086;&#1095;&#1100;+&#1074;+&#1076;&#1077;&#1088;&#1077;&#1074;&#1085;&#1077;.png" TargetMode="External"/><Relationship Id="rId2" Type="http://schemas.openxmlformats.org/officeDocument/2006/relationships/hyperlink" Target="http://shgpi.edu.ru/biblioteka/forum/img/besedka/0_8027c_eeea0651_XL.png" TargetMode="External"/><Relationship Id="rId3" Type="http://schemas.openxmlformats.org/officeDocument/2006/relationships/hyperlink" Target="http://creativenn.blogspot.com/2012/02/blog-post_883.html" TargetMode="External"/><Relationship Id="rId4" Type="http://schemas.openxmlformats.org/officeDocument/2006/relationships/hyperlink" Target="http://bestgif.su/_ph/48/2/130656400.gif" TargetMode="External"/><Relationship Id="rId5" Type="http://schemas.openxmlformats.org/officeDocument/2006/relationships/hyperlink" Target="http://bestgif.su/_ph/45/2/820495077.gif" TargetMode="External"/><Relationship Id="rId6" Type="http://schemas.openxmlformats.org/officeDocument/2006/relationships/hyperlink" Target="http://demiart.ru/forum/index.php?act=module&amp;module=gallery&amp;cmd=viewimage&amp;img=3031" TargetMode="External"/><Relationship Id="rId7" Type="http://schemas.openxmlformats.org/officeDocument/2006/relationships/hyperlink" Target="http://www.1366x768.ru/nature/296/icicle-wallpaper-1366x768.jpg" TargetMode="External"/><Relationship Id="rId8" Type="http://schemas.openxmlformats.org/officeDocument/2006/relationships/hyperlink" Target="http://widefon.com/_ld/149/05458856.jpg" TargetMode="External"/><Relationship Id="rId9" Type="http://schemas.openxmlformats.org/officeDocument/2006/relationships/hyperlink" Target="http://kray.ck.ua/media/k2/items/cache/726b22d9c17e9bdaa99a3b78d525321c_XL.jpg" TargetMode="External"/><Relationship Id="rId10" Type="http://schemas.openxmlformats.org/officeDocument/2006/relationships/hyperlink" Target="http://img.mota.ru/upload/wallpapers/2013/06/18/09/03/36276/vSf5Ba7iTJ-1152x864.jpg" TargetMode="External"/><Relationship Id="rId11" Type="http://schemas.openxmlformats.org/officeDocument/2006/relationships/hyperlink" Target="http://marioncountymessenger.com/wp-content/uploads/2011/04/thunderstorm-icon1.png" TargetMode="External"/><Relationship Id="rId12" Type="http://schemas.openxmlformats.org/officeDocument/2006/relationships/hyperlink" Target="http://regards-photographie.com/img/bg1.jpg" TargetMode="External"/><Relationship Id="rId13" Type="http://schemas.openxmlformats.org/officeDocument/2006/relationships/hyperlink" Target="http://www.cliparthut.com/clip-arts/1076/cartoon-rain-cloud-clip-art-1076991.png" TargetMode="External"/><Relationship Id="rId14" Type="http://schemas.openxmlformats.org/officeDocument/2006/relationships/hyperlink" Target="http://atlasprirodirossii.ru/wp-content/uploads/2015/05/Grad-podarok-prirodyi-ili-nebesnoe-proklyatie.jpg" TargetMode="External"/><Relationship Id="rId15" Type="http://schemas.openxmlformats.org/officeDocument/2006/relationships/hyperlink" Target="http://www.gas-gen.ru/support/articles/004.jpg" TargetMode="External"/><Relationship Id="rId16" Type="http://schemas.openxmlformats.org/officeDocument/2006/relationships/hyperlink" Target="http://cp12.nevsepic.com.ua/8-5/1355081592-0882596-www.nevsepic.com.ua.jpg" TargetMode="External"/><Relationship Id="rId17" Type="http://schemas.openxmlformats.org/officeDocument/2006/relationships/hyperlink" Target="http://laliko.com/uploads/posts/2010-10/1286650043_12810087.jpg" TargetMode="External"/><Relationship Id="rId18" Type="http://schemas.openxmlformats.org/officeDocument/2006/relationships/hyperlink" Target="https://lh6.googleusercontent.com/-HRa-jFXmHrA/VKA2nzw7HuI/AAAAAAABkLI/bIp7vHsIHuw/&#1047;&#1048;&#1052;&#1040;%2B%2B&#1057;&#1053;&#1045;&#1043;%2B%2B&#1056;&#1045;&#1050;&#1040;.gif" TargetMode="External"/><Relationship Id="rId19" Type="http://schemas.openxmlformats.org/officeDocument/2006/relationships/hyperlink" Target="http://westisib.ru/wp-content/uploads/2012/01/sneg-827.jpg" TargetMode="External"/><Relationship Id="rId2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29.fastpic.ru/big/2011/1221/3e/64411ebb39f1f5e81be5b0c19ca0ac3e.jpg" TargetMode="External"/><Relationship Id="rId2" Type="http://schemas.openxmlformats.org/officeDocument/2006/relationships/hyperlink" Target="http://2.bp.blogspot.com/-8ZuNW5xMztM/UolF8L3Lm9I/AAAAAAAAAgA/_RTPUE2lo-0/s1600/peisaj+iarna+imagini+animate.gif" TargetMode="External"/><Relationship Id="rId3" Type="http://schemas.openxmlformats.org/officeDocument/2006/relationships/hyperlink" Target="http://img-fotki.yandex.ru/get/9309/981986.68/0_8b90c_1aa6d7f4_orig" TargetMode="External"/><Relationship Id="rId4" Type="http://schemas.openxmlformats.org/officeDocument/2006/relationships/hyperlink" Target="http://i.allday2.com/e8/e7/2c/1361993599__11.png" TargetMode="External"/><Relationship Id="rId5" Type="http://schemas.openxmlformats.org/officeDocument/2006/relationships/hyperlink" Target="http://img.nn.ru/galleryview/0/data/ufiles/1/36/77/3367781.Zaycenok_2.png" TargetMode="External"/><Relationship Id="rId6" Type="http://schemas.openxmlformats.org/officeDocument/2006/relationships/hyperlink" Target="http://woman-party.ru/wp-content/uploads/2010/11/vybiraem-oboi-&#8230;teme-novyj-god10.jpg" TargetMode="External"/><Relationship Id="rId7" Type="http://schemas.openxmlformats.org/officeDocument/2006/relationships/hyperlink" Target="https://otvet.imgsmail.ru/download/56358a3a69f10ff40fdf5f67b514c6e7_i-137.jpg" TargetMode="External"/><Relationship Id="rId8" Type="http://schemas.openxmlformats.org/officeDocument/2006/relationships/hyperlink" Target="http://www.zooclub.ru/attach/wild/154.jpg" TargetMode="External"/><Relationship Id="rId9" Type="http://schemas.openxmlformats.org/officeDocument/2006/relationships/hyperlink" Target="http://img01.chitalnya.ru/upload2/215/13469353504478.jpg" TargetMode="External"/><Relationship Id="rId10" Type="http://schemas.openxmlformats.org/officeDocument/2006/relationships/hyperlink" Target="https://stihi.ru/pics/2009/12/20/3114.jpg" TargetMode="External"/><Relationship Id="rId11" Type="http://schemas.openxmlformats.org/officeDocument/2006/relationships/hyperlink" Target="http://zaikinmir.ru/foto-zajac/zajac-beljak.049.jpg" TargetMode="External"/><Relationship Id="rId12" Type="http://schemas.openxmlformats.org/officeDocument/2006/relationships/hyperlink" Target="http://foto-tula.ru/files/p0001904.jpg" TargetMode="External"/><Relationship Id="rId13" Type="http://schemas.openxmlformats.org/officeDocument/2006/relationships/hyperlink" Target="http://hq-wallpapers.ru/wallpapers/7/hq-wallpapers_ru_animals_32209_1920x1200.jpg" TargetMode="External"/><Relationship Id="rId14" Type="http://schemas.openxmlformats.org/officeDocument/2006/relationships/hyperlink" Target="http://ic.pics.livejournal.com/cheshzhanna/30297292/98727/original.jpg" TargetMode="External"/><Relationship Id="rId15" Type="http://schemas.openxmlformats.org/officeDocument/2006/relationships/hyperlink" Target="http://www.booksite.ru/fulltext/secr/etof/vol/ogda/drawing/94.jpg" TargetMode="External"/><Relationship Id="rId16" Type="http://schemas.openxmlformats.org/officeDocument/2006/relationships/hyperlink" Target="http://i.allday2.com/e8/e7/2c/1361993599__11.png" TargetMode="External"/><Relationship Id="rId17" Type="http://schemas.openxmlformats.org/officeDocument/2006/relationships/hyperlink" Target="http://netstar.moy.su/_pu/0/76214513.jpg" TargetMode="External"/><Relationship Id="rId18" Type="http://schemas.openxmlformats.org/officeDocument/2006/relationships/hyperlink" Target="http://uleshego.ru/pic/1295629610_16.jpg" TargetMode="External"/><Relationship Id="rId19" Type="http://schemas.openxmlformats.org/officeDocument/2006/relationships/hyperlink" Target="http://www.fermerproduct.ru/image/cache/data/los2-500x500.jpg" TargetMode="External"/><Relationship Id="rId20" Type="http://schemas.openxmlformats.org/officeDocument/2006/relationships/hyperlink" Target="https://img-fotki.yandex.ru/get/4423/2839712.7/0_13bc0d_8852e530_orig" TargetMode="External"/><Relationship Id="rId21" Type="http://schemas.openxmlformats.org/officeDocument/2006/relationships/hyperlink" Target="https://www.youtube.com/watch?v=28_mqsELTI0" TargetMode="External"/><Relationship Id="rId2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0.proshkolu.ru/content/media/pic/std/4000000/3931000/3930297-1c83307353699bc4.jpg" TargetMode="External"/><Relationship Id="rId2" Type="http://schemas.openxmlformats.org/officeDocument/2006/relationships/hyperlink" Target="http://v.900igr.net:10/datai/stikhi/Gde-obedal-vorobej.files/0003-003-Gde-obedal-VOROBEJ.jpg" TargetMode="External"/><Relationship Id="rId3" Type="http://schemas.openxmlformats.org/officeDocument/2006/relationships/hyperlink" Target="http://www.rspb.org.uk/community/cfs-file.ashx/__key/communityserver-blogs-components-weblogfiles/00-00-03-96-75/4572.magpie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" Target="slide4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_____________                     З____________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84720" y="2819520"/>
            <a:ext cx="98283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а-су-си</a:t>
            </a:r>
            <a:br>
              <a:rPr sz="8800"/>
            </a:br>
            <a:r>
              <a:rPr b="0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За-зу-зи</a:t>
            </a:r>
            <a:br>
              <a:rPr sz="8800"/>
            </a:br>
            <a:br>
              <a:rPr sz="54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843280" y="2276640"/>
            <a:ext cx="2977920" cy="240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627280" cy="258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1419120" cy="1579680"/>
          </a:xfrm>
          <a:prstGeom prst="rect">
            <a:avLst/>
          </a:prstGeom>
          <a:ln w="0">
            <a:noFill/>
          </a:ln>
        </p:spPr>
      </p:pic>
      <p:sp>
        <p:nvSpPr>
          <p:cNvPr id="116" name="Выноска-облако 5"/>
          <p:cNvSpPr/>
          <p:nvPr/>
        </p:nvSpPr>
        <p:spPr>
          <a:xfrm>
            <a:off x="428760" y="4429080"/>
            <a:ext cx="2879640" cy="1295280"/>
          </a:xfrm>
          <a:prstGeom prst="cloudCallout">
            <a:avLst>
              <a:gd name="adj1" fmla="val 43495"/>
              <a:gd name="adj2" fmla="val -6129"/>
            </a:avLst>
          </a:prstGeom>
          <a:solidFill>
            <a:srgbClr val="e2fbfe"/>
          </a:solidFill>
          <a:ln w="108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Выноска-облако 5"/>
          <p:cNvSpPr/>
          <p:nvPr/>
        </p:nvSpPr>
        <p:spPr>
          <a:xfrm rot="1348200">
            <a:off x="2260440" y="2738520"/>
            <a:ext cx="3527640" cy="2060640"/>
          </a:xfrm>
          <a:prstGeom prst="cloudCallout">
            <a:avLst>
              <a:gd name="adj1" fmla="val 45388"/>
              <a:gd name="adj2" fmla="val 12467"/>
            </a:avLst>
          </a:prstGeom>
          <a:solidFill>
            <a:srgbClr val="e2fbfe"/>
          </a:solidFill>
          <a:ln w="108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5"/>
          <p:cNvSpPr/>
          <p:nvPr/>
        </p:nvSpPr>
        <p:spPr>
          <a:xfrm rot="4378800">
            <a:off x="6538680" y="3217680"/>
            <a:ext cx="3024360" cy="2465280"/>
          </a:xfrm>
          <a:prstGeom prst="cloudCallout">
            <a:avLst>
              <a:gd name="adj1" fmla="val 45310"/>
              <a:gd name="adj2" fmla="val 907"/>
            </a:avLst>
          </a:prstGeom>
          <a:solidFill>
            <a:srgbClr val="e2fbfe"/>
          </a:solidFill>
          <a:ln w="108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5"/>
          <p:cNvSpPr txBox="1"/>
          <p:nvPr/>
        </p:nvSpPr>
        <p:spPr>
          <a:xfrm>
            <a:off x="154764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гадай, кто спрятался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684360" y="40464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Белка, заяц, ёж - 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это домашние или дикие животные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1763640" y="2276640"/>
            <a:ext cx="5977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их диких животных 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 знаете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1757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2000160" cy="14889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3635280" y="1052640"/>
            <a:ext cx="1914480" cy="14684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6588000" y="1052640"/>
            <a:ext cx="1654200" cy="14526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32" name="Text Box 11"/>
          <p:cNvSpPr/>
          <p:nvPr/>
        </p:nvSpPr>
        <p:spPr>
          <a:xfrm>
            <a:off x="1634760" y="2635200"/>
            <a:ext cx="465984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ве́дь спит в берлоге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633320" y="3145680"/>
            <a:ext cx="29941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Ёж спит в норе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634400" y="3648960"/>
            <a:ext cx="459108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́яц спря́тался в кусты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633680" y="4153680"/>
            <a:ext cx="5904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́лка пры́гает с ве́тки на ве́тку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35840" y="4656960"/>
            <a:ext cx="664848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а́ бе́гает по сне́гу, ловит мыше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1982880" cy="1305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138" name="Picture 17" descr=""/>
          <p:cNvPicPr/>
          <p:nvPr/>
        </p:nvPicPr>
        <p:blipFill>
          <a:blip r:embed="rId6"/>
          <a:stretch/>
        </p:blipFill>
        <p:spPr>
          <a:xfrm>
            <a:off x="5940360" y="5265720"/>
            <a:ext cx="1800360" cy="1335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39" name="WordArt 20"/>
          <p:cNvSpPr txBox="1"/>
          <p:nvPr/>
        </p:nvSpPr>
        <p:spPr>
          <a:xfrm>
            <a:off x="1042920" y="26028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то это? Что делает зимой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1042920" y="404640"/>
            <a:ext cx="7201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то это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омогите снеговику разгадать, 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ьи следы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1757160" cy="292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"/>
          <p:cNvPicPr/>
          <p:nvPr/>
        </p:nvPicPr>
        <p:blipFill>
          <a:blip r:embed="rId3"/>
          <a:stretch/>
        </p:blipFill>
        <p:spPr>
          <a:xfrm>
            <a:off x="2987640" y="2471760"/>
            <a:ext cx="3456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996840" cy="7840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150" name="Picture 9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995400" cy="10494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51" name="Picture 11" descr=""/>
          <p:cNvPicPr/>
          <p:nvPr/>
        </p:nvPicPr>
        <p:blipFill>
          <a:blip r:embed="rId4"/>
          <a:stretch/>
        </p:blipFill>
        <p:spPr>
          <a:xfrm>
            <a:off x="5003640" y="692280"/>
            <a:ext cx="1770120" cy="23367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52" name="Picture 12" descr=""/>
          <p:cNvPicPr/>
          <p:nvPr/>
        </p:nvPicPr>
        <p:blipFill>
          <a:blip r:embed="rId5"/>
          <a:stretch/>
        </p:blipFill>
        <p:spPr>
          <a:xfrm>
            <a:off x="7020000" y="1125360"/>
            <a:ext cx="1279440" cy="18878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53" name="Picture 13" descr=""/>
          <p:cNvPicPr/>
          <p:nvPr/>
        </p:nvPicPr>
        <p:blipFill>
          <a:blip r:embed="rId6"/>
          <a:stretch/>
        </p:blipFill>
        <p:spPr>
          <a:xfrm>
            <a:off x="3635280" y="5516640"/>
            <a:ext cx="1081080" cy="74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7"/>
          <a:stretch/>
        </p:blipFill>
        <p:spPr>
          <a:xfrm>
            <a:off x="2195640" y="5229360"/>
            <a:ext cx="1033200" cy="103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8"/>
          <a:stretch/>
        </p:blipFill>
        <p:spPr>
          <a:xfrm>
            <a:off x="684360" y="4797360"/>
            <a:ext cx="1123920" cy="145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9"/>
          <a:stretch/>
        </p:blipFill>
        <p:spPr>
          <a:xfrm>
            <a:off x="5076720" y="5084640"/>
            <a:ext cx="1631880" cy="1155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10"/>
          <a:stretch/>
        </p:blipFill>
        <p:spPr>
          <a:xfrm>
            <a:off x="7164360" y="5229360"/>
            <a:ext cx="971640" cy="9763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8"/>
          <p:cNvSpPr txBox="1"/>
          <p:nvPr/>
        </p:nvSpPr>
        <p:spPr>
          <a:xfrm>
            <a:off x="1332000" y="189000"/>
            <a:ext cx="584352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гадай, чей след?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900000" y="3141720"/>
            <a:ext cx="3311640" cy="23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124000" y="3141720"/>
            <a:ext cx="5327640" cy="2016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 flipH="1">
            <a:off x="2627280" y="3213000"/>
            <a:ext cx="1224000" cy="1944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 flipH="1">
            <a:off x="1332000" y="3141720"/>
            <a:ext cx="4535280" cy="158256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 flipH="1">
            <a:off x="5724360" y="3141720"/>
            <a:ext cx="194328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1" descr="1295629610_16"/>
          <p:cNvPicPr/>
          <p:nvPr/>
        </p:nvPicPr>
        <p:blipFill>
          <a:blip r:embed="rId11"/>
          <a:stretch/>
        </p:blipFill>
        <p:spPr>
          <a:xfrm>
            <a:off x="2771640" y="1484280"/>
            <a:ext cx="2087640" cy="1565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65" name="AutoShape 22">
            <a:hlinkClick r:id="rId1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4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765000"/>
            <a:ext cx="2543040" cy="5696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5"/>
          <p:cNvSpPr/>
          <p:nvPr/>
        </p:nvSpPr>
        <p:spPr>
          <a:xfrm flipV="1">
            <a:off x="5219640" y="1628280"/>
            <a:ext cx="1224000" cy="863640"/>
          </a:xfrm>
          <a:prstGeom prst="line">
            <a:avLst/>
          </a:prstGeom>
          <a:ln w="572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"/>
          <p:cNvSpPr/>
          <p:nvPr/>
        </p:nvSpPr>
        <p:spPr>
          <a:xfrm flipV="1">
            <a:off x="2411280" y="2852640"/>
            <a:ext cx="1297080" cy="1008000"/>
          </a:xfrm>
          <a:prstGeom prst="line">
            <a:avLst/>
          </a:prstGeom>
          <a:ln w="572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4"/>
          <p:cNvSpPr/>
          <p:nvPr/>
        </p:nvSpPr>
        <p:spPr>
          <a:xfrm flipV="1">
            <a:off x="6443640" y="1412640"/>
            <a:ext cx="0" cy="21564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5"/>
          <p:cNvSpPr/>
          <p:nvPr/>
        </p:nvSpPr>
        <p:spPr>
          <a:xfrm flipV="1">
            <a:off x="6442920" y="1483920"/>
            <a:ext cx="144360" cy="14436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>
            <a:off x="6443640" y="1628640"/>
            <a:ext cx="216000" cy="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24"/>
          <p:cNvSpPr/>
          <p:nvPr/>
        </p:nvSpPr>
        <p:spPr>
          <a:xfrm flipH="1" flipV="1">
            <a:off x="2410920" y="3860640"/>
            <a:ext cx="73080" cy="21600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5"/>
          <p:cNvSpPr/>
          <p:nvPr/>
        </p:nvSpPr>
        <p:spPr>
          <a:xfrm>
            <a:off x="2195640" y="3860640"/>
            <a:ext cx="215640" cy="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26"/>
          <p:cNvSpPr/>
          <p:nvPr/>
        </p:nvSpPr>
        <p:spPr>
          <a:xfrm flipV="1">
            <a:off x="2267640" y="3860640"/>
            <a:ext cx="142920" cy="14472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63240" y="404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Вверх рука и вниз 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3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348000" y="765000"/>
            <a:ext cx="2543040" cy="56962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3"/>
          <p:cNvSpPr/>
          <p:nvPr/>
        </p:nvSpPr>
        <p:spPr>
          <a:xfrm flipV="1">
            <a:off x="5218920" y="765000"/>
            <a:ext cx="289080" cy="1727280"/>
          </a:xfrm>
          <a:prstGeom prst="line">
            <a:avLst/>
          </a:prstGeom>
          <a:ln w="572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 flipV="1">
            <a:off x="3276720" y="2781360"/>
            <a:ext cx="504720" cy="1512720"/>
          </a:xfrm>
          <a:prstGeom prst="line">
            <a:avLst/>
          </a:prstGeom>
          <a:ln w="572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"/>
          <p:cNvSpPr/>
          <p:nvPr/>
        </p:nvSpPr>
        <p:spPr>
          <a:xfrm flipH="1" flipV="1">
            <a:off x="5435280" y="620280"/>
            <a:ext cx="73080" cy="14436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6"/>
          <p:cNvSpPr/>
          <p:nvPr/>
        </p:nvSpPr>
        <p:spPr>
          <a:xfrm flipV="1">
            <a:off x="5508720" y="620280"/>
            <a:ext cx="71280" cy="14436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"/>
          <p:cNvSpPr/>
          <p:nvPr/>
        </p:nvSpPr>
        <p:spPr>
          <a:xfrm flipV="1">
            <a:off x="5508720" y="692280"/>
            <a:ext cx="142920" cy="7272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"/>
          <p:cNvSpPr/>
          <p:nvPr/>
        </p:nvSpPr>
        <p:spPr>
          <a:xfrm flipH="1" flipV="1">
            <a:off x="3276360" y="4292640"/>
            <a:ext cx="73080" cy="21600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9"/>
          <p:cNvSpPr/>
          <p:nvPr/>
        </p:nvSpPr>
        <p:spPr>
          <a:xfrm>
            <a:off x="3059280" y="4292640"/>
            <a:ext cx="215640" cy="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 flipV="1">
            <a:off x="3132000" y="4292280"/>
            <a:ext cx="144720" cy="142920"/>
          </a:xfrm>
          <a:prstGeom prst="line">
            <a:avLst/>
          </a:prstGeom>
          <a:ln w="507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88160" y="25704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Потянули их с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419640" y="765000"/>
            <a:ext cx="2543040" cy="5696280"/>
          </a:xfrm>
          <a:prstGeom prst="rect">
            <a:avLst/>
          </a:prstGeom>
          <a:ln w="0">
            <a:noFill/>
          </a:ln>
        </p:spPr>
      </p:pic>
      <p:grpSp>
        <p:nvGrpSpPr>
          <p:cNvPr id="190" name="Группа 13"/>
          <p:cNvGrpSpPr/>
          <p:nvPr/>
        </p:nvGrpSpPr>
        <p:grpSpPr>
          <a:xfrm>
            <a:off x="5292720" y="2637000"/>
            <a:ext cx="1079640" cy="1944000"/>
            <a:chOff x="5292720" y="2637000"/>
            <a:chExt cx="1079640" cy="1944000"/>
          </a:xfrm>
        </p:grpSpPr>
        <p:sp>
          <p:nvSpPr>
            <p:cNvPr id="191" name="Прямая соединительная линия 4"/>
            <p:cNvSpPr/>
            <p:nvPr/>
          </p:nvSpPr>
          <p:spPr>
            <a:xfrm>
              <a:off x="5292720" y="2637000"/>
              <a:ext cx="917640" cy="155556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6"/>
            <p:cNvSpPr/>
            <p:nvPr/>
          </p:nvSpPr>
          <p:spPr>
            <a:xfrm>
              <a:off x="6210360" y="4192200"/>
              <a:ext cx="0" cy="3888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"/>
            <p:cNvSpPr/>
            <p:nvPr/>
          </p:nvSpPr>
          <p:spPr>
            <a:xfrm>
              <a:off x="6210360" y="4192560"/>
              <a:ext cx="108000" cy="2584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8"/>
            <p:cNvSpPr/>
            <p:nvPr/>
          </p:nvSpPr>
          <p:spPr>
            <a:xfrm>
              <a:off x="6210360" y="4192200"/>
              <a:ext cx="1620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"/>
          <p:cNvGrpSpPr/>
          <p:nvPr/>
        </p:nvGrpSpPr>
        <p:grpSpPr>
          <a:xfrm>
            <a:off x="3059280" y="836280"/>
            <a:ext cx="865080" cy="1800720"/>
            <a:chOff x="3059280" y="836280"/>
            <a:chExt cx="865080" cy="1800720"/>
          </a:xfrm>
        </p:grpSpPr>
        <p:sp>
          <p:nvSpPr>
            <p:cNvPr id="196" name="Прямая соединительная линия 5"/>
            <p:cNvSpPr/>
            <p:nvPr/>
          </p:nvSpPr>
          <p:spPr>
            <a:xfrm>
              <a:off x="3183120" y="1154160"/>
              <a:ext cx="74124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9"/>
            <p:cNvSpPr/>
            <p:nvPr/>
          </p:nvSpPr>
          <p:spPr>
            <a:xfrm flipH="1">
              <a:off x="3183120" y="836280"/>
              <a:ext cx="4104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10"/>
            <p:cNvSpPr/>
            <p:nvPr/>
          </p:nvSpPr>
          <p:spPr>
            <a:xfrm>
              <a:off x="3059280" y="1153800"/>
              <a:ext cx="12384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11"/>
            <p:cNvSpPr/>
            <p:nvPr/>
          </p:nvSpPr>
          <p:spPr>
            <a:xfrm>
              <a:off x="3099600" y="942840"/>
              <a:ext cx="824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4"/>
          <p:cNvSpPr/>
          <p:nvPr/>
        </p:nvSpPr>
        <p:spPr>
          <a:xfrm>
            <a:off x="143640" y="165240"/>
            <a:ext cx="356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Быстро поменяли ру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Нам сегодня не до ск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2060640"/>
            <a:ext cx="2543040" cy="4400640"/>
          </a:xfrm>
          <a:prstGeom prst="rect">
            <a:avLst/>
          </a:prstGeom>
          <a:ln w="0">
            <a:noFill/>
          </a:ln>
        </p:spPr>
      </p:pic>
      <p:grpSp>
        <p:nvGrpSpPr>
          <p:cNvPr id="203" name="Группа 4"/>
          <p:cNvGrpSpPr/>
          <p:nvPr/>
        </p:nvGrpSpPr>
        <p:grpSpPr>
          <a:xfrm>
            <a:off x="4716000" y="3573720"/>
            <a:ext cx="576360" cy="1727280"/>
            <a:chOff x="4716000" y="3573720"/>
            <a:chExt cx="576360" cy="1727280"/>
          </a:xfrm>
        </p:grpSpPr>
        <p:sp>
          <p:nvSpPr>
            <p:cNvPr id="204" name="Прямая соединительная линия 5"/>
            <p:cNvSpPr/>
            <p:nvPr/>
          </p:nvSpPr>
          <p:spPr>
            <a:xfrm flipH="1">
              <a:off x="4801680" y="3573720"/>
              <a:ext cx="490680" cy="138132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6"/>
            <p:cNvSpPr/>
            <p:nvPr/>
          </p:nvSpPr>
          <p:spPr>
            <a:xfrm>
              <a:off x="4801680" y="4955040"/>
              <a:ext cx="0" cy="345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7"/>
            <p:cNvSpPr/>
            <p:nvPr/>
          </p:nvSpPr>
          <p:spPr>
            <a:xfrm flipH="1">
              <a:off x="4744800" y="4955400"/>
              <a:ext cx="56880" cy="2300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8"/>
            <p:cNvSpPr/>
            <p:nvPr/>
          </p:nvSpPr>
          <p:spPr>
            <a:xfrm flipH="1">
              <a:off x="4716000" y="4954680"/>
              <a:ext cx="8568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9"/>
          <p:cNvGrpSpPr/>
          <p:nvPr/>
        </p:nvGrpSpPr>
        <p:grpSpPr>
          <a:xfrm>
            <a:off x="3780000" y="3573360"/>
            <a:ext cx="1008000" cy="1727280"/>
            <a:chOff x="3780000" y="3573360"/>
            <a:chExt cx="1008000" cy="1727280"/>
          </a:xfrm>
        </p:grpSpPr>
        <p:sp>
          <p:nvSpPr>
            <p:cNvPr id="209" name="Прямая соединительная линия 10"/>
            <p:cNvSpPr/>
            <p:nvPr/>
          </p:nvSpPr>
          <p:spPr>
            <a:xfrm flipH="1" flipV="1">
              <a:off x="3780000" y="3573360"/>
              <a:ext cx="863640" cy="142272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1"/>
            <p:cNvSpPr/>
            <p:nvPr/>
          </p:nvSpPr>
          <p:spPr>
            <a:xfrm flipV="1">
              <a:off x="4596120" y="4996080"/>
              <a:ext cx="47520" cy="3045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2"/>
            <p:cNvSpPr/>
            <p:nvPr/>
          </p:nvSpPr>
          <p:spPr>
            <a:xfrm flipH="1">
              <a:off x="4643640" y="4996080"/>
              <a:ext cx="1443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3"/>
            <p:cNvSpPr/>
            <p:nvPr/>
          </p:nvSpPr>
          <p:spPr>
            <a:xfrm flipH="1" flipV="1">
              <a:off x="4644360" y="4996080"/>
              <a:ext cx="96840" cy="2030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14"/>
          <p:cNvSpPr/>
          <p:nvPr/>
        </p:nvSpPr>
        <p:spPr>
          <a:xfrm>
            <a:off x="324000" y="25704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Вниз хлопок и вверх хло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1916280"/>
            <a:ext cx="2543040" cy="454500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4"/>
          <p:cNvGrpSpPr/>
          <p:nvPr/>
        </p:nvGrpSpPr>
        <p:grpSpPr>
          <a:xfrm>
            <a:off x="4643280" y="1483920"/>
            <a:ext cx="649440" cy="2089440"/>
            <a:chOff x="4643280" y="1483920"/>
            <a:chExt cx="649440" cy="2089440"/>
          </a:xfrm>
        </p:grpSpPr>
        <p:sp>
          <p:nvSpPr>
            <p:cNvPr id="217" name="Прямая соединительная линия 5"/>
            <p:cNvSpPr/>
            <p:nvPr/>
          </p:nvSpPr>
          <p:spPr>
            <a:xfrm flipH="1" flipV="1">
              <a:off x="4740120" y="1901520"/>
              <a:ext cx="552600" cy="1671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6"/>
            <p:cNvSpPr/>
            <p:nvPr/>
          </p:nvSpPr>
          <p:spPr>
            <a:xfrm flipV="1">
              <a:off x="4740120" y="1483920"/>
              <a:ext cx="0" cy="4172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7"/>
            <p:cNvSpPr/>
            <p:nvPr/>
          </p:nvSpPr>
          <p:spPr>
            <a:xfrm flipH="1" flipV="1">
              <a:off x="4675320" y="1623600"/>
              <a:ext cx="64800" cy="2775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8"/>
            <p:cNvSpPr/>
            <p:nvPr/>
          </p:nvSpPr>
          <p:spPr>
            <a:xfrm flipH="1">
              <a:off x="4643280" y="1901520"/>
              <a:ext cx="9684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9"/>
          <p:cNvGrpSpPr/>
          <p:nvPr/>
        </p:nvGrpSpPr>
        <p:grpSpPr>
          <a:xfrm>
            <a:off x="3779640" y="1542960"/>
            <a:ext cx="936360" cy="2030400"/>
            <a:chOff x="3779640" y="1542960"/>
            <a:chExt cx="936360" cy="2030400"/>
          </a:xfrm>
        </p:grpSpPr>
        <p:sp>
          <p:nvSpPr>
            <p:cNvPr id="222" name="Прямая соединительная линия 10"/>
            <p:cNvSpPr/>
            <p:nvPr/>
          </p:nvSpPr>
          <p:spPr>
            <a:xfrm flipH="1">
              <a:off x="3779640" y="1901520"/>
              <a:ext cx="803160" cy="1671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1"/>
            <p:cNvSpPr/>
            <p:nvPr/>
          </p:nvSpPr>
          <p:spPr>
            <a:xfrm>
              <a:off x="4538880" y="1542960"/>
              <a:ext cx="44280" cy="3585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12"/>
            <p:cNvSpPr/>
            <p:nvPr/>
          </p:nvSpPr>
          <p:spPr>
            <a:xfrm flipH="1">
              <a:off x="4582800" y="1901520"/>
              <a:ext cx="1332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13"/>
            <p:cNvSpPr/>
            <p:nvPr/>
          </p:nvSpPr>
          <p:spPr>
            <a:xfrm flipH="1">
              <a:off x="4583160" y="1662480"/>
              <a:ext cx="88560" cy="239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4"/>
          <p:cNvSpPr/>
          <p:nvPr/>
        </p:nvSpPr>
        <p:spPr>
          <a:xfrm>
            <a:off x="316440" y="23652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Точно знаем – будет п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упила зим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лепят снегови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 flipV="1">
            <a:off x="6072120" y="1643040"/>
            <a:ext cx="214560" cy="285840"/>
          </a:xfrm>
          <a:prstGeom prst="line">
            <a:avLst/>
          </a:prstGeom>
          <a:ln w="9360">
            <a:solidFill>
              <a:srgbClr val="dc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 flipV="1">
            <a:off x="3429000" y="1643040"/>
            <a:ext cx="71280" cy="285840"/>
          </a:xfrm>
          <a:prstGeom prst="line">
            <a:avLst/>
          </a:prstGeom>
          <a:ln w="9360">
            <a:solidFill>
              <a:srgbClr val="dc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 flipV="1">
            <a:off x="1285200" y="2786040"/>
            <a:ext cx="214200" cy="357120"/>
          </a:xfrm>
          <a:prstGeom prst="line">
            <a:avLst/>
          </a:prstGeom>
          <a:ln w="9360">
            <a:solidFill>
              <a:srgbClr val="dc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 flipV="1">
            <a:off x="3143160" y="2786040"/>
            <a:ext cx="214560" cy="357120"/>
          </a:xfrm>
          <a:prstGeom prst="line">
            <a:avLst/>
          </a:prstGeom>
          <a:ln w="9360">
            <a:solidFill>
              <a:srgbClr val="dc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 flipV="1">
            <a:off x="8072280" y="2786040"/>
            <a:ext cx="214560" cy="357120"/>
          </a:xfrm>
          <a:prstGeom prst="line">
            <a:avLst/>
          </a:prstGeom>
          <a:ln w="9360">
            <a:solidFill>
              <a:srgbClr val="dc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1484280"/>
            <a:ext cx="2543040" cy="497700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14"/>
          <p:cNvSpPr/>
          <p:nvPr/>
        </p:nvSpPr>
        <p:spPr>
          <a:xfrm>
            <a:off x="3708360" y="1197000"/>
            <a:ext cx="1511280" cy="158436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5"/>
          <p:cNvSpPr/>
          <p:nvPr/>
        </p:nvSpPr>
        <p:spPr>
          <a:xfrm>
            <a:off x="3995640" y="1989000"/>
            <a:ext cx="936720" cy="863640"/>
          </a:xfrm>
          <a:prstGeom prst="ellipse">
            <a:avLst/>
          </a:prstGeom>
          <a:solidFill>
            <a:srgbClr val="f5fafb"/>
          </a:solidFill>
          <a:ln w="25560">
            <a:solidFill>
              <a:srgbClr val="f5fa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17"/>
          <p:cNvSpPr/>
          <p:nvPr/>
        </p:nvSpPr>
        <p:spPr>
          <a:xfrm rot="16593600">
            <a:off x="3822480" y="2160000"/>
            <a:ext cx="95400" cy="31752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21"/>
          <p:cNvSpPr/>
          <p:nvPr/>
        </p:nvSpPr>
        <p:spPr>
          <a:xfrm>
            <a:off x="4211640" y="2205000"/>
            <a:ext cx="730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Трапеция 20"/>
          <p:cNvSpPr/>
          <p:nvPr/>
        </p:nvSpPr>
        <p:spPr>
          <a:xfrm>
            <a:off x="4067280" y="1484280"/>
            <a:ext cx="792000" cy="649440"/>
          </a:xfrm>
          <a:prstGeom prst="pie">
            <a:avLst/>
          </a:prstGeom>
          <a:solidFill>
            <a:srgbClr val="00004d"/>
          </a:solidFill>
          <a:ln w="25560">
            <a:solidFill>
              <a:srgbClr val="000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7"/>
          <p:cNvGrpSpPr/>
          <p:nvPr/>
        </p:nvGrpSpPr>
        <p:grpSpPr>
          <a:xfrm>
            <a:off x="5292720" y="3573360"/>
            <a:ext cx="792000" cy="1871280"/>
            <a:chOff x="5292720" y="3573360"/>
            <a:chExt cx="792000" cy="1871280"/>
          </a:xfrm>
        </p:grpSpPr>
        <p:sp>
          <p:nvSpPr>
            <p:cNvPr id="235" name="Прямая соединительная линия 8"/>
            <p:cNvSpPr/>
            <p:nvPr/>
          </p:nvSpPr>
          <p:spPr>
            <a:xfrm>
              <a:off x="5292720" y="3573360"/>
              <a:ext cx="673200" cy="14972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9"/>
            <p:cNvSpPr/>
            <p:nvPr/>
          </p:nvSpPr>
          <p:spPr>
            <a:xfrm>
              <a:off x="5965920" y="5070240"/>
              <a:ext cx="0" cy="374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0"/>
            <p:cNvSpPr/>
            <p:nvPr/>
          </p:nvSpPr>
          <p:spPr>
            <a:xfrm>
              <a:off x="5965920" y="5070240"/>
              <a:ext cx="79200" cy="2491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1"/>
            <p:cNvSpPr/>
            <p:nvPr/>
          </p:nvSpPr>
          <p:spPr>
            <a:xfrm>
              <a:off x="5965920" y="5070240"/>
              <a:ext cx="118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12"/>
          <p:cNvGrpSpPr/>
          <p:nvPr/>
        </p:nvGrpSpPr>
        <p:grpSpPr>
          <a:xfrm>
            <a:off x="3059280" y="3573000"/>
            <a:ext cx="720720" cy="1800720"/>
            <a:chOff x="3059280" y="3573000"/>
            <a:chExt cx="720720" cy="1800720"/>
          </a:xfrm>
        </p:grpSpPr>
        <p:sp>
          <p:nvSpPr>
            <p:cNvPr id="240" name="Прямая соединительная линия 13"/>
            <p:cNvSpPr/>
            <p:nvPr/>
          </p:nvSpPr>
          <p:spPr>
            <a:xfrm flipV="1">
              <a:off x="3162240" y="3573000"/>
              <a:ext cx="61776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6"/>
            <p:cNvSpPr/>
            <p:nvPr/>
          </p:nvSpPr>
          <p:spPr>
            <a:xfrm flipH="1" flipV="1">
              <a:off x="3162240" y="5056200"/>
              <a:ext cx="3312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ая соединительная линия 18"/>
            <p:cNvSpPr/>
            <p:nvPr/>
          </p:nvSpPr>
          <p:spPr>
            <a:xfrm>
              <a:off x="3059280" y="5056200"/>
              <a:ext cx="1029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ая соединительная линия 19"/>
            <p:cNvSpPr/>
            <p:nvPr/>
          </p:nvSpPr>
          <p:spPr>
            <a:xfrm flipV="1">
              <a:off x="3093480" y="5056200"/>
              <a:ext cx="680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9"/>
          <p:cNvSpPr/>
          <p:nvPr/>
        </p:nvSpPr>
        <p:spPr>
          <a:xfrm>
            <a:off x="588240" y="380880"/>
            <a:ext cx="37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Крутим – вертим гол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1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6" name="Группа 19"/>
          <p:cNvGrpSpPr/>
          <p:nvPr/>
        </p:nvGrpSpPr>
        <p:grpSpPr>
          <a:xfrm>
            <a:off x="3276720" y="1197000"/>
            <a:ext cx="2543040" cy="5264280"/>
            <a:chOff x="3276720" y="1197000"/>
            <a:chExt cx="2543040" cy="5264280"/>
          </a:xfrm>
        </p:grpSpPr>
        <p:pic>
          <p:nvPicPr>
            <p:cNvPr id="247" name="Picture 2" descr="C:\Users\Unlager\Desktop\Безымянный.jpg"/>
            <p:cNvPicPr/>
            <p:nvPr/>
          </p:nvPicPr>
          <p:blipFill>
            <a:blip r:embed="rId2"/>
            <a:stretch/>
          </p:blipFill>
          <p:spPr>
            <a:xfrm>
              <a:off x="3276720" y="1485000"/>
              <a:ext cx="2543040" cy="49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Овал 4"/>
            <p:cNvSpPr/>
            <p:nvPr/>
          </p:nvSpPr>
          <p:spPr>
            <a:xfrm>
              <a:off x="3708360" y="1197000"/>
              <a:ext cx="1512720" cy="15843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5"/>
            <p:cNvSpPr/>
            <p:nvPr/>
          </p:nvSpPr>
          <p:spPr>
            <a:xfrm>
              <a:off x="3997440" y="1989000"/>
              <a:ext cx="934920" cy="863640"/>
            </a:xfrm>
            <a:prstGeom prst="ellipse">
              <a:avLst/>
            </a:prstGeom>
            <a:solidFill>
              <a:srgbClr val="f5fafb"/>
            </a:solidFill>
            <a:ln w="25560">
              <a:solidFill>
                <a:srgbClr val="f5f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Равнобедренный треугольник 6"/>
            <p:cNvSpPr/>
            <p:nvPr/>
          </p:nvSpPr>
          <p:spPr>
            <a:xfrm flipH="1" rot="5006400">
              <a:off x="5048280" y="2184120"/>
              <a:ext cx="95040" cy="317520"/>
            </a:xfrm>
            <a:prstGeom prst="triangle">
              <a:avLst>
                <a:gd name="adj" fmla="val 50000"/>
              </a:avLst>
            </a:prstGeom>
            <a:solidFill>
              <a:srgbClr val="2d2d8a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7"/>
            <p:cNvSpPr/>
            <p:nvPr/>
          </p:nvSpPr>
          <p:spPr>
            <a:xfrm>
              <a:off x="4572000" y="2205000"/>
              <a:ext cx="727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Трапеция 8"/>
            <p:cNvSpPr/>
            <p:nvPr/>
          </p:nvSpPr>
          <p:spPr>
            <a:xfrm>
              <a:off x="4068720" y="1484280"/>
              <a:ext cx="792000" cy="649080"/>
            </a:xfrm>
            <a:prstGeom prst="pie">
              <a:avLst/>
            </a:prstGeom>
            <a:solidFill>
              <a:srgbClr val="00004d"/>
            </a:solidFill>
            <a:ln w="25560">
              <a:solidFill>
                <a:srgbClr val="000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"/>
          <p:cNvGrpSpPr/>
          <p:nvPr/>
        </p:nvGrpSpPr>
        <p:grpSpPr>
          <a:xfrm>
            <a:off x="5364000" y="3284640"/>
            <a:ext cx="792360" cy="1872720"/>
            <a:chOff x="5364000" y="3284640"/>
            <a:chExt cx="792360" cy="1872720"/>
          </a:xfrm>
        </p:grpSpPr>
        <p:sp>
          <p:nvSpPr>
            <p:cNvPr id="254" name="Прямая соединительная линия 10"/>
            <p:cNvSpPr/>
            <p:nvPr/>
          </p:nvSpPr>
          <p:spPr>
            <a:xfrm>
              <a:off x="5364000" y="3284640"/>
              <a:ext cx="673560" cy="149868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рямая соединительная линия 11"/>
            <p:cNvSpPr/>
            <p:nvPr/>
          </p:nvSpPr>
          <p:spPr>
            <a:xfrm>
              <a:off x="6037560" y="4782960"/>
              <a:ext cx="0" cy="374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12"/>
            <p:cNvSpPr/>
            <p:nvPr/>
          </p:nvSpPr>
          <p:spPr>
            <a:xfrm>
              <a:off x="6037560" y="4782960"/>
              <a:ext cx="79200" cy="2491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"/>
            <p:cNvSpPr/>
            <p:nvPr/>
          </p:nvSpPr>
          <p:spPr>
            <a:xfrm>
              <a:off x="6037560" y="4782960"/>
              <a:ext cx="118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14"/>
          <p:cNvGrpSpPr/>
          <p:nvPr/>
        </p:nvGrpSpPr>
        <p:grpSpPr>
          <a:xfrm>
            <a:off x="2987640" y="3428640"/>
            <a:ext cx="720720" cy="1800720"/>
            <a:chOff x="2987640" y="3428640"/>
            <a:chExt cx="720720" cy="1800720"/>
          </a:xfrm>
        </p:grpSpPr>
        <p:sp>
          <p:nvSpPr>
            <p:cNvPr id="259" name="Прямая соединительная линия 15"/>
            <p:cNvSpPr/>
            <p:nvPr/>
          </p:nvSpPr>
          <p:spPr>
            <a:xfrm flipV="1">
              <a:off x="3090600" y="3428640"/>
              <a:ext cx="61776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6"/>
            <p:cNvSpPr/>
            <p:nvPr/>
          </p:nvSpPr>
          <p:spPr>
            <a:xfrm flipH="1" flipV="1">
              <a:off x="3090600" y="4911840"/>
              <a:ext cx="3312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7"/>
            <p:cNvSpPr/>
            <p:nvPr/>
          </p:nvSpPr>
          <p:spPr>
            <a:xfrm>
              <a:off x="2987640" y="4911840"/>
              <a:ext cx="1029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8"/>
            <p:cNvSpPr/>
            <p:nvPr/>
          </p:nvSpPr>
          <p:spPr>
            <a:xfrm flipV="1">
              <a:off x="3021840" y="4911840"/>
              <a:ext cx="680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0"/>
          <p:cNvSpPr/>
          <p:nvPr/>
        </p:nvSpPr>
        <p:spPr>
          <a:xfrm>
            <a:off x="428400" y="25704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Разминаем ш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1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5" name="Группа 19"/>
          <p:cNvGrpSpPr/>
          <p:nvPr/>
        </p:nvGrpSpPr>
        <p:grpSpPr>
          <a:xfrm>
            <a:off x="3276720" y="1197000"/>
            <a:ext cx="2543040" cy="5264280"/>
            <a:chOff x="3276720" y="1197000"/>
            <a:chExt cx="2543040" cy="5264280"/>
          </a:xfrm>
        </p:grpSpPr>
        <p:pic>
          <p:nvPicPr>
            <p:cNvPr id="266" name="Picture 2" descr="C:\Users\Unlager\Desktop\Безымянный.jpg"/>
            <p:cNvPicPr/>
            <p:nvPr/>
          </p:nvPicPr>
          <p:blipFill>
            <a:blip r:embed="rId2"/>
            <a:stretch/>
          </p:blipFill>
          <p:spPr>
            <a:xfrm>
              <a:off x="3276720" y="1485000"/>
              <a:ext cx="2543040" cy="49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Овал 4"/>
            <p:cNvSpPr/>
            <p:nvPr/>
          </p:nvSpPr>
          <p:spPr>
            <a:xfrm>
              <a:off x="3708360" y="1197000"/>
              <a:ext cx="1512720" cy="15843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Овал 5"/>
            <p:cNvSpPr/>
            <p:nvPr/>
          </p:nvSpPr>
          <p:spPr>
            <a:xfrm>
              <a:off x="3997440" y="1989000"/>
              <a:ext cx="934920" cy="863640"/>
            </a:xfrm>
            <a:prstGeom prst="ellipse">
              <a:avLst/>
            </a:prstGeom>
            <a:solidFill>
              <a:srgbClr val="f5fafb"/>
            </a:solidFill>
            <a:ln w="25560">
              <a:solidFill>
                <a:srgbClr val="f5f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Равнобедренный треугольник 6"/>
            <p:cNvSpPr/>
            <p:nvPr/>
          </p:nvSpPr>
          <p:spPr>
            <a:xfrm flipH="1" rot="5006400">
              <a:off x="5048280" y="2184120"/>
              <a:ext cx="95040" cy="317520"/>
            </a:xfrm>
            <a:prstGeom prst="triangle">
              <a:avLst>
                <a:gd name="adj" fmla="val 50000"/>
              </a:avLst>
            </a:prstGeom>
            <a:solidFill>
              <a:srgbClr val="2d2d8a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Овал 7"/>
            <p:cNvSpPr/>
            <p:nvPr/>
          </p:nvSpPr>
          <p:spPr>
            <a:xfrm>
              <a:off x="4572000" y="2205000"/>
              <a:ext cx="727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Трапеция 8"/>
            <p:cNvSpPr/>
            <p:nvPr/>
          </p:nvSpPr>
          <p:spPr>
            <a:xfrm>
              <a:off x="4068720" y="1484280"/>
              <a:ext cx="792000" cy="649080"/>
            </a:xfrm>
            <a:prstGeom prst="pie">
              <a:avLst/>
            </a:prstGeom>
            <a:solidFill>
              <a:srgbClr val="00004d"/>
            </a:solidFill>
            <a:ln w="25560">
              <a:solidFill>
                <a:srgbClr val="000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9"/>
          <p:cNvGrpSpPr/>
          <p:nvPr/>
        </p:nvGrpSpPr>
        <p:grpSpPr>
          <a:xfrm>
            <a:off x="5364000" y="3284640"/>
            <a:ext cx="792360" cy="1872720"/>
            <a:chOff x="5364000" y="3284640"/>
            <a:chExt cx="792360" cy="1872720"/>
          </a:xfrm>
        </p:grpSpPr>
        <p:sp>
          <p:nvSpPr>
            <p:cNvPr id="273" name="Прямая соединительная линия 10"/>
            <p:cNvSpPr/>
            <p:nvPr/>
          </p:nvSpPr>
          <p:spPr>
            <a:xfrm>
              <a:off x="5364000" y="3284640"/>
              <a:ext cx="673560" cy="149868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11"/>
            <p:cNvSpPr/>
            <p:nvPr/>
          </p:nvSpPr>
          <p:spPr>
            <a:xfrm>
              <a:off x="6037560" y="4782960"/>
              <a:ext cx="0" cy="374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2"/>
            <p:cNvSpPr/>
            <p:nvPr/>
          </p:nvSpPr>
          <p:spPr>
            <a:xfrm>
              <a:off x="6037560" y="4782960"/>
              <a:ext cx="79200" cy="2491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3"/>
            <p:cNvSpPr/>
            <p:nvPr/>
          </p:nvSpPr>
          <p:spPr>
            <a:xfrm>
              <a:off x="6037560" y="4782960"/>
              <a:ext cx="118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14"/>
          <p:cNvGrpSpPr/>
          <p:nvPr/>
        </p:nvGrpSpPr>
        <p:grpSpPr>
          <a:xfrm>
            <a:off x="2987640" y="3428640"/>
            <a:ext cx="720720" cy="1800720"/>
            <a:chOff x="2987640" y="3428640"/>
            <a:chExt cx="720720" cy="1800720"/>
          </a:xfrm>
        </p:grpSpPr>
        <p:sp>
          <p:nvSpPr>
            <p:cNvPr id="278" name="Прямая соединительная линия 15"/>
            <p:cNvSpPr/>
            <p:nvPr/>
          </p:nvSpPr>
          <p:spPr>
            <a:xfrm flipV="1">
              <a:off x="3090600" y="3428640"/>
              <a:ext cx="61776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"/>
            <p:cNvSpPr/>
            <p:nvPr/>
          </p:nvSpPr>
          <p:spPr>
            <a:xfrm flipH="1" flipV="1">
              <a:off x="3090600" y="4911840"/>
              <a:ext cx="3312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7"/>
            <p:cNvSpPr/>
            <p:nvPr/>
          </p:nvSpPr>
          <p:spPr>
            <a:xfrm>
              <a:off x="2987640" y="4911840"/>
              <a:ext cx="1029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18"/>
            <p:cNvSpPr/>
            <p:nvPr/>
          </p:nvSpPr>
          <p:spPr>
            <a:xfrm flipV="1">
              <a:off x="3021840" y="4911840"/>
              <a:ext cx="680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20"/>
          <p:cNvSpPr/>
          <p:nvPr/>
        </p:nvSpPr>
        <p:spPr>
          <a:xfrm>
            <a:off x="506160" y="54468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С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6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Unlager\Desktop\112.jpg"/>
          <p:cNvPicPr/>
          <p:nvPr/>
        </p:nvPicPr>
        <p:blipFill>
          <a:blip r:embed="rId2"/>
          <a:stretch/>
        </p:blipFill>
        <p:spPr>
          <a:xfrm>
            <a:off x="3492360" y="476280"/>
            <a:ext cx="2543400" cy="5695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4859280" y="5229360"/>
            <a:ext cx="600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6"/>
          <p:cNvGrpSpPr/>
          <p:nvPr/>
        </p:nvGrpSpPr>
        <p:grpSpPr>
          <a:xfrm>
            <a:off x="5508720" y="2708280"/>
            <a:ext cx="792000" cy="1872720"/>
            <a:chOff x="5508720" y="2708280"/>
            <a:chExt cx="792000" cy="1872720"/>
          </a:xfrm>
        </p:grpSpPr>
        <p:sp>
          <p:nvSpPr>
            <p:cNvPr id="287" name="Прямая соединительная линия 7"/>
            <p:cNvSpPr/>
            <p:nvPr/>
          </p:nvSpPr>
          <p:spPr>
            <a:xfrm>
              <a:off x="5508720" y="2708280"/>
              <a:ext cx="673200" cy="149868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8"/>
            <p:cNvSpPr/>
            <p:nvPr/>
          </p:nvSpPr>
          <p:spPr>
            <a:xfrm>
              <a:off x="6181920" y="4206600"/>
              <a:ext cx="0" cy="374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9"/>
            <p:cNvSpPr/>
            <p:nvPr/>
          </p:nvSpPr>
          <p:spPr>
            <a:xfrm>
              <a:off x="6181920" y="4206600"/>
              <a:ext cx="79200" cy="2491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10"/>
            <p:cNvSpPr/>
            <p:nvPr/>
          </p:nvSpPr>
          <p:spPr>
            <a:xfrm>
              <a:off x="6181920" y="4206600"/>
              <a:ext cx="118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11"/>
          <p:cNvGrpSpPr/>
          <p:nvPr/>
        </p:nvGrpSpPr>
        <p:grpSpPr>
          <a:xfrm>
            <a:off x="3276720" y="2707920"/>
            <a:ext cx="718920" cy="1800720"/>
            <a:chOff x="3276720" y="2707920"/>
            <a:chExt cx="718920" cy="1800720"/>
          </a:xfrm>
        </p:grpSpPr>
        <p:sp>
          <p:nvSpPr>
            <p:cNvPr id="292" name="Прямая соединительная линия 12"/>
            <p:cNvSpPr/>
            <p:nvPr/>
          </p:nvSpPr>
          <p:spPr>
            <a:xfrm flipV="1">
              <a:off x="3379680" y="2707920"/>
              <a:ext cx="61596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3"/>
            <p:cNvSpPr/>
            <p:nvPr/>
          </p:nvSpPr>
          <p:spPr>
            <a:xfrm flipH="1" flipV="1">
              <a:off x="3379680" y="4191120"/>
              <a:ext cx="3312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4"/>
            <p:cNvSpPr/>
            <p:nvPr/>
          </p:nvSpPr>
          <p:spPr>
            <a:xfrm>
              <a:off x="3276720" y="4191120"/>
              <a:ext cx="1029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5"/>
            <p:cNvSpPr/>
            <p:nvPr/>
          </p:nvSpPr>
          <p:spPr>
            <a:xfrm flipV="1">
              <a:off x="3310920" y="4191120"/>
              <a:ext cx="680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5"/>
          <p:cNvSpPr/>
          <p:nvPr/>
        </p:nvSpPr>
        <p:spPr>
          <a:xfrm>
            <a:off x="477360" y="30960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И на месте мы шаг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6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nlager\Desktop\1121.jpg"/>
          <p:cNvPicPr/>
          <p:nvPr/>
        </p:nvPicPr>
        <p:blipFill>
          <a:blip r:embed="rId2"/>
          <a:stretch/>
        </p:blipFill>
        <p:spPr>
          <a:xfrm>
            <a:off x="3492360" y="404640"/>
            <a:ext cx="2543400" cy="5696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tretch/>
        </p:blipFill>
        <p:spPr>
          <a:xfrm>
            <a:off x="3924360" y="5116680"/>
            <a:ext cx="600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300" name="Группа 5"/>
          <p:cNvGrpSpPr/>
          <p:nvPr/>
        </p:nvGrpSpPr>
        <p:grpSpPr>
          <a:xfrm>
            <a:off x="5508720" y="2565360"/>
            <a:ext cx="792000" cy="1871280"/>
            <a:chOff x="5508720" y="2565360"/>
            <a:chExt cx="792000" cy="1871280"/>
          </a:xfrm>
        </p:grpSpPr>
        <p:sp>
          <p:nvSpPr>
            <p:cNvPr id="301" name="Прямая соединительная линия 6"/>
            <p:cNvSpPr/>
            <p:nvPr/>
          </p:nvSpPr>
          <p:spPr>
            <a:xfrm>
              <a:off x="5508720" y="2565360"/>
              <a:ext cx="673200" cy="14972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7"/>
            <p:cNvSpPr/>
            <p:nvPr/>
          </p:nvSpPr>
          <p:spPr>
            <a:xfrm>
              <a:off x="6181920" y="4062240"/>
              <a:ext cx="0" cy="3744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8"/>
            <p:cNvSpPr/>
            <p:nvPr/>
          </p:nvSpPr>
          <p:spPr>
            <a:xfrm>
              <a:off x="6181920" y="4062240"/>
              <a:ext cx="79200" cy="2491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9"/>
            <p:cNvSpPr/>
            <p:nvPr/>
          </p:nvSpPr>
          <p:spPr>
            <a:xfrm>
              <a:off x="6181920" y="4062240"/>
              <a:ext cx="118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Группа 10"/>
          <p:cNvGrpSpPr/>
          <p:nvPr/>
        </p:nvGrpSpPr>
        <p:grpSpPr>
          <a:xfrm>
            <a:off x="3276720" y="2565000"/>
            <a:ext cx="718920" cy="1800720"/>
            <a:chOff x="3276720" y="2565000"/>
            <a:chExt cx="718920" cy="1800720"/>
          </a:xfrm>
        </p:grpSpPr>
        <p:sp>
          <p:nvSpPr>
            <p:cNvPr id="306" name="Прямая соединительная линия 11"/>
            <p:cNvSpPr/>
            <p:nvPr/>
          </p:nvSpPr>
          <p:spPr>
            <a:xfrm flipV="1">
              <a:off x="3379680" y="2565000"/>
              <a:ext cx="615960" cy="14828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Прямая соединительная линия 12"/>
            <p:cNvSpPr/>
            <p:nvPr/>
          </p:nvSpPr>
          <p:spPr>
            <a:xfrm flipH="1" flipV="1">
              <a:off x="3379680" y="4048200"/>
              <a:ext cx="33120" cy="31752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13"/>
            <p:cNvSpPr/>
            <p:nvPr/>
          </p:nvSpPr>
          <p:spPr>
            <a:xfrm>
              <a:off x="3276720" y="4048200"/>
              <a:ext cx="1029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Прямая соединительная линия 14"/>
            <p:cNvSpPr/>
            <p:nvPr/>
          </p:nvSpPr>
          <p:spPr>
            <a:xfrm flipV="1">
              <a:off x="3310920" y="4048200"/>
              <a:ext cx="68040" cy="2109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15"/>
          <p:cNvSpPr/>
          <p:nvPr/>
        </p:nvSpPr>
        <p:spPr>
          <a:xfrm>
            <a:off x="538920" y="544680"/>
            <a:ext cx="34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Ноги выше подним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765000"/>
            <a:ext cx="2543040" cy="5696280"/>
          </a:xfrm>
          <a:prstGeom prst="rect">
            <a:avLst/>
          </a:prstGeom>
          <a:ln w="0">
            <a:noFill/>
          </a:ln>
        </p:spPr>
      </p:pic>
      <p:grpSp>
        <p:nvGrpSpPr>
          <p:cNvPr id="313" name="Группа 13"/>
          <p:cNvGrpSpPr/>
          <p:nvPr/>
        </p:nvGrpSpPr>
        <p:grpSpPr>
          <a:xfrm>
            <a:off x="5292000" y="549000"/>
            <a:ext cx="648000" cy="2159280"/>
            <a:chOff x="5292000" y="549000"/>
            <a:chExt cx="648000" cy="2159280"/>
          </a:xfrm>
        </p:grpSpPr>
        <p:sp>
          <p:nvSpPr>
            <p:cNvPr id="314" name="Прямая соединительная линия 4"/>
            <p:cNvSpPr/>
            <p:nvPr/>
          </p:nvSpPr>
          <p:spPr>
            <a:xfrm flipV="1">
              <a:off x="5292000" y="716040"/>
              <a:ext cx="431640" cy="19922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6"/>
            <p:cNvSpPr/>
            <p:nvPr/>
          </p:nvSpPr>
          <p:spPr>
            <a:xfrm flipH="1" flipV="1">
              <a:off x="5616360" y="549000"/>
              <a:ext cx="108000" cy="1666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7"/>
            <p:cNvSpPr/>
            <p:nvPr/>
          </p:nvSpPr>
          <p:spPr>
            <a:xfrm flipV="1">
              <a:off x="5723640" y="549000"/>
              <a:ext cx="107640" cy="1666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8"/>
            <p:cNvSpPr/>
            <p:nvPr/>
          </p:nvSpPr>
          <p:spPr>
            <a:xfrm flipV="1">
              <a:off x="5724360" y="631440"/>
              <a:ext cx="215640" cy="838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2"/>
          <p:cNvGrpSpPr/>
          <p:nvPr/>
        </p:nvGrpSpPr>
        <p:grpSpPr>
          <a:xfrm>
            <a:off x="2987640" y="475920"/>
            <a:ext cx="720720" cy="2376720"/>
            <a:chOff x="2987640" y="475920"/>
            <a:chExt cx="720720" cy="2376720"/>
          </a:xfrm>
        </p:grpSpPr>
        <p:sp>
          <p:nvSpPr>
            <p:cNvPr id="319" name="Прямая соединительная линия 5"/>
            <p:cNvSpPr/>
            <p:nvPr/>
          </p:nvSpPr>
          <p:spPr>
            <a:xfrm>
              <a:off x="3203640" y="772920"/>
              <a:ext cx="504720" cy="207972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9"/>
            <p:cNvSpPr/>
            <p:nvPr/>
          </p:nvSpPr>
          <p:spPr>
            <a:xfrm flipH="1">
              <a:off x="3203640" y="475920"/>
              <a:ext cx="72720" cy="2966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10"/>
            <p:cNvSpPr/>
            <p:nvPr/>
          </p:nvSpPr>
          <p:spPr>
            <a:xfrm>
              <a:off x="2987640" y="772560"/>
              <a:ext cx="2160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11"/>
            <p:cNvSpPr/>
            <p:nvPr/>
          </p:nvSpPr>
          <p:spPr>
            <a:xfrm>
              <a:off x="3058200" y="574560"/>
              <a:ext cx="144360" cy="1983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14"/>
          <p:cNvSpPr/>
          <p:nvPr/>
        </p:nvSpPr>
        <p:spPr>
          <a:xfrm>
            <a:off x="165960" y="189000"/>
            <a:ext cx="36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Потянулись, растяну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276720" y="765000"/>
            <a:ext cx="2543040" cy="5696280"/>
          </a:xfrm>
          <a:prstGeom prst="rect">
            <a:avLst/>
          </a:prstGeom>
          <a:ln w="0">
            <a:noFill/>
          </a:ln>
        </p:spPr>
      </p:pic>
      <p:grpSp>
        <p:nvGrpSpPr>
          <p:cNvPr id="326" name="Группа 4"/>
          <p:cNvGrpSpPr/>
          <p:nvPr/>
        </p:nvGrpSpPr>
        <p:grpSpPr>
          <a:xfrm>
            <a:off x="5292000" y="2637000"/>
            <a:ext cx="2448360" cy="720720"/>
            <a:chOff x="5292000" y="2637000"/>
            <a:chExt cx="2448360" cy="720720"/>
          </a:xfrm>
        </p:grpSpPr>
        <p:sp>
          <p:nvSpPr>
            <p:cNvPr id="327" name="Прямая соединительная линия 5"/>
            <p:cNvSpPr/>
            <p:nvPr/>
          </p:nvSpPr>
          <p:spPr>
            <a:xfrm>
              <a:off x="5292000" y="2637000"/>
              <a:ext cx="1631880" cy="66528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6"/>
            <p:cNvSpPr/>
            <p:nvPr/>
          </p:nvSpPr>
          <p:spPr>
            <a:xfrm flipH="1">
              <a:off x="6516360" y="3302280"/>
              <a:ext cx="407880" cy="554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7"/>
            <p:cNvSpPr/>
            <p:nvPr/>
          </p:nvSpPr>
          <p:spPr>
            <a:xfrm>
              <a:off x="6924240" y="3302280"/>
              <a:ext cx="407880" cy="554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8"/>
            <p:cNvSpPr/>
            <p:nvPr/>
          </p:nvSpPr>
          <p:spPr>
            <a:xfrm>
              <a:off x="6924600" y="3302640"/>
              <a:ext cx="815760" cy="284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Группа 9"/>
          <p:cNvGrpSpPr/>
          <p:nvPr/>
        </p:nvGrpSpPr>
        <p:grpSpPr>
          <a:xfrm>
            <a:off x="1332000" y="2636640"/>
            <a:ext cx="2448000" cy="792000"/>
            <a:chOff x="1332000" y="2636640"/>
            <a:chExt cx="2448000" cy="792000"/>
          </a:xfrm>
        </p:grpSpPr>
        <p:sp>
          <p:nvSpPr>
            <p:cNvPr id="332" name="Прямая соединительная линия 10"/>
            <p:cNvSpPr/>
            <p:nvPr/>
          </p:nvSpPr>
          <p:spPr>
            <a:xfrm flipV="1">
              <a:off x="2067120" y="2636640"/>
              <a:ext cx="1712880" cy="69372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11"/>
            <p:cNvSpPr/>
            <p:nvPr/>
          </p:nvSpPr>
          <p:spPr>
            <a:xfrm flipH="1" flipV="1">
              <a:off x="2066760" y="3330360"/>
              <a:ext cx="244440" cy="982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12"/>
            <p:cNvSpPr/>
            <p:nvPr/>
          </p:nvSpPr>
          <p:spPr>
            <a:xfrm>
              <a:off x="1332000" y="3330720"/>
              <a:ext cx="73512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13"/>
            <p:cNvSpPr/>
            <p:nvPr/>
          </p:nvSpPr>
          <p:spPr>
            <a:xfrm flipV="1">
              <a:off x="1576440" y="3330720"/>
              <a:ext cx="490320" cy="648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14"/>
          <p:cNvSpPr/>
          <p:nvPr/>
        </p:nvSpPr>
        <p:spPr>
          <a:xfrm>
            <a:off x="401400" y="39996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Вверх и в стор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5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Users\Unlager\Desktop\Безымянный.jpg"/>
          <p:cNvPicPr/>
          <p:nvPr/>
        </p:nvPicPr>
        <p:blipFill>
          <a:blip r:embed="rId2"/>
          <a:stretch/>
        </p:blipFill>
        <p:spPr>
          <a:xfrm>
            <a:off x="3348000" y="765000"/>
            <a:ext cx="2543040" cy="5696280"/>
          </a:xfrm>
          <a:prstGeom prst="rect">
            <a:avLst/>
          </a:prstGeom>
          <a:ln w="0">
            <a:noFill/>
          </a:ln>
        </p:spPr>
      </p:pic>
      <p:grpSp>
        <p:nvGrpSpPr>
          <p:cNvPr id="339" name="Группа 3"/>
          <p:cNvGrpSpPr/>
          <p:nvPr/>
        </p:nvGrpSpPr>
        <p:grpSpPr>
          <a:xfrm>
            <a:off x="4932000" y="2637000"/>
            <a:ext cx="431640" cy="1296720"/>
            <a:chOff x="4932000" y="2637000"/>
            <a:chExt cx="431640" cy="1296720"/>
          </a:xfrm>
        </p:grpSpPr>
        <p:sp>
          <p:nvSpPr>
            <p:cNvPr id="340" name="Прямая соединительная линия 4"/>
            <p:cNvSpPr/>
            <p:nvPr/>
          </p:nvSpPr>
          <p:spPr>
            <a:xfrm flipH="1">
              <a:off x="4996800" y="2637000"/>
              <a:ext cx="366840" cy="103824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5"/>
            <p:cNvSpPr/>
            <p:nvPr/>
          </p:nvSpPr>
          <p:spPr>
            <a:xfrm>
              <a:off x="4996800" y="3675240"/>
              <a:ext cx="0" cy="25848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6"/>
            <p:cNvSpPr/>
            <p:nvPr/>
          </p:nvSpPr>
          <p:spPr>
            <a:xfrm flipH="1">
              <a:off x="4954680" y="3675240"/>
              <a:ext cx="42840" cy="17280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7"/>
            <p:cNvSpPr/>
            <p:nvPr/>
          </p:nvSpPr>
          <p:spPr>
            <a:xfrm flipH="1">
              <a:off x="4932000" y="3675240"/>
              <a:ext cx="6480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Группа 8"/>
          <p:cNvGrpSpPr/>
          <p:nvPr/>
        </p:nvGrpSpPr>
        <p:grpSpPr>
          <a:xfrm>
            <a:off x="3779640" y="2781000"/>
            <a:ext cx="360360" cy="1224000"/>
            <a:chOff x="3779640" y="2781000"/>
            <a:chExt cx="360360" cy="1224000"/>
          </a:xfrm>
        </p:grpSpPr>
        <p:sp>
          <p:nvSpPr>
            <p:cNvPr id="345" name="Прямая соединительная линия 9"/>
            <p:cNvSpPr/>
            <p:nvPr/>
          </p:nvSpPr>
          <p:spPr>
            <a:xfrm flipH="1" flipV="1">
              <a:off x="3779640" y="2781000"/>
              <a:ext cx="309600" cy="1008360"/>
            </a:xfrm>
            <a:prstGeom prst="line">
              <a:avLst/>
            </a:prstGeom>
            <a:ln w="572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10"/>
            <p:cNvSpPr/>
            <p:nvPr/>
          </p:nvSpPr>
          <p:spPr>
            <a:xfrm flipV="1">
              <a:off x="4071960" y="3789360"/>
              <a:ext cx="17280" cy="21564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11"/>
            <p:cNvSpPr/>
            <p:nvPr/>
          </p:nvSpPr>
          <p:spPr>
            <a:xfrm flipH="1">
              <a:off x="4089240" y="3789720"/>
              <a:ext cx="50760" cy="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12"/>
            <p:cNvSpPr/>
            <p:nvPr/>
          </p:nvSpPr>
          <p:spPr>
            <a:xfrm flipH="1" flipV="1">
              <a:off x="4089600" y="3789360"/>
              <a:ext cx="33120" cy="144360"/>
            </a:xfrm>
            <a:prstGeom prst="line">
              <a:avLst/>
            </a:prstGeom>
            <a:ln w="5076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4"/>
          <p:cNvSpPr/>
          <p:nvPr/>
        </p:nvSpPr>
        <p:spPr>
          <a:xfrm>
            <a:off x="733680" y="5446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6270d78e8a96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Georgia"/>
              </a:rPr>
              <a:t>И за парты все вернулис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Georgia"/>
              </a:rPr>
              <a:t>Вновь урок у нас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56" name="Text Box 14"/>
          <p:cNvSpPr/>
          <p:nvPr/>
        </p:nvSpPr>
        <p:spPr>
          <a:xfrm>
            <a:off x="6407280" y="0"/>
            <a:ext cx="2736720" cy="9471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им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 rot="16200000">
            <a:off x="1342080" y="1617840"/>
            <a:ext cx="122076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9" descr=""/>
          <p:cNvPicPr/>
          <p:nvPr/>
        </p:nvPicPr>
        <p:blipFill>
          <a:blip r:embed="rId3"/>
          <a:stretch/>
        </p:blipFill>
        <p:spPr>
          <a:xfrm>
            <a:off x="2050920" y="981000"/>
            <a:ext cx="1055880" cy="1728720"/>
          </a:xfrm>
          <a:prstGeom prst="rect">
            <a:avLst/>
          </a:prstGeom>
          <a:ln w="0">
            <a:noFill/>
          </a:ln>
        </p:spPr>
      </p:pic>
      <p:sp>
        <p:nvSpPr>
          <p:cNvPr id="359" name="Oval 28"/>
          <p:cNvSpPr/>
          <p:nvPr/>
        </p:nvSpPr>
        <p:spPr>
          <a:xfrm>
            <a:off x="4500720" y="0"/>
            <a:ext cx="1223640" cy="836640"/>
          </a:xfrm>
          <a:prstGeom prst="ellipse">
            <a:avLst/>
          </a:prstGeom>
          <a:solidFill>
            <a:srgbClr val="e2fb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>
            <a:hlinkClick r:id="rId4" action="ppaction://hlinksldjump"/>
          </p:cNvPr>
          <p:cNvSpPr/>
          <p:nvPr/>
        </p:nvSpPr>
        <p:spPr>
          <a:xfrm>
            <a:off x="179280" y="2492280"/>
            <a:ext cx="898560" cy="827280"/>
          </a:xfrm>
          <a:custGeom>
            <a:avLst/>
            <a:gdLst>
              <a:gd name="textAreaLeft" fmla="*/ 53640 w 898560"/>
              <a:gd name="textAreaRight" fmla="*/ 844920 w 89856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3460" h="21600">
                <a:moveTo>
                  <a:pt x="0" y="0"/>
                </a:moveTo>
                <a:lnTo>
                  <a:pt x="23460" y="0"/>
                </a:lnTo>
                <a:lnTo>
                  <a:pt x="23460" y="21600"/>
                </a:lnTo>
                <a:lnTo>
                  <a:pt x="0" y="21600"/>
                </a:lnTo>
                <a:close/>
              </a:path>
              <a:path fill="lightenLess" w="23460" h="21600">
                <a:moveTo>
                  <a:pt x="0" y="0"/>
                </a:moveTo>
                <a:lnTo>
                  <a:pt x="23460" y="0"/>
                </a:lnTo>
                <a:lnTo>
                  <a:pt x="22060" y="1400"/>
                </a:lnTo>
                <a:lnTo>
                  <a:pt x="1400" y="1400"/>
                </a:lnTo>
                <a:close/>
              </a:path>
              <a:path fill="darken" w="23460" h="21600">
                <a:moveTo>
                  <a:pt x="23460" y="0"/>
                </a:moveTo>
                <a:lnTo>
                  <a:pt x="23460" y="21600"/>
                </a:lnTo>
                <a:lnTo>
                  <a:pt x="22060" y="20200"/>
                </a:lnTo>
                <a:lnTo>
                  <a:pt x="22060" y="1400"/>
                </a:lnTo>
                <a:close/>
              </a:path>
              <a:path fill="darkenLess" w="23460" h="21600">
                <a:moveTo>
                  <a:pt x="23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0" y="20200"/>
                </a:lnTo>
                <a:close/>
              </a:path>
              <a:path fill="lighten" w="23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им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7">
            <a:hlinkClick r:id="rId5" action="ppaction://hlinksldjump"/>
          </p:cNvPr>
          <p:cNvSpPr/>
          <p:nvPr/>
        </p:nvSpPr>
        <p:spPr>
          <a:xfrm>
            <a:off x="6948360" y="5877000"/>
            <a:ext cx="754200" cy="83664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36640"/>
              <a:gd name="textAreaBottom" fmla="*/ 788040 h 836640"/>
            </a:gdLst>
            <a:ahLst/>
            <a:rect l="textAreaLeft" t="textAreaTop" r="textAreaRight" b="textAreaBottom"/>
            <a:pathLst>
              <a:path w="21600" h="23960">
                <a:moveTo>
                  <a:pt x="0" y="0"/>
                </a:moveTo>
                <a:lnTo>
                  <a:pt x="21600" y="0"/>
                </a:lnTo>
                <a:lnTo>
                  <a:pt x="21600" y="23960"/>
                </a:lnTo>
                <a:lnTo>
                  <a:pt x="0" y="23960"/>
                </a:lnTo>
                <a:close/>
              </a:path>
              <a:path fill="lightenLess" w="21600" h="23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0">
                <a:moveTo>
                  <a:pt x="21600" y="0"/>
                </a:moveTo>
                <a:lnTo>
                  <a:pt x="21600" y="23960"/>
                </a:lnTo>
                <a:lnTo>
                  <a:pt x="20200" y="22560"/>
                </a:lnTo>
                <a:lnTo>
                  <a:pt x="20200" y="1400"/>
                </a:lnTo>
                <a:close/>
              </a:path>
              <a:path fill="darkenLess" w="21600" h="23960">
                <a:moveTo>
                  <a:pt x="21600" y="23960"/>
                </a:moveTo>
                <a:lnTo>
                  <a:pt x="0" y="23960"/>
                </a:lnTo>
                <a:lnTo>
                  <a:pt x="1400" y="22560"/>
                </a:lnTo>
                <a:lnTo>
                  <a:pt x="20200" y="22560"/>
                </a:lnTo>
                <a:close/>
              </a:path>
              <a:path fill="lighten" w="21600" h="23960">
                <a:moveTo>
                  <a:pt x="0" y="23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8"/>
          <p:cNvSpPr/>
          <p:nvPr/>
        </p:nvSpPr>
        <p:spPr>
          <a:xfrm rot="20991600">
            <a:off x="4716360" y="4724280"/>
            <a:ext cx="898560" cy="825480"/>
          </a:xfrm>
          <a:custGeom>
            <a:avLst/>
            <a:gdLst>
              <a:gd name="textAreaLeft" fmla="*/ 53280 w 898560"/>
              <a:gd name="textAreaRight" fmla="*/ 845280 w 89856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23511" h="21600">
                <a:moveTo>
                  <a:pt x="0" y="0"/>
                </a:moveTo>
                <a:lnTo>
                  <a:pt x="23511" y="0"/>
                </a:lnTo>
                <a:lnTo>
                  <a:pt x="23511" y="21600"/>
                </a:lnTo>
                <a:lnTo>
                  <a:pt x="0" y="21600"/>
                </a:lnTo>
                <a:close/>
              </a:path>
              <a:path fill="lightenLess" w="23511" h="21600">
                <a:moveTo>
                  <a:pt x="0" y="0"/>
                </a:moveTo>
                <a:lnTo>
                  <a:pt x="23511" y="0"/>
                </a:lnTo>
                <a:lnTo>
                  <a:pt x="22111" y="1400"/>
                </a:lnTo>
                <a:lnTo>
                  <a:pt x="1400" y="1400"/>
                </a:lnTo>
                <a:close/>
              </a:path>
              <a:path fill="darken" w="23511" h="21600">
                <a:moveTo>
                  <a:pt x="23511" y="0"/>
                </a:moveTo>
                <a:lnTo>
                  <a:pt x="23511" y="21600"/>
                </a:lnTo>
                <a:lnTo>
                  <a:pt x="22111" y="20200"/>
                </a:lnTo>
                <a:lnTo>
                  <a:pt x="22111" y="1400"/>
                </a:lnTo>
                <a:close/>
              </a:path>
              <a:path fill="darkenLess" w="23511" h="21600">
                <a:moveTo>
                  <a:pt x="23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1" y="20200"/>
                </a:lnTo>
                <a:close/>
              </a:path>
              <a:path fill="lighten" w="23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0">
            <a:hlinkClick r:id="rId6" action="ppaction://hlinksldjump"/>
          </p:cNvPr>
          <p:cNvSpPr/>
          <p:nvPr/>
        </p:nvSpPr>
        <p:spPr>
          <a:xfrm>
            <a:off x="6084720" y="206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г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000"/>
              </a:solidFill>
              <a:latin typeface="Arial"/>
              <a:ea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cd5b5"/>
              </a:solidFill>
              <a:latin typeface="Arial"/>
              <a:ea typeface="宋体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684360" y="981000"/>
            <a:ext cx="7488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неклассное занятие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"Путешествие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 снеговичком""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2404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67" name="WordArt 5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имние забавы детей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1396800" cy="2014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369" name="Picture 7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1387440" cy="20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>
            <a:off x="3780000" y="1268280"/>
            <a:ext cx="1377720" cy="2014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371" name="Picture 9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1387440" cy="2014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372" name="Picture 10" descr=""/>
          <p:cNvPicPr/>
          <p:nvPr/>
        </p:nvPicPr>
        <p:blipFill>
          <a:blip r:embed="rId6"/>
          <a:stretch/>
        </p:blipFill>
        <p:spPr>
          <a:xfrm>
            <a:off x="7020000" y="1268280"/>
            <a:ext cx="1392120" cy="20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373" name="Text Box 11"/>
          <p:cNvSpPr/>
          <p:nvPr/>
        </p:nvSpPr>
        <p:spPr>
          <a:xfrm>
            <a:off x="1979640" y="3500280"/>
            <a:ext cx="5616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бя́та ката́ются на са́нках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1979640" y="4004640"/>
            <a:ext cx="5616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бя́та ката́ются на лы́жа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1979640" y="4507560"/>
            <a:ext cx="5616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бя́та ката́ются на конька́х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1979640" y="5017320"/>
            <a:ext cx="5616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́ти ле́пят снеговика́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5"/>
          <p:cNvSpPr/>
          <p:nvPr/>
        </p:nvSpPr>
        <p:spPr>
          <a:xfrm>
            <a:off x="1979640" y="5520600"/>
            <a:ext cx="56167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́ти игра́ют в снежки́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1757160" cy="2925720"/>
          </a:xfrm>
          <a:prstGeom prst="rect">
            <a:avLst/>
          </a:prstGeom>
          <a:ln w="0">
            <a:noFill/>
          </a:ln>
        </p:spPr>
      </p:pic>
      <p:sp>
        <p:nvSpPr>
          <p:cNvPr id="382" name="WordArt 5"/>
          <p:cNvSpPr txBox="1"/>
          <p:nvPr/>
        </p:nvSpPr>
        <p:spPr>
          <a:xfrm>
            <a:off x="1403280" y="765000"/>
            <a:ext cx="64087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ПАСИБО!!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ОЛОДЦЫ!!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383" name="Рисунок 37" descr="655245gdhvvofgvr.gif"/>
          <p:cNvPicPr/>
          <p:nvPr/>
        </p:nvPicPr>
        <p:blipFill>
          <a:blip r:embed="rId3"/>
          <a:stretch/>
        </p:blipFill>
        <p:spPr>
          <a:xfrm>
            <a:off x="179280" y="189000"/>
            <a:ext cx="4641840" cy="19461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7" descr="655245gdhvvofgvr.gif"/>
          <p:cNvPicPr/>
          <p:nvPr/>
        </p:nvPicPr>
        <p:blipFill>
          <a:blip r:embed="rId4"/>
          <a:stretch/>
        </p:blipFill>
        <p:spPr>
          <a:xfrm>
            <a:off x="250920" y="2349360"/>
            <a:ext cx="4641840" cy="1946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7" descr="655245gdhvvofgvr.gif"/>
          <p:cNvPicPr/>
          <p:nvPr/>
        </p:nvPicPr>
        <p:blipFill>
          <a:blip r:embed="rId5"/>
          <a:stretch/>
        </p:blipFill>
        <p:spPr>
          <a:xfrm>
            <a:off x="4356000" y="2276640"/>
            <a:ext cx="4641840" cy="19461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7" descr="655245gdhvvofgvr.gif"/>
          <p:cNvPicPr/>
          <p:nvPr/>
        </p:nvPicPr>
        <p:blipFill>
          <a:blip r:embed="rId6"/>
          <a:stretch/>
        </p:blipFill>
        <p:spPr>
          <a:xfrm>
            <a:off x="4502160" y="0"/>
            <a:ext cx="4641840" cy="19461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7" descr="655245gdhvvofgvr.gif"/>
          <p:cNvPicPr/>
          <p:nvPr/>
        </p:nvPicPr>
        <p:blipFill>
          <a:blip r:embed="rId7"/>
          <a:stretch/>
        </p:blipFill>
        <p:spPr>
          <a:xfrm>
            <a:off x="179280" y="4076640"/>
            <a:ext cx="4641840" cy="19461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7" descr="655245gdhvvofgvr.gif"/>
          <p:cNvPicPr/>
          <p:nvPr/>
        </p:nvPicPr>
        <p:blipFill>
          <a:blip r:embed="rId8"/>
          <a:stretch/>
        </p:blipFill>
        <p:spPr>
          <a:xfrm>
            <a:off x="4284720" y="4149720"/>
            <a:ext cx="46418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468360" y="1197000"/>
            <a:ext cx="8280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.bp.blogspot.com/-aSwrNMX6Yl8/UMjPaB1OAJI/AAAAAAAADXI/Coe3z4bNYAY/s1600/%D1%88%D0%B0%D0%B1%D0%BB%D0%BE%D0%BD+%D0%B7%D0%B8%D0%BC%D0%BD%D1%8F%D1%8F+%D0%BD%D0%BE%D1%87%D1%8C+%D0%B2+%D0%B4%D0%B5%D1%80%D0%B5%D0%B2%D0%BD%D0%B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. Снеговик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hgpi.edu.ru/biblioteka/forum/img/besedka/0_8027c_eeea0651_X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. Карта http://www.szalaykonyvek.hu/images/kepek/kepek/karacsonyitarsj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4. Времена год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reativenn.blogspot.com/2012/02/blog-post_88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5. Декабр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stgif.su/_ph/48/2/130656400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вар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bestgif.su/_ph/45/2/820495077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врал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demiart.ru/forum/index.php?act=module&amp;module=gallery&amp;cmd=viewimage&amp;img=30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6. Сосульк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1366x768.ru/nature/296/icicle-wallpaper-1366x76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стопад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idefon.com/_ld/149/0545885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оз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kray.ck.ua/media/k2/items/cache/726b22d9c17e9bdaa99a3b78d525321c_X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g.mota.ru/upload/wallpapers/2013/06/18/09/03/36276/vSf5Ba7iTJ-1152x8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оз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arioncountymessenger.com/wp-content/uploads/2011/04/thunderstorm-icon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е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egards-photographie.com/img/bg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ждик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cliparthut.com/clip-arts/1076/cartoon-rain-cloud-clip-art-107699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д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atlasprirodirossii.ru/wp-content/uploads/2015/05/Grad-podarok-prirodyi-ili-nebesnoe-proklyati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ёд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gas-gen.ru/support/articles/0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7. Цветок календулы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cp12.nevsepic.com.ua/8-5/1355081592-0882596-www.nevsepic.com.u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8. Малин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laliko.com/uploads/posts/2010-10/1286650043_1281008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9. Снег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s://lh6.googleusercontent.com/-HRa-jFXmHrA/VKA2nzw7HuI/AAAAAAABkLI/bIp7vHsIHuw/%D0%97%D0%98%D0%9C%D0%90%2B%2B%D0%A1%D0%9D%D0%95%D0%93%2B%2B%D0%A0%D0%95%D0%9A%D0%90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0. Снежинк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estisib.ru/wp-content/uploads/2012/01/sneg-82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9"/>
          <p:cNvSpPr/>
          <p:nvPr/>
        </p:nvSpPr>
        <p:spPr>
          <a:xfrm>
            <a:off x="468360" y="189000"/>
            <a:ext cx="82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24000" y="40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95280" y="281160"/>
            <a:ext cx="842472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1. Зим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29.fastpic.ru/big/2011/1221/3e/64411ebb39f1f5e81be5b0c19ca0ac3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2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им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2.bp.blogspot.com/-8ZuNW5xMztM/UolF8L3Lm9I/AAAAAAAAAgA/_RTPUE2lo-0/s1600/peisaj+iarna+imagini+animat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3. Ёж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-fotki.yandex.ru/get/9309/981986.68/0_8b90c_1aa6d7f4_o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.allday2.com/e8/e7/2c/1361993599__1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к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.nn.ru/galleryview/0/data/ufiles/1/36/77/3367781.Zaycenok_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5. Заяц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oman-party.ru/wp-content/uploads/2010/11/vybiraem-oboi-%E2%80%A6teme-novyj-god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6. Медвед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otvet.imgsmail.ru/download/56358a3a69f10ff40fdf5f67b514c6e7_i-13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7. Лис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zooclub.ru/attach/wild/15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8. Медвед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g01.chitalnya.ru/upload2/215/1346935350447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ж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stihi.ru/pics/2009/12/20/311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яц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zaikinmir.ru/foto-zajac/zajac-beljak.04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oto-tula.ru/files/p00019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с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hq-wallpapers.ru/wallpapers/7/hq-wallpapers_ru_animals_32209_1920x12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19. Волк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ic.pics.livejournal.com/cheshzhanna/30297292/98727/origina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0. Сле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booksite.ru/fulltext/secr/etof/vol/ogda/drawing/9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1. Белк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.allday2.com/e8/e7/2c/1361993599__1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яц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netstar.moy.su/_pu/0/7621451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с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uleshego.ru/pic/1295629610_1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с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fermerproduct.ru/image/cache/data/los2-500x5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вед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s://img-fotki.yandex.ru/get/4423/2839712.7/0_13bc0d_8852e530_o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минутка «Ёлочка»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s://www.youtube.com/watch?v=28_mqsELTI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2. Ворон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0.proshkolu.ru/content/media/pic/std/4000000/3931000/3930297-1c83307353699bc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3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ирь http://blagodatnoe.nsk.ru/blagofauna/bullfinch-01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324. Воробе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.900igr.net:10/datai/stikhi/Gde-obedal-vorobej.files/0003-003-Gde-obedal-VOROBEJ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5. Сорок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spb.org.uk/community/cfs-file.ashx/__key/communityserver-blogs-components-weblogfiles/00-00-03-96-75/4572.magpi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ирь http://www.rspb.org.uk/community/cfs-file.ashx/__key/communityserver-blogs-components-weblogfiles/00-00-06-29-53/0537.male-bullfinch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робей http://v.900igr.net:10/datai/stikhi/Gde-obedal-vorobej.files/0003-003-Gde-obedal-VOROBEJ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ятел http://www.vesberdsk.ru/upload/companies/126967/news/331/2942-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ница http://fs00.infourok.ru/images/doc/312/312092/1/img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6. Коньки http://www.classifieds24.ru/images/2921/2920631/large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7. Снеговик http://tamgdeya.ru/photos/norm/1/1_HW77dkRR7v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8. Санки http://ravden.3dn.ru/Raskraski/Raznoe/300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29. Зимние забав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reativenn.blogspot.com/2012/02/blog-post_88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9" name="Text Box 14"/>
          <p:cNvSpPr/>
          <p:nvPr/>
        </p:nvSpPr>
        <p:spPr>
          <a:xfrm>
            <a:off x="6407280" y="0"/>
            <a:ext cx="2736720" cy="9471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им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 rot="16200000">
            <a:off x="1342080" y="1617840"/>
            <a:ext cx="122076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"/>
          <p:cNvPicPr/>
          <p:nvPr/>
        </p:nvPicPr>
        <p:blipFill>
          <a:blip r:embed="rId3"/>
          <a:stretch/>
        </p:blipFill>
        <p:spPr>
          <a:xfrm>
            <a:off x="2050920" y="981000"/>
            <a:ext cx="105588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Oval 28"/>
          <p:cNvSpPr/>
          <p:nvPr/>
        </p:nvSpPr>
        <p:spPr>
          <a:xfrm>
            <a:off x="4500720" y="0"/>
            <a:ext cx="1223640" cy="836640"/>
          </a:xfrm>
          <a:prstGeom prst="ellipse">
            <a:avLst/>
          </a:prstGeom>
          <a:solidFill>
            <a:srgbClr val="e2fb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>
            <a:hlinkClick r:id="rId4" action="ppaction://hlinksldjump"/>
          </p:cNvPr>
          <p:cNvSpPr/>
          <p:nvPr/>
        </p:nvSpPr>
        <p:spPr>
          <a:xfrm>
            <a:off x="179280" y="2492280"/>
            <a:ext cx="898560" cy="827280"/>
          </a:xfrm>
          <a:custGeom>
            <a:avLst/>
            <a:gdLst>
              <a:gd name="textAreaLeft" fmla="*/ 53640 w 898560"/>
              <a:gd name="textAreaRight" fmla="*/ 844920 w 89856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3460" h="21600">
                <a:moveTo>
                  <a:pt x="0" y="0"/>
                </a:moveTo>
                <a:lnTo>
                  <a:pt x="23460" y="0"/>
                </a:lnTo>
                <a:lnTo>
                  <a:pt x="23460" y="21600"/>
                </a:lnTo>
                <a:lnTo>
                  <a:pt x="0" y="21600"/>
                </a:lnTo>
                <a:close/>
              </a:path>
              <a:path fill="lightenLess" w="23460" h="21600">
                <a:moveTo>
                  <a:pt x="0" y="0"/>
                </a:moveTo>
                <a:lnTo>
                  <a:pt x="23460" y="0"/>
                </a:lnTo>
                <a:lnTo>
                  <a:pt x="22060" y="1400"/>
                </a:lnTo>
                <a:lnTo>
                  <a:pt x="1400" y="1400"/>
                </a:lnTo>
                <a:close/>
              </a:path>
              <a:path fill="darken" w="23460" h="21600">
                <a:moveTo>
                  <a:pt x="23460" y="0"/>
                </a:moveTo>
                <a:lnTo>
                  <a:pt x="23460" y="21600"/>
                </a:lnTo>
                <a:lnTo>
                  <a:pt x="22060" y="20200"/>
                </a:lnTo>
                <a:lnTo>
                  <a:pt x="22060" y="1400"/>
                </a:lnTo>
                <a:close/>
              </a:path>
              <a:path fill="darkenLess" w="23460" h="21600">
                <a:moveTo>
                  <a:pt x="23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0" y="20200"/>
                </a:lnTo>
                <a:close/>
              </a:path>
              <a:path fill="lighten" w="23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им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>
            <a:hlinkClick r:id="rId5" action="ppaction://hlinksldjump"/>
          </p:cNvPr>
          <p:cNvSpPr/>
          <p:nvPr/>
        </p:nvSpPr>
        <p:spPr>
          <a:xfrm>
            <a:off x="6948360" y="5877000"/>
            <a:ext cx="754200" cy="83664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36640"/>
              <a:gd name="textAreaBottom" fmla="*/ 788040 h 836640"/>
            </a:gdLst>
            <a:ahLst/>
            <a:rect l="textAreaLeft" t="textAreaTop" r="textAreaRight" b="textAreaBottom"/>
            <a:pathLst>
              <a:path w="21600" h="23960">
                <a:moveTo>
                  <a:pt x="0" y="0"/>
                </a:moveTo>
                <a:lnTo>
                  <a:pt x="21600" y="0"/>
                </a:lnTo>
                <a:lnTo>
                  <a:pt x="21600" y="23960"/>
                </a:lnTo>
                <a:lnTo>
                  <a:pt x="0" y="23960"/>
                </a:lnTo>
                <a:close/>
              </a:path>
              <a:path fill="lightenLess" w="21600" h="23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0">
                <a:moveTo>
                  <a:pt x="21600" y="0"/>
                </a:moveTo>
                <a:lnTo>
                  <a:pt x="21600" y="23960"/>
                </a:lnTo>
                <a:lnTo>
                  <a:pt x="20200" y="22560"/>
                </a:lnTo>
                <a:lnTo>
                  <a:pt x="20200" y="1400"/>
                </a:lnTo>
                <a:close/>
              </a:path>
              <a:path fill="darkenLess" w="21600" h="23960">
                <a:moveTo>
                  <a:pt x="21600" y="23960"/>
                </a:moveTo>
                <a:lnTo>
                  <a:pt x="0" y="23960"/>
                </a:lnTo>
                <a:lnTo>
                  <a:pt x="1400" y="22560"/>
                </a:lnTo>
                <a:lnTo>
                  <a:pt x="20200" y="22560"/>
                </a:lnTo>
                <a:close/>
              </a:path>
              <a:path fill="lighten" w="21600" h="23960">
                <a:moveTo>
                  <a:pt x="0" y="23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 rot="20991600">
            <a:off x="4716360" y="4724280"/>
            <a:ext cx="898560" cy="825480"/>
          </a:xfrm>
          <a:custGeom>
            <a:avLst/>
            <a:gdLst>
              <a:gd name="textAreaLeft" fmla="*/ 53280 w 898560"/>
              <a:gd name="textAreaRight" fmla="*/ 845280 w 89856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23511" h="21600">
                <a:moveTo>
                  <a:pt x="0" y="0"/>
                </a:moveTo>
                <a:lnTo>
                  <a:pt x="23511" y="0"/>
                </a:lnTo>
                <a:lnTo>
                  <a:pt x="23511" y="21600"/>
                </a:lnTo>
                <a:lnTo>
                  <a:pt x="0" y="21600"/>
                </a:lnTo>
                <a:close/>
              </a:path>
              <a:path fill="lightenLess" w="23511" h="21600">
                <a:moveTo>
                  <a:pt x="0" y="0"/>
                </a:moveTo>
                <a:lnTo>
                  <a:pt x="23511" y="0"/>
                </a:lnTo>
                <a:lnTo>
                  <a:pt x="22111" y="1400"/>
                </a:lnTo>
                <a:lnTo>
                  <a:pt x="1400" y="1400"/>
                </a:lnTo>
                <a:close/>
              </a:path>
              <a:path fill="darken" w="23511" h="21600">
                <a:moveTo>
                  <a:pt x="23511" y="0"/>
                </a:moveTo>
                <a:lnTo>
                  <a:pt x="23511" y="21600"/>
                </a:lnTo>
                <a:lnTo>
                  <a:pt x="22111" y="20200"/>
                </a:lnTo>
                <a:lnTo>
                  <a:pt x="22111" y="1400"/>
                </a:lnTo>
                <a:close/>
              </a:path>
              <a:path fill="darkenLess" w="23511" h="21600">
                <a:moveTo>
                  <a:pt x="23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1" y="20200"/>
                </a:lnTo>
                <a:close/>
              </a:path>
              <a:path fill="lighten" w="23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>
            <a:hlinkClick r:id="rId6" action="ppaction://hlinksldjump"/>
          </p:cNvPr>
          <p:cNvSpPr/>
          <p:nvPr/>
        </p:nvSpPr>
        <p:spPr>
          <a:xfrm>
            <a:off x="6084720" y="206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г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2411280" y="260280"/>
            <a:ext cx="44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Отгадайте загадку</a:t>
            </a:r>
            <a:endParaRPr b="1" lang="en-US" sz="40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095920" y="1080000"/>
            <a:ext cx="5000040" cy="204372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 на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д на р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ьюга гуля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это быв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824080" y="3357720"/>
            <a:ext cx="148536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2404800" cy="40053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9">
            <a:hlinkClick r:id="rId3" action="ppaction://hlinksldjump"/>
          </p:cNvPr>
          <p:cNvSpPr/>
          <p:nvPr/>
        </p:nvSpPr>
        <p:spPr>
          <a:xfrm>
            <a:off x="8388360" y="6318360"/>
            <a:ext cx="755640" cy="539640"/>
          </a:xfrm>
          <a:custGeom>
            <a:avLst/>
            <a:gdLst>
              <a:gd name="textAreaLeft" fmla="*/ 34920 w 755640"/>
              <a:gd name="textAreaRight" fmla="*/ 720720 w 755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15120" y="3837"/>
                </a:moveTo>
                <a:lnTo>
                  <a:pt x="17696" y="6448"/>
                </a:ln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lnTo>
                  <a:pt x="22083" y="10800"/>
                </a:lnTo>
                <a:lnTo>
                  <a:pt x="20429" y="10800"/>
                </a:lnTo>
                <a:lnTo>
                  <a:pt x="20429" y="17989"/>
                </a:lnTo>
                <a:lnTo>
                  <a:pt x="9811" y="17989"/>
                </a:lnTo>
                <a:lnTo>
                  <a:pt x="9811" y="10800"/>
                </a:lnTo>
                <a:lnTo>
                  <a:pt x="8157" y="10800"/>
                </a:lnTo>
                <a:close/>
              </a:path>
              <a:path fill="darkenLess" w="30240" h="21600">
                <a:moveTo>
                  <a:pt x="17696" y="6448"/>
                </a:move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close/>
              </a:path>
              <a:path fill="darkenLess" w="30240" h="21600">
                <a:moveTo>
                  <a:pt x="14197" y="14299"/>
                </a:moveTo>
                <a:lnTo>
                  <a:pt x="16043" y="14299"/>
                </a:lnTo>
                <a:lnTo>
                  <a:pt x="16043" y="17989"/>
                </a:lnTo>
                <a:lnTo>
                  <a:pt x="20429" y="17989"/>
                </a:lnTo>
                <a:lnTo>
                  <a:pt x="20429" y="10800"/>
                </a:lnTo>
                <a:lnTo>
                  <a:pt x="9811" y="10800"/>
                </a:lnTo>
                <a:lnTo>
                  <a:pt x="9811" y="17989"/>
                </a:lnTo>
                <a:lnTo>
                  <a:pt x="14197" y="17989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3132000" y="4149720"/>
            <a:ext cx="540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ое сейчас время года?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456080" y="5084640"/>
            <a:ext cx="121248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042920" y="404640"/>
            <a:ext cx="727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картинку о зиме.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1966680" cy="2781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1881360" cy="27100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3" name="Picture 11" descr=""/>
          <p:cNvPicPr/>
          <p:nvPr/>
        </p:nvPicPr>
        <p:blipFill>
          <a:blip r:embed="rId4"/>
          <a:stretch/>
        </p:blipFill>
        <p:spPr>
          <a:xfrm>
            <a:off x="6948360" y="2133720"/>
            <a:ext cx="1986120" cy="2808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2556000" y="2349360"/>
            <a:ext cx="1946160" cy="2829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2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6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02580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3097080" cy="1938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691560" y="1773360"/>
            <a:ext cx="163476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а́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859560" y="2492280"/>
            <a:ext cx="14533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ва́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596280" y="3141720"/>
            <a:ext cx="17658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вра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5"/>
          <p:cNvSpPr txBox="1"/>
          <p:nvPr/>
        </p:nvSpPr>
        <p:spPr>
          <a:xfrm>
            <a:off x="684360" y="620640"/>
            <a:ext cx="7777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зови зимние месяцы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94" name="Picture 22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879640" cy="2048040"/>
          </a:xfrm>
          <a:prstGeom prst="rect">
            <a:avLst/>
          </a:prstGeom>
          <a:ln w="9360">
            <a:solidFill>
              <a:srgbClr val="1d12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785880" y="1312200"/>
            <a:ext cx="7316640" cy="5455800"/>
          </a:xfrm>
          <a:prstGeom prst="rect">
            <a:avLst/>
          </a:prstGeom>
          <a:solidFill>
            <a:srgbClr val="e2fbf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оро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г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4"/>
          <p:cNvSpPr txBox="1"/>
          <p:nvPr/>
        </p:nvSpPr>
        <p:spPr>
          <a:xfrm>
            <a:off x="755640" y="260280"/>
            <a:ext cx="77770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признаки зимы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V="1">
            <a:off x="3714840" y="3571560"/>
            <a:ext cx="71280" cy="21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7"/>
          <p:cNvSpPr/>
          <p:nvPr/>
        </p:nvSpPr>
        <p:spPr>
          <a:xfrm>
            <a:off x="4929120" y="3857760"/>
            <a:ext cx="142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1503360"/>
            <a:ext cx="7920000" cy="1800360"/>
          </a:xfrm>
          <a:prstGeom prst="rect">
            <a:avLst/>
          </a:prstGeom>
          <a:solidFill>
            <a:srgbClr val="e2fbfe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́дает мя́гкий пуши́ст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 лежи́т на земле́, на кры́шах домо́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дере́в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́лице хо́лодно, моро́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757520" cy="29257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rId3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619280" y="404640"/>
            <a:ext cx="540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Расскажите о погоде зимой.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09" name="Picture 11" descr="Картинки по запросу занятие с детьми школьного возраста на тему зима"/>
          <p:cNvPicPr/>
          <p:nvPr/>
        </p:nvPicPr>
        <p:blipFill>
          <a:blip r:embed="rId4"/>
          <a:stretch/>
        </p:blipFill>
        <p:spPr>
          <a:xfrm>
            <a:off x="2357280" y="350028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3:17:42Z</dcterms:created>
  <dc:creator>Кузнецова </dc:creator>
  <dc:description/>
  <dc:language>en-US</dc:language>
  <cp:lastModifiedBy>12</cp:lastModifiedBy>
  <dcterms:modified xsi:type="dcterms:W3CDTF">2017-12-04T18:59:12Z</dcterms:modified>
  <cp:revision>56</cp:revision>
  <dc:subject>Путешествие со снеговичком</dc:subject>
  <dc:title>Внеклассное занятие</dc:title>
</cp:coreProperties>
</file>