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47E-8E1B-40CA-96A5-DE86FDB1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3D3-3C52-446D-8903-CD181795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8FA-6FBB-4FBD-8F28-A7D612C4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73F-802D-4A54-988C-A3EDE3BE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7B10-16B8-402C-BAFF-B9D176B4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5E67-C5AD-4A02-865B-78A76BDD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9BA1-7B48-4DE6-85A0-3955CFA5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D0FF-6084-4F7F-8B67-7FBE68C3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CE6C-A365-4414-926C-7372F56F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6841-1149-4BAE-8FB9-8741BC03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872-55C0-4E6B-A2B7-45ACE08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81D-C507-45E1-A229-CE1B3702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899B-977F-4526-8F8C-3292787F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18AA-7C4D-4FBE-ACE2-BFD74CD2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7812-9E39-4FE3-A242-9635B61F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CB6A-57EC-43F1-A2AB-8C5F1481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76C1-FF1E-4C25-AECB-0FA438D1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273-CA9C-4766-8656-F362330F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942-5331-402A-9C64-46BFF0FB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EDD-860E-4B36-B833-98308999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FDB-DDDC-4107-983E-B0FE2DE6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76A-2FD8-4C0F-BA39-F6746C77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644-D644-4FD0-AFC6-4609B92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73C-4B26-407E-ADD4-B0118498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398A-1F24-4EB4-A057-7EE6986DB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D5F8-1AFB-4BD7-8A2D-3FEEAFBF80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74;&#1086;&#1095;&#1082;&#1072;" TargetMode="External"/><Relationship Id="rId2" Type="http://schemas.openxmlformats.org/officeDocument/2006/relationships/hyperlink" Target="http://ru.wikipedia.org/wiki/&#1055;&#1100;&#1077;&#1088;_&#1041;&#1077;&#1079;&#1091;&#1093;&#1086;&#1074;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311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ойна и мир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428840" y="2357280"/>
            <a:ext cx="5967360" cy="410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начение романа «Война и мир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итики во всем мире признали «Войну и мир»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чайшим эпическим произведени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оразительным даже с технической точки зрения своим масштабом. С необыкновенной точностью в романе описаны сотни лиц всех сословий: от императоров, королей, представителей знати, солда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стой дает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робное описание всех возрастов и темпераментов своей эпох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итается, что в романе автору удалось уловить и описа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сихологические особенности русского наро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как высокие, так и низк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анализе текста, можно найт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 примеров возрастных парадок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импатичные автору персонажи часто взрослеют (стареют) медленнее, а малосимпатичные герои — быстрее. Множество нейтральных персонажей становятся старше в соответствии с прожитыми год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838080" y="692280"/>
            <a:ext cx="8007480" cy="54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5050"/>
                </a:solidFill>
                <a:latin typeface="Arial Black"/>
              </a:rPr>
              <a:t>История созд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. Н. Толстой работал над романом «Война и мир» с 1863 по 1869 год. Создание масштабного историко-художественного полотна потребовало от писателя огромных усилий. Так, в 1869 году в черновиках «Эпилога» Лев Николаевич вспоминал то «мучительное и радостное упорство и волнение», испытанное им в процессе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том, как создавалось одно из крупнейших мировых творений, свидетельствуют рукописи «Войны и мира»: в архиве писателя сохранилось свыше 5200 мелко исписанных листов. По ним можно проследить всю историю создания ром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Arial Black"/>
              </a:rPr>
              <a:t>Главные действующие           лиц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ьер Безух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ндрей Болко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таша Рост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иколай Ильич Рост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натоль Кураг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асилий Кураг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 Black"/>
              </a:rPr>
              <a:t>Пьер Безух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57610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ьер Безухов был внебрачным сыном одного из богатейших людей в России. В обществе его воспринимали как чудака, все смеялись над его убеждениями, стремлениями и высказываниями. Никто не считался с его мнением и не воспринимал его всерьез. Но когда Пьер получил огромное наследство, то перед ним начали все заискивать, он стал желанным женихом для многих светских кокеток…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96000" y="1197000"/>
            <a:ext cx="334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i="1" lang="ru-RU" sz="4400" spc="-1" strike="noStrike">
                <a:solidFill>
                  <a:srgbClr val="ff5050"/>
                </a:solidFill>
                <a:latin typeface="Arial Black"/>
              </a:rPr>
              <a:t>Андрей Болко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5472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дрея Болконского тяготит обыденность, лицемерие и ложь, царящие в светском обществе. Эти низкие, ничего не значащие цели, которые оно преследу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деалом Болконского является Наполеон, Андрей желает подобно ему, спасая других достичь славы и признания. Это его желание и есть тайная причина, по которой он отправляется на войну 1805-1807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508720" y="1052640"/>
            <a:ext cx="3419280" cy="5325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Наташа Рост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5113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чале романа Наташа предстаёт 13-летней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девочк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на влюблена в Бориса Друбецкого, который живёт со своей матерью поблизости от Ростовых. Чуть позднее близким другом Наташи становится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Пьер Безух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иногда приезжает к Ростовым. Когда Борис поступает на службу к Кутузову, Наташа охладевает к нему. Вскоре Пьер знакомит Наташу с князем Андреем Болконским, в которого Наташа влюб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5867280" y="1916280"/>
            <a:ext cx="2600280" cy="410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Николай Ильич Рост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 Николай Ильич Ростов — один из главных героев романа. Л.Н. Толстому казалось важным подробно осветить его жизнь, так же как и судьбы князя Андрея и Пьера. Каждый из этих трёх персонажей по-своему дорог автору. Если Болконский и Безухов проходят путь исканий, то Ростов изначально внутренне самосогласованный челов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Анатоль Кураг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518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толь Курагин, по мнению Толстого, "простой и с плотскими наклонностями". Это главенствующие черты характера Анатоля. Он на всю свою жизнь смотрел, как на непрерывное увеселение, которое кто-то такой почему-то обязался устроить для н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708360" cy="462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 Black"/>
              </a:rPr>
              <a:t>Василий Курагин</a:t>
            </a:r>
            <a:br>
              <a:rPr sz="36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1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агин Василий — князь, отец Элен, Анатоля и Ипполита; известный и влиятельный в петербургском свете человек, занимающий важные придворные пос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07:50:11Z</dcterms:created>
  <dc:creator>Студент</dc:creator>
  <dc:description/>
  <dc:language>en-US</dc:language>
  <cp:lastModifiedBy>Шеховцева и Деева</cp:lastModifiedBy>
  <dcterms:modified xsi:type="dcterms:W3CDTF">2017-12-01T11:18:10Z</dcterms:modified>
  <cp:revision>5</cp:revision>
  <dc:subject/>
  <dc:title>           Война и мир </dc:title>
</cp:coreProperties>
</file>