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56F-9CF5-4C94-A821-9A39EADB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0E6-C70D-4E72-8A9B-3A00196D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AFB-963E-472B-939A-64D22938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294-2C95-421A-A526-565A40E4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723-5262-4618-AA43-2E1C65C5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FF9-E2AB-49C9-BB03-2A37A1DB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BEE-D4FB-4CCC-AF9F-E155C80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1B2-D638-4D72-9A50-313DB8FF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788-C905-4057-97AE-2B9AFFA8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809-4EFE-402B-99F9-0F37DCEE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3F6-9639-47EC-A3B0-790D430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AD2-654D-4245-A1C1-7EF03553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6657-5ED9-4BA1-84B2-719F211AB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салют.jpeg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бы помнили!</a:t>
            </a:r>
            <a:br>
              <a:rPr sz="65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вящено 70-летию Победы в Великой Отечественной войн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562752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желые танки полями прош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Зинино детство, как травку, сме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нино детство, ты кажешься сном 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 партизанка в отряде лесн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8" descr="Изображение 003"/>
          <p:cNvPicPr/>
          <p:nvPr/>
        </p:nvPicPr>
        <p:blipFill>
          <a:blip r:embed="rId1"/>
          <a:srcRect l="3496" t="1362" r="4037" b="5834"/>
          <a:stretch/>
        </p:blipFill>
        <p:spPr>
          <a:xfrm>
            <a:off x="6156360" y="189000"/>
            <a:ext cx="2771640" cy="3556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Прямоугольник 5" descr=""/>
          <p:cNvPicPr/>
          <p:nvPr/>
        </p:nvPicPr>
        <p:blipFill>
          <a:blip r:embed="rId2"/>
          <a:stretch/>
        </p:blipFill>
        <p:spPr>
          <a:xfrm>
            <a:off x="463680" y="3151080"/>
            <a:ext cx="50720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457200" y="228600"/>
            <a:ext cx="838188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ленинцем юным недаром назва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лавы народной досто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лют пионеру, что храбро сража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ал за Отчизну, как во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209680" y="228600"/>
            <a:ext cx="4724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арат Каз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74" name="Picture 8" descr="Изображение"/>
          <p:cNvPicPr/>
          <p:nvPr/>
        </p:nvPicPr>
        <p:blipFill>
          <a:blip r:embed="rId1"/>
          <a:srcRect l="6372" t="3647" r="1162" b="5190"/>
          <a:stretch/>
        </p:blipFill>
        <p:spPr>
          <a:xfrm>
            <a:off x="5651640" y="1413000"/>
            <a:ext cx="2895480" cy="374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15833 0.37778 E">
                                      <p:cBhvr>
                                        <p:cTn id="12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57200" y="228600"/>
            <a:ext cx="8381880" cy="40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Мальчиш – Кибальчиш, он на битву у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 Советскую землю СП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злетели мосты, средь ночной темн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шелоны сходили с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79280" y="2565360"/>
            <a:ext cx="534852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Лёня Голи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419720" y="1713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Изображение 001"/>
          <p:cNvPicPr/>
          <p:nvPr/>
        </p:nvPicPr>
        <p:blipFill>
          <a:blip r:embed="rId1"/>
          <a:srcRect l="1721" t="0" r="2005" b="6908"/>
          <a:stretch/>
        </p:blipFill>
        <p:spPr>
          <a:xfrm>
            <a:off x="5796000" y="2205000"/>
            <a:ext cx="3179880" cy="40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15833 0.37778 E">
                                      <p:cBhvr>
                                        <p:cTn id="15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8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Людские потери в СССР во Второй Мировой войн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0" y="450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- Общие потери – 27 млн.ч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- Пропавшие без ве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опавшие в плен – 5,1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анения и ожоги – 15,2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Инвалидами стали – 2,6 млн.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От бомбежек, репрессий и голода погибло – 13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Угнано в Германию – 5,3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зрушения, нанесенные в ходе Великой Отечественной войны на территории ССС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760" y="257184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азрушено – 1710 городов и посел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олее 25 млн. чел. лишились кр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ышли из строя – 32 тысячи крупных и средних промышленных предприят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азрушено - 48 тысяч километров железных дорог, 1810 мос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азграблено – 1610 церкв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5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125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Общий ущерб, нанесенный экономике СССР, </a:t>
            </a:r>
            <a:br>
              <a:rPr sz="5400"/>
            </a:b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в 20 раз превышал национальный доход страны за 1940 год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Documents and Settings\Admin\Мои документы\Документы\Конкурсы\Документы к конкурсу Самый классный классный\Демидова СБ\к жди меня\1246588090_zdimenia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Война – жестче нету слова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Война – печальней нету слова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В тоске и славе этих  лет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И на устах  у нас иного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Еще не может быть и нет…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А. Твард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inion Pro Cond"/>
              </a:rPr>
              <a:t>22 июня 1941 года – 9 мая 1945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ocuments and Settings\Admin\Мои документы\Документы\Конкурсы\Документы к конкурсу Самый классный классный\Демидова СБ\к дорогам\дороги 1.jpg"/>
          <p:cNvPicPr/>
          <p:nvPr/>
        </p:nvPicPr>
        <p:blipFill>
          <a:blip r:embed="rId1"/>
          <a:stretch/>
        </p:blipFill>
        <p:spPr>
          <a:xfrm>
            <a:off x="214200" y="1428840"/>
            <a:ext cx="5214960" cy="422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Admin\Мои документы\Документы\Конкурсы\Документы к конкурсу Самый классный классный\Демидова СБ\к дорогам\дороги3.jpg"/>
          <p:cNvPicPr/>
          <p:nvPr/>
        </p:nvPicPr>
        <p:blipFill>
          <a:blip r:embed="rId2"/>
          <a:stretch/>
        </p:blipFill>
        <p:spPr>
          <a:xfrm>
            <a:off x="2714760" y="2714760"/>
            <a:ext cx="6191280" cy="3886200"/>
          </a:xfrm>
          <a:prstGeom prst="rect">
            <a:avLst/>
          </a:prstGeom>
          <a:ln w="0">
            <a:noFill/>
          </a:ln>
        </p:spPr>
      </p:pic>
      <p:pic>
        <p:nvPicPr>
          <p:cNvPr id="48" name="священная война.mp3" descr=""/>
          <p:cNvPicPr/>
          <p:nvPr/>
        </p:nvPicPr>
        <p:blipFill>
          <a:blip r:embed="rId3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s://upload.wikimedia.org/wikipedia/commons/thumb/f/f3/T-60_Kubinka_2.jpg/300px-T-60_Kubinka_2.jpg"/>
          <p:cNvPicPr/>
          <p:nvPr/>
        </p:nvPicPr>
        <p:blipFill>
          <a:blip r:embed="rId4"/>
          <a:stretch/>
        </p:blipFill>
        <p:spPr>
          <a:xfrm>
            <a:off x="155520" y="-102888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https://upload.wikimedia.org/wikipedia/commons/thumb/f/f3/T-60_Kubinka_2.jpg/300px-T-60_Kubinka_2.jpg"/>
          <p:cNvPicPr/>
          <p:nvPr/>
        </p:nvPicPr>
        <p:blipFill>
          <a:blip r:embed="rId5"/>
          <a:stretch/>
        </p:blipFill>
        <p:spPr>
          <a:xfrm>
            <a:off x="155520" y="-1028880"/>
            <a:ext cx="2857680" cy="214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да Занег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Ada_zanegina.jpg"/>
          <p:cNvPicPr/>
          <p:nvPr/>
        </p:nvPicPr>
        <p:blipFill>
          <a:blip r:embed="rId1"/>
          <a:stretch/>
        </p:blipFill>
        <p:spPr>
          <a:xfrm>
            <a:off x="2944800" y="1665360"/>
            <a:ext cx="32828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нк Т-60 «Малют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5" descr="300px-T-60_Kubinka_2.jpg"/>
          <p:cNvPicPr/>
          <p:nvPr/>
        </p:nvPicPr>
        <p:blipFill>
          <a:blip r:embed="rId1"/>
          <a:stretch/>
        </p:blipFill>
        <p:spPr>
          <a:xfrm>
            <a:off x="1403280" y="1541520"/>
            <a:ext cx="62643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План Барбаросса предусматривал захватить Ленинград.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8 сентября 1941 года город сомкнулся в кольцо блокады.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В блокаде оказалось 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2 млн. 887 человек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блокада1"/>
          <p:cNvPicPr/>
          <p:nvPr/>
        </p:nvPicPr>
        <p:blipFill>
          <a:blip r:embed="rId1"/>
          <a:stretch/>
        </p:blipFill>
        <p:spPr>
          <a:xfrm>
            <a:off x="0" y="981000"/>
            <a:ext cx="4419720" cy="3152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блокада4"/>
          <p:cNvPicPr/>
          <p:nvPr/>
        </p:nvPicPr>
        <p:blipFill>
          <a:blip r:embed="rId2"/>
          <a:stretch/>
        </p:blipFill>
        <p:spPr>
          <a:xfrm>
            <a:off x="3995640" y="351000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блокада5"/>
          <p:cNvPicPr/>
          <p:nvPr/>
        </p:nvPicPr>
        <p:blipFill>
          <a:blip r:embed="rId3"/>
          <a:stretch/>
        </p:blipFill>
        <p:spPr>
          <a:xfrm>
            <a:off x="0" y="3881520"/>
            <a:ext cx="4032360" cy="2976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блокада6"/>
          <p:cNvPicPr/>
          <p:nvPr/>
        </p:nvPicPr>
        <p:blipFill>
          <a:blip r:embed="rId4"/>
          <a:stretch/>
        </p:blipFill>
        <p:spPr>
          <a:xfrm>
            <a:off x="4427640" y="981000"/>
            <a:ext cx="3887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\Мои документы\Мои рисунки\Война\00009654.jpg"/>
          <p:cNvPicPr/>
          <p:nvPr/>
        </p:nvPicPr>
        <p:blipFill>
          <a:blip r:embed="rId1"/>
          <a:stretch/>
        </p:blipFill>
        <p:spPr>
          <a:xfrm>
            <a:off x="0" y="0"/>
            <a:ext cx="5786280" cy="462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Admin\Мои документы\Документы\Конкурсы\Документы к конкурсу Самый классный классный\Демидова СБ\к дорогам\дороги6.jpg"/>
          <p:cNvPicPr/>
          <p:nvPr/>
        </p:nvPicPr>
        <p:blipFill>
          <a:blip r:embed="rId2"/>
          <a:stretch/>
        </p:blipFill>
        <p:spPr>
          <a:xfrm>
            <a:off x="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Admin\Мои документы\Документы\Конкурсы\Документы к конкурсу Самый классный классный\Демидова СБ\к дорогам\дороги2.jpg"/>
          <p:cNvPicPr/>
          <p:nvPr/>
        </p:nvPicPr>
        <p:blipFill>
          <a:blip r:embed="rId3"/>
          <a:stretch/>
        </p:blipFill>
        <p:spPr>
          <a:xfrm>
            <a:off x="3322800" y="0"/>
            <a:ext cx="58212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5" descr=""/>
          <p:cNvPicPr/>
          <p:nvPr/>
        </p:nvPicPr>
        <p:blipFill>
          <a:blip r:embed="rId4"/>
          <a:stretch/>
        </p:blipFill>
        <p:spPr>
          <a:xfrm>
            <a:off x="347760" y="152280"/>
            <a:ext cx="8381880" cy="20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-6480" y="3267000"/>
            <a:ext cx="7175520" cy="139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Изображение 002"/>
          <p:cNvPicPr/>
          <p:nvPr/>
        </p:nvPicPr>
        <p:blipFill>
          <a:blip r:embed="rId2"/>
          <a:srcRect l="3351" t="2554" r="2828" b="5456"/>
          <a:stretch/>
        </p:blipFill>
        <p:spPr>
          <a:xfrm>
            <a:off x="5840280" y="115920"/>
            <a:ext cx="3303720" cy="424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Прямоугольник 4"/>
          <p:cNvSpPr/>
          <p:nvPr/>
        </p:nvSpPr>
        <p:spPr>
          <a:xfrm>
            <a:off x="179280" y="549360"/>
            <a:ext cx="5545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вспоминаем о боях недав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их совершён был подвиг не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шёл в семью героев наших сла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ажный мальчи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2:49:34Z</dcterms:created>
  <dc:creator>Кабинет 35</dc:creator>
  <dc:description/>
  <dc:language>en-US</dc:language>
  <cp:lastModifiedBy>home</cp:lastModifiedBy>
  <dcterms:modified xsi:type="dcterms:W3CDTF">2017-12-21T18:46:55Z</dcterms:modified>
  <cp:revision>50</cp:revision>
  <dc:subject/>
  <dc:title>Чтобы помнили!  Посвящено 65-летию Победы в Великой Отечественной войне</dc:title>
</cp:coreProperties>
</file>