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8D6E-2C5A-4B0C-BD3D-9B6388DA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078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B050-F7AE-45F2-B6AD-054B1FF6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064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1B11-9DA5-4D95-8614-F3F269E5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48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48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776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D364-F316-4F7C-B488-F1A5010F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18CD-0C64-455A-AEE1-FC28171E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5DF5-DB64-4B00-AEB5-ED65661A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DC49-FDC2-426D-99C0-F38DB318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B118-6F78-4591-B310-915F9676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3639-AEAD-4E69-A791-76E578BA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C8E6-82EA-4A31-AF9C-F1B4F9CC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1DA6-BB62-4393-91A7-C621FD37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FDA3-4BD2-4110-99C3-28810DC4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064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A6AC-15B5-4297-91C2-9E4C23B9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D1DB-950D-40D0-9146-8972FF70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078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3B3E-EB97-49A3-92C0-7FC5A38A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064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20A2-778B-496D-A746-D97D5E4A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48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48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335B-F385-4592-A9C0-CC42F127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EEB79-9B15-43D2-8351-DDE29EEF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DC7C8-A23C-4745-929D-6C8B4A39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49884-1CB0-477F-A609-8CA507EE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7B458-4E1A-4817-B334-7BB021DE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DEB47-C5F9-498A-930E-278934A5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D80B-2714-4B93-ACB7-9F10AC7E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E95EF-C390-485F-A9BF-A3AF4807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27522-FE65-447F-BA0A-088E670B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064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40CB1-4F15-4454-B767-2A09041B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DA928-6108-4471-9824-E54DFE09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078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9E603-24F3-4422-BC43-1DEB6ECE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064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3F4C2-1217-44CC-BF24-F0D93F11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748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748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1776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85B57-4AA6-4EC6-AF0A-80B56DE2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7065-30DF-4EF6-8F0D-9A11BB75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18D4-D575-4682-81BF-8D97EB5F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D378-CF83-4D6F-968C-1365C648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9516-FA07-4863-B006-ABAC8EDF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39BC-D742-477C-9EB7-28372D11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6458F-CE70-4588-9921-0DDCC3C4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FEBC3-A191-405D-95AB-0AD94077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5244-4E0E-445D-8506-0389FE21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064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0FF9-1E9F-4FF6-98F4-4ACCF0E5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73F57-F819-4A52-83B5-A6958C79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078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BD06-4EF7-42A4-BBBE-718CE2AB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064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B679-B869-4AAF-BA21-60C4E963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748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748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7760" y="4007880"/>
            <a:ext cx="264744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850FF-4916-4B9C-A1D9-1E2FA5C6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F7DE-B301-4D6B-86E5-49BAE7A5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6209-E325-4413-A9EA-97088FC8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4678-75C3-4EA5-A5F5-F01890E3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0640" y="40078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3E732-BC98-49AE-B8AE-75D736C8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640" y="1981080"/>
            <a:ext cx="401256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8223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1425-CA80-4AC3-B981-4CB7EC8D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B1DC-BC08-43E8-B497-D2AC5B5CC6A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7520" cy="539640"/>
            <a:chOff x="0" y="0"/>
            <a:chExt cx="9137520" cy="53964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79360" cy="527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920" y="135000"/>
              <a:ext cx="8724600" cy="268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680" y="135000"/>
              <a:ext cx="131760" cy="1350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560" y="0"/>
              <a:ext cx="133560" cy="13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560" y="135000"/>
              <a:ext cx="13356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680" y="274680"/>
              <a:ext cx="129960" cy="13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760" y="136440"/>
              <a:ext cx="135000" cy="13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680" y="271440"/>
              <a:ext cx="131760" cy="13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680" y="409680"/>
              <a:ext cx="129960" cy="129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37520" cy="6851520"/>
            <a:chOff x="0" y="0"/>
            <a:chExt cx="9137520" cy="685152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498840" cy="685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6120" y="1690560"/>
              <a:ext cx="7421400" cy="2527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680"/>
              <a:ext cx="2860560" cy="3151440"/>
              <a:chOff x="0" y="1066680"/>
              <a:chExt cx="2860560" cy="31514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3120" y="3583080"/>
                <a:ext cx="569880" cy="6350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6120" y="1690560"/>
                <a:ext cx="568440" cy="636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81320" y="1066680"/>
                <a:ext cx="579240" cy="628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1560" y="3583080"/>
                <a:ext cx="577800" cy="6350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81320" y="1690560"/>
                <a:ext cx="579240" cy="6368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1560" y="2324160"/>
                <a:ext cx="577800" cy="627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4160"/>
                <a:ext cx="576360" cy="6271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6120" y="2324160"/>
                <a:ext cx="568440" cy="6271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3120" y="2948040"/>
                <a:ext cx="569880" cy="6382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1560" y="2948040"/>
                <a:ext cx="577800" cy="6382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7332-3D9E-4390-B3B7-129FD10EB2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3440" cy="22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BF45-8E04-4C05-9191-7869EC76D87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0" y="0"/>
            <a:ext cx="9137520" cy="539640"/>
            <a:chOff x="0" y="0"/>
            <a:chExt cx="9137520" cy="539640"/>
          </a:xfrm>
        </p:grpSpPr>
        <p:sp>
          <p:nvSpPr>
            <p:cNvPr id="109" name="Rectangle 4"/>
            <p:cNvSpPr/>
            <p:nvPr/>
          </p:nvSpPr>
          <p:spPr>
            <a:xfrm>
              <a:off x="0" y="0"/>
              <a:ext cx="279360" cy="527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5"/>
            <p:cNvSpPr/>
            <p:nvPr/>
          </p:nvSpPr>
          <p:spPr>
            <a:xfrm>
              <a:off x="412920" y="135000"/>
              <a:ext cx="8724600" cy="268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409680" y="135000"/>
              <a:ext cx="131760" cy="1350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547560" y="0"/>
              <a:ext cx="133560" cy="13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547560" y="135000"/>
              <a:ext cx="13356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274680" y="274680"/>
              <a:ext cx="129960" cy="13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131760" y="136440"/>
              <a:ext cx="135000" cy="13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409680" y="271440"/>
              <a:ext cx="131760" cy="13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274680" y="409680"/>
              <a:ext cx="129960" cy="129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312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1"/>
          <p:cNvGrpSpPr/>
          <p:nvPr/>
        </p:nvGrpSpPr>
        <p:grpSpPr>
          <a:xfrm>
            <a:off x="0" y="0"/>
            <a:ext cx="9137520" cy="6851520"/>
            <a:chOff x="0" y="0"/>
            <a:chExt cx="9137520" cy="6851520"/>
          </a:xfrm>
        </p:grpSpPr>
        <p:sp>
          <p:nvSpPr>
            <p:cNvPr id="158" name="Rectangle 2"/>
            <p:cNvSpPr/>
            <p:nvPr/>
          </p:nvSpPr>
          <p:spPr>
            <a:xfrm>
              <a:off x="0" y="0"/>
              <a:ext cx="3498840" cy="685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"/>
            <p:cNvSpPr/>
            <p:nvPr/>
          </p:nvSpPr>
          <p:spPr>
            <a:xfrm>
              <a:off x="1716120" y="1690560"/>
              <a:ext cx="7421400" cy="2527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4"/>
            <p:cNvGrpSpPr/>
            <p:nvPr/>
          </p:nvGrpSpPr>
          <p:grpSpPr>
            <a:xfrm>
              <a:off x="0" y="1066680"/>
              <a:ext cx="2860560" cy="3151440"/>
              <a:chOff x="0" y="1066680"/>
              <a:chExt cx="2860560" cy="3151440"/>
            </a:xfrm>
          </p:grpSpPr>
          <p:sp>
            <p:nvSpPr>
              <p:cNvPr id="161" name="Rectangle 5"/>
              <p:cNvSpPr/>
              <p:nvPr/>
            </p:nvSpPr>
            <p:spPr>
              <a:xfrm>
                <a:off x="573120" y="3583080"/>
                <a:ext cx="569880" cy="6350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"/>
              <p:cNvSpPr/>
              <p:nvPr/>
            </p:nvSpPr>
            <p:spPr>
              <a:xfrm>
                <a:off x="1716120" y="1690560"/>
                <a:ext cx="568440" cy="636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7"/>
              <p:cNvSpPr/>
              <p:nvPr/>
            </p:nvSpPr>
            <p:spPr>
              <a:xfrm>
                <a:off x="2281320" y="1066680"/>
                <a:ext cx="579240" cy="628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"/>
              <p:cNvSpPr/>
              <p:nvPr/>
            </p:nvSpPr>
            <p:spPr>
              <a:xfrm>
                <a:off x="1141560" y="3583080"/>
                <a:ext cx="577800" cy="6350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9"/>
              <p:cNvSpPr/>
              <p:nvPr/>
            </p:nvSpPr>
            <p:spPr>
              <a:xfrm>
                <a:off x="2281320" y="1690560"/>
                <a:ext cx="579240" cy="6368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0"/>
              <p:cNvSpPr/>
              <p:nvPr/>
            </p:nvSpPr>
            <p:spPr>
              <a:xfrm>
                <a:off x="1141560" y="2324160"/>
                <a:ext cx="577800" cy="627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1"/>
              <p:cNvSpPr/>
              <p:nvPr/>
            </p:nvSpPr>
            <p:spPr>
              <a:xfrm>
                <a:off x="0" y="2324160"/>
                <a:ext cx="576360" cy="6271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2"/>
              <p:cNvSpPr/>
              <p:nvPr/>
            </p:nvSpPr>
            <p:spPr>
              <a:xfrm>
                <a:off x="1716120" y="2324160"/>
                <a:ext cx="568440" cy="6271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3"/>
              <p:cNvSpPr/>
              <p:nvPr/>
            </p:nvSpPr>
            <p:spPr>
              <a:xfrm>
                <a:off x="573120" y="2948040"/>
                <a:ext cx="569880" cy="6382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4"/>
              <p:cNvSpPr/>
              <p:nvPr/>
            </p:nvSpPr>
            <p:spPr>
              <a:xfrm>
                <a:off x="1141560" y="2948040"/>
                <a:ext cx="577800" cy="6382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09F2-F78B-4FBE-A7C7-E6B16661C0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3440" cy="22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удожественно-эстетическое 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ая младшая гр. 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льный уго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a116.mycdn.me/image?t=3&amp;bid=812447058620&amp;id=812447058620&amp;plc=WEB&amp;tkn=*59ztoPRx6xM-bM7pgFOWAujKEuo"/>
          <p:cNvPicPr/>
          <p:nvPr/>
        </p:nvPicPr>
        <p:blipFill>
          <a:blip r:embed="rId1"/>
          <a:stretch/>
        </p:blipFill>
        <p:spPr>
          <a:xfrm>
            <a:off x="4643280" y="1285920"/>
            <a:ext cx="3789360" cy="5072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ia116.mycdn.me/image?t=3&amp;bid=812447067324&amp;id=812447067324&amp;plc=WEB&amp;tkn=*azgsnc5aST3FKLoRhmanNKzmo1A"/>
          <p:cNvPicPr/>
          <p:nvPr/>
        </p:nvPicPr>
        <p:blipFill>
          <a:blip r:embed="rId2"/>
          <a:stretch/>
        </p:blipFill>
        <p:spPr>
          <a:xfrm>
            <a:off x="428760" y="1285920"/>
            <a:ext cx="3789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голок рис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ia116.mycdn.me/image?t=3&amp;bid=812446938300&amp;id=812446938300&amp;plc=WEB&amp;tkn=*M242kHkv_jCLL8VAN6bxDv__Cb8"/>
          <p:cNvPicPr/>
          <p:nvPr/>
        </p:nvPicPr>
        <p:blipFill>
          <a:blip r:embed="rId1"/>
          <a:stretch/>
        </p:blipFill>
        <p:spPr>
          <a:xfrm>
            <a:off x="357120" y="1214280"/>
            <a:ext cx="659916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643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голок русско-народного про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http://ia116.mycdn.me/image?t=3&amp;bid=812446921148&amp;id=812446921148&amp;plc=WEB&amp;tkn=*oET7bgogoNLcIDoCpXOaAiHLvrk"/>
          <p:cNvPicPr/>
          <p:nvPr/>
        </p:nvPicPr>
        <p:blipFill>
          <a:blip r:embed="rId1"/>
          <a:stretch/>
        </p:blipFill>
        <p:spPr>
          <a:xfrm>
            <a:off x="285840" y="1428840"/>
            <a:ext cx="6406920" cy="4786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ia116.mycdn.me/image?t=3&amp;bid=812446892220&amp;id=812446892220&amp;plc=WEB&amp;tkn=*I6xIlhyCet__4aUdnHlHoZb22tk"/>
          <p:cNvPicPr/>
          <p:nvPr/>
        </p:nvPicPr>
        <p:blipFill>
          <a:blip r:embed="rId2"/>
          <a:stretch/>
        </p:blipFill>
        <p:spPr>
          <a:xfrm>
            <a:off x="4714920" y="1071720"/>
            <a:ext cx="40561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643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голок театральный Мини-музей «Теремок сказ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http://ia116.mycdn.me/image?t=3&amp;bid=812446890428&amp;id=812446890428&amp;plc=WEB&amp;tkn=*exjtq8ybi1dqn3SbQc_ujisfsvQ"/>
          <p:cNvPicPr/>
          <p:nvPr/>
        </p:nvPicPr>
        <p:blipFill>
          <a:blip r:embed="rId1"/>
          <a:stretch/>
        </p:blipFill>
        <p:spPr>
          <a:xfrm>
            <a:off x="0" y="1906560"/>
            <a:ext cx="5959440" cy="4451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http://ia116.mycdn.me/image?t=3&amp;bid=812447327676&amp;id=812447327676&amp;plc=WEB&amp;tkn=*Cjm0mA0tUbm0DiiHlK147dAfxB0"/>
          <p:cNvPicPr/>
          <p:nvPr/>
        </p:nvPicPr>
        <p:blipFill>
          <a:blip r:embed="rId2"/>
          <a:srcRect l="3987" t="9820" r="1592" b="23215"/>
          <a:stretch/>
        </p:blipFill>
        <p:spPr>
          <a:xfrm>
            <a:off x="4451400" y="1857240"/>
            <a:ext cx="4692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://ia116.mycdn.me/image?t=3&amp;bid=812447395516&amp;id=812447395516&amp;plc=WEB&amp;tkn=*j71RqS_4GWKHn7YGJxqO3jYRpyI"/>
          <p:cNvPicPr/>
          <p:nvPr/>
        </p:nvPicPr>
        <p:blipFill>
          <a:blip r:embed="rId1"/>
          <a:stretch/>
        </p:blipFill>
        <p:spPr>
          <a:xfrm>
            <a:off x="463680" y="360360"/>
            <a:ext cx="821664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71760" y="2214720"/>
            <a:ext cx="6186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13:54:23Z</dcterms:created>
  <dc:creator>Пользователь</dc:creator>
  <dc:description/>
  <dc:language>en-US</dc:language>
  <cp:lastModifiedBy>Пользователь</cp:lastModifiedBy>
  <dcterms:modified xsi:type="dcterms:W3CDTF">2015-11-25T14:51:11Z</dcterms:modified>
  <cp:revision>6</cp:revision>
  <dc:subject/>
  <dc:title>Художественно-эстетическое развитие</dc:title>
</cp:coreProperties>
</file>