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FF8-F68A-4D24-8CC8-A7676758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F4B-23B6-47FF-AF9B-2CA2F16F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750-FB46-4F47-9CCB-271F1E14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0A9-D528-4ADD-BFF9-EC37A076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8C43-BC1E-44D0-93DA-56B011CD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8FE2-2262-4C80-9908-597E7C37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F8AB-5A0D-406F-B098-C6C1A874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B45D-D0BB-4482-9741-1A48A228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60D8-E3B6-4C94-832E-DBC67BB5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1777-3015-4C09-9DE3-4B5E4A4B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93A5-D3D9-4B0F-85E5-79F37C3F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1C6-FC04-4A54-8E24-D51FBD67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0032-B2A3-408D-BAEE-4C616769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615D-84DD-4148-8D41-36FE2AFE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6B95-09F4-4435-990C-B00C3468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4DC6-879E-4582-8FB1-836C2ACB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F7DA-A666-4FAE-9C39-13BDC13F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0BE-E250-45F2-98B7-75915441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05A-F233-4E4F-B646-160058B2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B68-0A13-407C-968C-0CE91EAD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264-B406-4AF5-BA05-455D8456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635-5293-4949-A734-297B1343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551-984A-44F5-906D-40CF418E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4CE-C5B4-41FC-93C0-112431F6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55A6-217E-4DE7-94E0-FF728EB1F6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85DF-9206-4392-B31E-E5A2557473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ко-краеведческая конференц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French Script MT"/>
              </a:rPr>
              <a:t>Из семейного альбом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Рисунок 1" descr="C:\Users\семья\Pictures\Мои сканированные изображения\2010-02 (фев)\сканирование0037.jpg"/>
          <p:cNvPicPr/>
          <p:nvPr/>
        </p:nvPicPr>
        <p:blipFill>
          <a:blip r:embed="rId1"/>
          <a:stretch/>
        </p:blipFill>
        <p:spPr>
          <a:xfrm>
            <a:off x="457200" y="1066680"/>
            <a:ext cx="4060800" cy="51278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абанов Алексей Прокофь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Рисунок 9" descr="C:\Users\семья\Pictures\Мои сканированные изображения\2010-02 (фев)\сканирование0031.jpg"/>
          <p:cNvPicPr/>
          <p:nvPr/>
        </p:nvPicPr>
        <p:blipFill>
          <a:blip r:embed="rId1"/>
          <a:stretch/>
        </p:blipFill>
        <p:spPr>
          <a:xfrm>
            <a:off x="762120" y="849240"/>
            <a:ext cx="7848360" cy="524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P2190122"/>
          <p:cNvPicPr/>
          <p:nvPr/>
        </p:nvPicPr>
        <p:blipFill>
          <a:blip r:embed="rId1"/>
          <a:stretch/>
        </p:blipFill>
        <p:spPr>
          <a:xfrm>
            <a:off x="762120" y="345960"/>
            <a:ext cx="7848360" cy="588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ем мы всех героев бесстрашных,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клоняем колена перед памятью павши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ложатся цветы на гранитные пли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, никто не забыт, и ничто не забыт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P2190125"/>
          <p:cNvPicPr/>
          <p:nvPr/>
        </p:nvPicPr>
        <p:blipFill>
          <a:blip r:embed="rId5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2-21T13:51:4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