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5F82-8E62-474E-926C-98ACA559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76C8-0C43-4EF2-BC3A-9917D8D9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D7FB-7E07-4687-B37D-33CB9E24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2AD1-6F43-4124-AB49-DF76304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08F-9BB3-4552-B0CE-950F453B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0340-176B-4E02-867E-AFE50346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048-97FA-4EF4-966E-4B0B896F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397A-3744-4E37-9C97-8D413DC5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863E-6DCF-44F7-BC91-6BCE43E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6B02-5F2F-4B83-B28A-C9385A51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06D-B177-42A2-91C8-43DA895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9887-795B-41DC-9E3A-9ED1F8BB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FB1-E138-4E81-8177-B35C16E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6EF0-B401-4DF5-A787-98ACC75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833E-2851-41B1-B1F9-8F51277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7A2-5ABE-4773-B201-C7AF226A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FEE-DF02-415F-9091-45888E86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6BA7-F93C-42B8-AB20-AC843C8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31C1-D012-4DAB-AE33-E3A276D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2107-5208-4C33-B2AF-93861D16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3048-CBE1-4C35-AC16-DDEF25A0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F418-4C5E-43E0-869D-AB068EF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FE60-5763-4A52-BFBA-F39674A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FDB1-229C-4733-A6D7-BB198CB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7FE-9FFE-4F04-8F5D-41FDD78782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F1B-C79C-49B9-AB71-89DB8977EB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сторико-краеведческая конференц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French Script MT"/>
              </a:rPr>
              <a:t>Когда и тыл был фронтом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Рисунок 1" descr="H:\ольга витальевна\P1140084.JPG"/>
          <p:cNvPicPr/>
          <p:nvPr/>
        </p:nvPicPr>
        <p:blipFill>
          <a:blip r:embed="rId1"/>
          <a:stretch/>
        </p:blipFill>
        <p:spPr>
          <a:xfrm>
            <a:off x="1447920" y="685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аеведческая группа «Времена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Рисунок 2" descr="C:\Users\семья\Pictures\Мои сканированные изображения\2010-02 (фев)\сканирование0032.jpg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есто расположения (Хлопова гора) зенитных установок, обороняющих ж/д путь от фашистких налётов.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4" descr="H:\ольга витальевна\ольга витальевна\PC120023.JPG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Рисунок 3" descr="C:\Users\семья\Pictures\Мои сканированные изображения\2010-02 (фев)\normal_Em725-39.jpg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ровоз серии «Эм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сто бывшей электростанции, ныне разрушенн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Рисунок 5" descr="H:\ольга витальевна\ольга витальевна\PC120016.JPG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Рисунок 6" descr="H:\ольга витальевна\ольга витальевна\PC120018 - копия.JPG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5257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уг, на котором разворачивали поез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Знаем мы всех героев бесстрашных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еклоняем колена перед памятью павших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 ложатся  цветы на гранитные пли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а, никто не забыт, и ничто не забыт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Рисунок 33" descr="C:\Users\семья\Pictures\Мои сканированные изображения\2010-02 (фев)\сканирование0040.jpg"/>
          <p:cNvPicPr/>
          <p:nvPr/>
        </p:nvPicPr>
        <p:blipFill>
          <a:blip r:embed="rId1"/>
          <a:stretch/>
        </p:blipFill>
        <p:spPr>
          <a:xfrm>
            <a:off x="1676520" y="533520"/>
            <a:ext cx="5715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21T13:34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