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1EE-11AC-46A6-BC85-A321497C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6AA-2132-49F6-BAA3-AF44E03F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400-C4DD-4DC5-8066-E92A8A13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228-EB70-4BBF-AB93-7FC9D84D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E77A-680F-4BC5-B2E3-950FCD6C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87AD-B9AE-486D-B2BD-3A720A09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2F36-584E-4FD5-9873-DAD589B0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2163-EE05-4A91-88B2-138E733D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7E1E-2D47-4AC6-B601-7576F615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32AC-1CE5-43FC-AE18-78ED97DE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E224-73E0-41F9-ADD1-5DE1D4C3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8F4-ED5E-4425-BF21-321320DA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58F6-3A49-4070-8148-D7C022A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C1A-086B-4AC0-9166-E1A1C73B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5725-51A3-4811-819E-3FF0253C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E416-A076-4AC4-8851-BD489F7A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CA9A-C580-4A29-B0DA-0CC4F221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9C9-609E-4E7D-87F0-4E5272D8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526-550C-4FCB-8565-5B3413D0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0A1-0BA1-415F-A8D8-266FD4AC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324-0F7C-48C8-85A2-5E970242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753-EED3-46B9-B09E-70AD6C17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6E0-F89D-4194-A256-043BFC7D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881-380B-4629-BB10-33EA325F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3E0-2C4D-45AC-9DBA-FA4E27848F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BB91-B23C-4B37-9B81-B494B97CBED7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91856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ffffff"/>
                </a:solidFill>
                <a:latin typeface="Arial Black"/>
              </a:rPr>
              <a:t>«Не повторяется такое никогда…»</a:t>
            </a:r>
            <a:endParaRPr b="0" lang="en-US" sz="7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75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96000" cy="54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«Для меня школа – это…»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2"/>
          <p:cNvSpPr/>
          <p:nvPr/>
        </p:nvSpPr>
        <p:spPr>
          <a:xfrm>
            <a:off x="231840" y="2577960"/>
            <a:ext cx="863640" cy="792360"/>
          </a:xfrm>
          <a:prstGeom prst="rect">
            <a:avLst/>
          </a:prstGeom>
          <a:noFill/>
          <a:ln w="57240">
            <a:solidFill>
              <a:srgbClr val="ffc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1635120" y="2593800"/>
            <a:ext cx="863640" cy="792360"/>
          </a:xfrm>
          <a:prstGeom prst="rect">
            <a:avLst/>
          </a:prstGeom>
          <a:noFill/>
          <a:ln w="57240">
            <a:solidFill>
              <a:srgbClr val="ffc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Прямоугольник 5"/>
          <p:cNvSpPr/>
          <p:nvPr/>
        </p:nvSpPr>
        <p:spPr>
          <a:xfrm>
            <a:off x="3041640" y="2577960"/>
            <a:ext cx="865080" cy="792360"/>
          </a:xfrm>
          <a:prstGeom prst="rect">
            <a:avLst/>
          </a:prstGeom>
          <a:noFill/>
          <a:ln w="57240">
            <a:solidFill>
              <a:srgbClr val="ffc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4716360" y="2581200"/>
            <a:ext cx="863640" cy="792360"/>
          </a:xfrm>
          <a:prstGeom prst="rect">
            <a:avLst/>
          </a:prstGeom>
          <a:noFill/>
          <a:ln w="57240">
            <a:solidFill>
              <a:srgbClr val="ffc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Прямоугольник 7"/>
          <p:cNvSpPr/>
          <p:nvPr/>
        </p:nvSpPr>
        <p:spPr>
          <a:xfrm>
            <a:off x="6372360" y="2587680"/>
            <a:ext cx="863640" cy="792000"/>
          </a:xfrm>
          <a:prstGeom prst="rect">
            <a:avLst/>
          </a:prstGeom>
          <a:noFill/>
          <a:ln w="57240">
            <a:solidFill>
              <a:srgbClr val="ffc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7812000" y="2587680"/>
            <a:ext cx="863640" cy="792000"/>
          </a:xfrm>
          <a:prstGeom prst="rect">
            <a:avLst/>
          </a:prstGeom>
          <a:noFill/>
          <a:ln w="57240">
            <a:solidFill>
              <a:srgbClr val="ffc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Плюс 9"/>
          <p:cNvSpPr/>
          <p:nvPr/>
        </p:nvSpPr>
        <p:spPr>
          <a:xfrm>
            <a:off x="1109520" y="2781360"/>
            <a:ext cx="525600" cy="404640"/>
          </a:xfrm>
          <a:custGeom>
            <a:avLst/>
            <a:gdLst/>
            <a:ahLst/>
            <a:rect l="l" t="t" r="r" b="b"/>
            <a:pathLst>
              <a:path w="524872" h="405680">
                <a:moveTo>
                  <a:pt x="69572" y="155132"/>
                </a:moveTo>
                <a:lnTo>
                  <a:pt x="214728" y="155132"/>
                </a:lnTo>
                <a:lnTo>
                  <a:pt x="214728" y="53773"/>
                </a:lnTo>
                <a:lnTo>
                  <a:pt x="310144" y="53773"/>
                </a:lnTo>
                <a:lnTo>
                  <a:pt x="310144" y="155132"/>
                </a:lnTo>
                <a:lnTo>
                  <a:pt x="455300" y="155132"/>
                </a:lnTo>
                <a:lnTo>
                  <a:pt x="455300" y="250548"/>
                </a:lnTo>
                <a:lnTo>
                  <a:pt x="310144" y="250548"/>
                </a:lnTo>
                <a:lnTo>
                  <a:pt x="310144" y="351907"/>
                </a:lnTo>
                <a:lnTo>
                  <a:pt x="214728" y="351907"/>
                </a:lnTo>
                <a:lnTo>
                  <a:pt x="214728" y="250548"/>
                </a:lnTo>
                <a:lnTo>
                  <a:pt x="69572" y="250548"/>
                </a:lnTo>
                <a:lnTo>
                  <a:pt x="69572" y="155132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Плюс 10"/>
          <p:cNvSpPr/>
          <p:nvPr/>
        </p:nvSpPr>
        <p:spPr>
          <a:xfrm>
            <a:off x="2481120" y="2766960"/>
            <a:ext cx="525600" cy="406440"/>
          </a:xfrm>
          <a:custGeom>
            <a:avLst/>
            <a:gdLst/>
            <a:ahLst/>
            <a:rect l="l" t="t" r="r" b="b"/>
            <a:pathLst>
              <a:path w="524872" h="405680">
                <a:moveTo>
                  <a:pt x="69572" y="155132"/>
                </a:moveTo>
                <a:lnTo>
                  <a:pt x="214728" y="155132"/>
                </a:lnTo>
                <a:lnTo>
                  <a:pt x="214728" y="53773"/>
                </a:lnTo>
                <a:lnTo>
                  <a:pt x="310144" y="53773"/>
                </a:lnTo>
                <a:lnTo>
                  <a:pt x="310144" y="155132"/>
                </a:lnTo>
                <a:lnTo>
                  <a:pt x="455300" y="155132"/>
                </a:lnTo>
                <a:lnTo>
                  <a:pt x="455300" y="250548"/>
                </a:lnTo>
                <a:lnTo>
                  <a:pt x="310144" y="250548"/>
                </a:lnTo>
                <a:lnTo>
                  <a:pt x="310144" y="351907"/>
                </a:lnTo>
                <a:lnTo>
                  <a:pt x="214728" y="351907"/>
                </a:lnTo>
                <a:lnTo>
                  <a:pt x="214728" y="250548"/>
                </a:lnTo>
                <a:lnTo>
                  <a:pt x="69572" y="250548"/>
                </a:lnTo>
                <a:lnTo>
                  <a:pt x="69572" y="155132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Равно 12"/>
          <p:cNvSpPr/>
          <p:nvPr/>
        </p:nvSpPr>
        <p:spPr>
          <a:xfrm>
            <a:off x="3906720" y="2730600"/>
            <a:ext cx="792360" cy="504720"/>
          </a:xfrm>
          <a:custGeom>
            <a:avLst/>
            <a:gdLst/>
            <a:ahLst/>
            <a:rect l="l" t="t" r="r" b="b"/>
            <a:pathLst>
              <a:path w="792088" h="504056">
                <a:moveTo>
                  <a:pt x="104991" y="103836"/>
                </a:moveTo>
                <a:lnTo>
                  <a:pt x="687097" y="103836"/>
                </a:lnTo>
                <a:lnTo>
                  <a:pt x="687097" y="222390"/>
                </a:lnTo>
                <a:lnTo>
                  <a:pt x="104991" y="222390"/>
                </a:lnTo>
                <a:lnTo>
                  <a:pt x="104991" y="103836"/>
                </a:lnTo>
                <a:close/>
                <a:moveTo>
                  <a:pt x="104991" y="281666"/>
                </a:moveTo>
                <a:lnTo>
                  <a:pt x="687097" y="281666"/>
                </a:lnTo>
                <a:lnTo>
                  <a:pt x="687097" y="400220"/>
                </a:lnTo>
                <a:lnTo>
                  <a:pt x="104991" y="400220"/>
                </a:lnTo>
                <a:lnTo>
                  <a:pt x="104991" y="28166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Умножение 13"/>
          <p:cNvSpPr/>
          <p:nvPr/>
        </p:nvSpPr>
        <p:spPr>
          <a:xfrm>
            <a:off x="5673600" y="2701800"/>
            <a:ext cx="495360" cy="561960"/>
          </a:xfrm>
          <a:custGeom>
            <a:avLst/>
            <a:gdLst/>
            <a:ahLst/>
            <a:rect l="l" t="t" r="r" b="b"/>
            <a:pathLst>
              <a:path w="495350" h="562344">
                <a:moveTo>
                  <a:pt x="75258" y="173566"/>
                </a:moveTo>
                <a:lnTo>
                  <a:pt x="162683" y="96556"/>
                </a:lnTo>
                <a:lnTo>
                  <a:pt x="247675" y="193042"/>
                </a:lnTo>
                <a:lnTo>
                  <a:pt x="332667" y="96556"/>
                </a:lnTo>
                <a:lnTo>
                  <a:pt x="420092" y="173566"/>
                </a:lnTo>
                <a:lnTo>
                  <a:pt x="325305" y="281172"/>
                </a:lnTo>
                <a:lnTo>
                  <a:pt x="420092" y="388778"/>
                </a:lnTo>
                <a:lnTo>
                  <a:pt x="332667" y="465788"/>
                </a:lnTo>
                <a:lnTo>
                  <a:pt x="247675" y="369302"/>
                </a:lnTo>
                <a:lnTo>
                  <a:pt x="162683" y="465788"/>
                </a:lnTo>
                <a:lnTo>
                  <a:pt x="75258" y="388778"/>
                </a:lnTo>
                <a:lnTo>
                  <a:pt x="170045" y="281172"/>
                </a:lnTo>
                <a:lnTo>
                  <a:pt x="75258" y="17356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Умножение 14"/>
          <p:cNvSpPr/>
          <p:nvPr/>
        </p:nvSpPr>
        <p:spPr>
          <a:xfrm>
            <a:off x="7275600" y="2725560"/>
            <a:ext cx="495360" cy="562320"/>
          </a:xfrm>
          <a:custGeom>
            <a:avLst/>
            <a:gdLst/>
            <a:ahLst/>
            <a:rect l="l" t="t" r="r" b="b"/>
            <a:pathLst>
              <a:path w="495350" h="562344">
                <a:moveTo>
                  <a:pt x="75258" y="173566"/>
                </a:moveTo>
                <a:lnTo>
                  <a:pt x="162683" y="96556"/>
                </a:lnTo>
                <a:lnTo>
                  <a:pt x="247675" y="193042"/>
                </a:lnTo>
                <a:lnTo>
                  <a:pt x="332667" y="96556"/>
                </a:lnTo>
                <a:lnTo>
                  <a:pt x="420092" y="173566"/>
                </a:lnTo>
                <a:lnTo>
                  <a:pt x="325305" y="281172"/>
                </a:lnTo>
                <a:lnTo>
                  <a:pt x="420092" y="388778"/>
                </a:lnTo>
                <a:lnTo>
                  <a:pt x="332667" y="465788"/>
                </a:lnTo>
                <a:lnTo>
                  <a:pt x="247675" y="369302"/>
                </a:lnTo>
                <a:lnTo>
                  <a:pt x="162683" y="465788"/>
                </a:lnTo>
                <a:lnTo>
                  <a:pt x="75258" y="388778"/>
                </a:lnTo>
                <a:lnTo>
                  <a:pt x="170045" y="281172"/>
                </a:lnTo>
                <a:lnTo>
                  <a:pt x="75258" y="17356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535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0"/>
            </a:br>
            <a:r>
              <a:rPr b="1" lang="ru-RU" sz="10000" spc="-1" strike="noStrike">
                <a:solidFill>
                  <a:srgbClr val="ffffff"/>
                </a:solidFill>
                <a:latin typeface="Arial Black"/>
              </a:rPr>
              <a:t>0 1 2 3 4 5 6 7 8 9</a:t>
            </a:r>
            <a:endParaRPr b="0" lang="en-US" sz="10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50920" y="476280"/>
          <a:ext cx="8642160" cy="6048360"/>
        </p:xfrm>
        <a:graphic>
          <a:graphicData uri="http://schemas.openxmlformats.org/drawingml/2006/table">
            <a:tbl>
              <a:tblPr/>
              <a:tblGrid>
                <a:gridCol w="4825800"/>
                <a:gridCol w="3816360"/>
              </a:tblGrid>
              <a:tr h="60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Золотой ключик или приключения Буратино»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Три толстяка»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Тимур и его команда»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Доктор Айболит»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Приключения Незнайки и его друзей»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Каштанка»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Дядя Стёпа»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. Гайдар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. Чуковский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. Носов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. Чехов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. Толстой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Ю. Олеш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. Михалков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ступил момент прощанья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Будет краткой наша речь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Говорим вам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ДО СВИДАНЬЯ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ДО СЧАСТЛИВЫХ, ДОБРЫХ ВСТРЕЧ!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55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575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5" descr="http://www.davno.ru/assets/images/cards/big/1-sentyabrya-51.jpg"/>
          <p:cNvPicPr/>
          <p:nvPr/>
        </p:nvPicPr>
        <p:blipFill>
          <a:blip r:embed="rId1"/>
          <a:stretch/>
        </p:blipFill>
        <p:spPr>
          <a:xfrm>
            <a:off x="12600" y="33480"/>
            <a:ext cx="9131400" cy="7159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792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1800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https://stressa.net/images/uploads/465c6b2a12d3c331303f6bbe99abb626.jpg"/>
          <p:cNvPicPr/>
          <p:nvPr/>
        </p:nvPicPr>
        <p:blipFill>
          <a:blip r:embed="rId1"/>
          <a:stretch/>
        </p:blipFill>
        <p:spPr>
          <a:xfrm>
            <a:off x="179280" y="115920"/>
            <a:ext cx="640872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5"/>
          <p:cNvSpPr/>
          <p:nvPr/>
        </p:nvSpPr>
        <p:spPr>
          <a:xfrm>
            <a:off x="539640" y="692280"/>
            <a:ext cx="777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скваМо        наягимзи        пусквыники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В брыйдо тьпу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8278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ВЫХОДНОЙ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     ПОЕЗДКА 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       ПРОГУЛКА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КОЗА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Арка 4"/>
          <p:cNvSpPr/>
          <p:nvPr/>
        </p:nvSpPr>
        <p:spPr>
          <a:xfrm>
            <a:off x="900000" y="1773360"/>
            <a:ext cx="1727280" cy="934920"/>
          </a:xfrm>
          <a:custGeom>
            <a:avLst/>
            <a:gdLst/>
            <a:ahLst/>
            <a:rect l="l" t="t" r="r" b="b"/>
            <a:pathLst>
              <a:path w="1728192" h="936104">
                <a:moveTo>
                  <a:pt x="0" y="468052"/>
                </a:moveTo>
                <a:cubicBezTo>
                  <a:pt x="0" y="209554"/>
                  <a:pt x="386869" y="0"/>
                  <a:pt x="864096" y="0"/>
                </a:cubicBezTo>
                <a:cubicBezTo>
                  <a:pt x="1341323" y="0"/>
                  <a:pt x="1728192" y="209554"/>
                  <a:pt x="1728192" y="468052"/>
                </a:cubicBezTo>
                <a:lnTo>
                  <a:pt x="1494166" y="468052"/>
                </a:lnTo>
                <a:cubicBezTo>
                  <a:pt x="1494166" y="338803"/>
                  <a:pt x="1212074" y="234026"/>
                  <a:pt x="864096" y="234026"/>
                </a:cubicBezTo>
                <a:cubicBezTo>
                  <a:pt x="516118" y="234026"/>
                  <a:pt x="234026" y="338803"/>
                  <a:pt x="234026" y="468052"/>
                </a:cubicBezTo>
                <a:lnTo>
                  <a:pt x="0" y="468052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Фигура, имеющая форму буквы L 5"/>
          <p:cNvSpPr/>
          <p:nvPr/>
        </p:nvSpPr>
        <p:spPr>
          <a:xfrm rot="10800000">
            <a:off x="900000" y="2781000"/>
            <a:ext cx="1727280" cy="431640"/>
          </a:xfrm>
          <a:custGeom>
            <a:avLst/>
            <a:gdLst/>
            <a:ahLst/>
            <a:rect l="l" t="t" r="r" b="b"/>
            <a:pathLst>
              <a:path w="1728192" h="432048">
                <a:moveTo>
                  <a:pt x="0" y="0"/>
                </a:moveTo>
                <a:lnTo>
                  <a:pt x="216024" y="0"/>
                </a:lnTo>
                <a:lnTo>
                  <a:pt x="216024" y="216024"/>
                </a:lnTo>
                <a:lnTo>
                  <a:pt x="1728192" y="216024"/>
                </a:lnTo>
                <a:lnTo>
                  <a:pt x="1728192" y="432048"/>
                </a:lnTo>
                <a:lnTo>
                  <a:pt x="0" y="432048"/>
                </a:lnTo>
                <a:lnTo>
                  <a:pt x="0" y="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Рамка 10"/>
          <p:cNvSpPr/>
          <p:nvPr/>
        </p:nvSpPr>
        <p:spPr>
          <a:xfrm>
            <a:off x="870120" y="4583160"/>
            <a:ext cx="1584000" cy="1512720"/>
          </a:xfrm>
          <a:custGeom>
            <a:avLst/>
            <a:gdLst/>
            <a:ahLst/>
            <a:rect l="l" t="t" r="r" b="b"/>
            <a:pathLst>
              <a:path w="1584176" h="1512168">
                <a:moveTo>
                  <a:pt x="0" y="0"/>
                </a:moveTo>
                <a:lnTo>
                  <a:pt x="1584176" y="0"/>
                </a:lnTo>
                <a:lnTo>
                  <a:pt x="1584176" y="1512168"/>
                </a:lnTo>
                <a:lnTo>
                  <a:pt x="0" y="1512168"/>
                </a:lnTo>
                <a:lnTo>
                  <a:pt x="0" y="0"/>
                </a:lnTo>
                <a:close/>
                <a:moveTo>
                  <a:pt x="189021" y="189021"/>
                </a:moveTo>
                <a:lnTo>
                  <a:pt x="189021" y="1323147"/>
                </a:lnTo>
                <a:lnTo>
                  <a:pt x="1395155" y="1323147"/>
                </a:lnTo>
                <a:lnTo>
                  <a:pt x="1395155" y="189021"/>
                </a:lnTo>
                <a:lnTo>
                  <a:pt x="189021" y="189021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60" name="Группа 15"/>
          <p:cNvGrpSpPr/>
          <p:nvPr/>
        </p:nvGrpSpPr>
        <p:grpSpPr>
          <a:xfrm>
            <a:off x="900000" y="3394080"/>
            <a:ext cx="1656000" cy="755640"/>
            <a:chOff x="900000" y="3394080"/>
            <a:chExt cx="1656000" cy="755640"/>
          </a:xfrm>
        </p:grpSpPr>
        <p:sp>
          <p:nvSpPr>
            <p:cNvPr id="361" name="Прямая соединительная линия 12"/>
            <p:cNvSpPr/>
            <p:nvPr/>
          </p:nvSpPr>
          <p:spPr>
            <a:xfrm flipV="1">
              <a:off x="900000" y="3394080"/>
              <a:ext cx="864000" cy="72072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2" name="Прямая соединительная линия 14"/>
            <p:cNvSpPr/>
            <p:nvPr/>
          </p:nvSpPr>
          <p:spPr>
            <a:xfrm>
              <a:off x="1764000" y="3394080"/>
              <a:ext cx="792000" cy="7556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 Black"/>
              </a:rPr>
              <a:t>Л</a:t>
            </a:r>
            <a:endParaRPr b="0" lang="en-US" sz="15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 Black"/>
              </a:rPr>
              <a:t>С</a:t>
            </a:r>
            <a:endParaRPr b="0" lang="en-US" sz="15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 Black"/>
              </a:rPr>
              <a:t>В</a:t>
            </a:r>
            <a:endParaRPr b="0" lang="en-US" sz="15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 Black"/>
              </a:rPr>
              <a:t>Д</a:t>
            </a:r>
            <a:endParaRPr b="0" lang="en-US" sz="15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3:26:11Z</dcterms:created>
  <dc:creator>user</dc:creator>
  <dc:description/>
  <dc:language>en-US</dc:language>
  <cp:lastModifiedBy>Для всех</cp:lastModifiedBy>
  <dcterms:modified xsi:type="dcterms:W3CDTF">2017-05-25T04:30:34Z</dcterms:modified>
  <cp:revision>18</cp:revision>
  <dc:subject/>
  <dc:title>Последний урок  в  11 классе</dc:title>
</cp:coreProperties>
</file>