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6DA-B6D6-4AEB-A4A4-C78D0313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FB7-7A81-416E-9684-A849D588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C91-DBF4-46AE-9522-38FD8FB0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8BD-C41F-4160-8B66-2469F5E8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37B-9201-4DC4-8B87-620CABC0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350-6696-491C-AB24-AE82C59F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8C9-0051-48F1-A98A-18CD7E5F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CCD-21F6-404E-9F61-E69B6D85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C38-2FFF-40ED-A8B1-7AF59D09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FE4-F6E1-49AC-A1DB-CE078D9B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C36-18E9-4E6D-8981-23683329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A27-1D8D-4347-9E70-EB21F4E6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AA37-8FC5-4876-8BA8-C96E7AD40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000" y="476280"/>
            <a:ext cx="69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ский сад №4 «Берёз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89647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косрочная образовательная пра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зготовление кошелька из бумаг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игры  «Магазин» с детьми 5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арницина Г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ая катег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Чайко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9720" y="45720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рмошки вставляем в заготовку кошелька и прикле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537080" cy="2552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40360" y="4076640"/>
            <a:ext cx="47084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02000" y="304920"/>
            <a:ext cx="609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стежка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Берем широкий прямоугольник и срезаем два уголк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риклеиваем на середину клапана кошельк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Приклеиваем узкий прямоугольник – перемычку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 кошеле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1881360"/>
            <a:ext cx="3886200" cy="21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1852560"/>
            <a:ext cx="3962160" cy="2228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28600" y="447192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648320" y="4465800"/>
            <a:ext cx="3962160" cy="2228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534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740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3940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84520" y="4572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рашаем коше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284720" cy="2409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4319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61600" y="68580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рисуют деньги для игры в «Магаз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31964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495680" y="4114800"/>
            <a:ext cx="44276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13120" y="5335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а «Магаз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103640" cy="230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119480" cy="2317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133720" y="3962520"/>
            <a:ext cx="46814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7200" y="6094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туальность данной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07732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П по выбору являются составляющей единого образовательного пространства Учреждения и проводятся для детей, с целью создания социальной ситуации развития ребенка, позволяющей ему выстроить индивидуальный путь развития через приобретение новых умений и навыков, развития творческих и познавательных способностей, осуществления реализации их потребностей самораскрытия, ситуации вы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ащение сюжетно-ролевой игры атрибутами, выполнение работы в технике оригами, закрепить приемы сгибания и складывания бумаг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5040" y="1143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2286000"/>
            <a:ext cx="457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ствовать формированию внимания, собранности, аккуратности развитию мелкой моторики пальцев; формированию коммуникативных и    регулятивных УУД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1981080"/>
            <a:ext cx="83055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 листа цветного картона (сам кошел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прямоугольника из картона для застежки – 5см. х 3,5см.; 6,5см. х 1,5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цветной бумаги - 19см. х 16см. (для гармош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ная бумага для украшения кошел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ницы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й каранд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лф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9440" y="533520"/>
            <a:ext cx="37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 для реализации КОП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0" y="304920"/>
            <a:ext cx="886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Детям предлагается взять лист картона и согнуть оставляя место для клапа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Согнуть сам клапа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44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1219320"/>
            <a:ext cx="4325760" cy="2433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52280" y="4114800"/>
            <a:ext cx="4254480" cy="239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572000" y="4110120"/>
            <a:ext cx="4216320" cy="2369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329360" y="95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05680" y="38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20240" y="380880"/>
            <a:ext cx="73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тупаем к изготовлению боковинок кошелька, для эт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едложить детям взять лист цветной бумаги сложить попол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азрезать по сгиб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581280" cy="2158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34290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971800" y="4114800"/>
            <a:ext cx="3200400" cy="254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329360" y="125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0568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55200" y="5335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аем две гарм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0900" t="16888" r="3103" b="-1330"/>
          <a:stretch/>
        </p:blipFill>
        <p:spPr>
          <a:xfrm>
            <a:off x="2484360" y="1197000"/>
            <a:ext cx="4176720" cy="261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340000" y="4149720"/>
            <a:ext cx="4464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2160" y="457200"/>
            <a:ext cx="73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ладываем каждую гармошку пополам и склеиваем по сере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16360" y="1052640"/>
            <a:ext cx="3168360" cy="2825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4094280" cy="240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643280" y="4149720"/>
            <a:ext cx="42847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6T08:40:42Z</dcterms:created>
  <dc:creator>Admin</dc:creator>
  <dc:description/>
  <dc:language>en-US</dc:language>
  <cp:lastModifiedBy>Admin</cp:lastModifiedBy>
  <dcterms:modified xsi:type="dcterms:W3CDTF">2017-12-21T15:33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