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4AA9-3C4F-483F-8D22-11DCDBD7E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ABBC-2BA1-428E-A74A-75EF9AB5F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CE6B-3426-48E6-90E2-DA4365DB1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5A1B-736E-410B-A43A-00952E705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488D-1543-464D-ADFC-2858A2121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863C-7C71-47B4-B721-55CD5AD2F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1D41-C1DB-4AF5-8111-7EFEA9C7E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C93E-925C-4462-9C2B-D3BB1CE27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970D-2B2F-4607-BB11-3A255FE58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383A-5651-4AA5-B38A-6C5E7D508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2756-AE77-4E45-A2EA-A2F22B46C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33B4-6E2D-40C3-990C-E0DBA0976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E65E8-9B4F-4E70-9501-007A0C0EFCC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71680" y="96480"/>
            <a:ext cx="85723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2920" y="999720"/>
            <a:ext cx="88581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Педсовет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Calibri"/>
              </a:rPr>
              <a:t>«ОСОЗНАННОЕ РОДИТЕЛЬСТВО – КОМПЕТЕНТНЫЙ РОДИТЕЛЬ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Calibri"/>
              </a:rPr>
              <a:t>ФОРМА ПРОВЕДЕНИЯ: Устный журна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Calibri"/>
              </a:rPr>
              <a:t>2017 г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Прямоугольник 4"/>
          <p:cNvSpPr/>
          <p:nvPr/>
        </p:nvSpPr>
        <p:spPr>
          <a:xfrm rot="550800">
            <a:off x="4431960" y="3365640"/>
            <a:ext cx="4491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«Родители у нас – народ прекрасны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мысл воспитания для них, предельно ясе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едь только сотрудничество и труд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ам личность в будущем дадут!»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C:\Documents and Settings\User\Мои документы\Мои рисунки\Фото 10-11\Фото 050.jpg"/>
          <p:cNvPicPr/>
          <p:nvPr/>
        </p:nvPicPr>
        <p:blipFill>
          <a:blip r:embed="rId1"/>
          <a:stretch/>
        </p:blipFill>
        <p:spPr>
          <a:xfrm rot="20752200">
            <a:off x="693360" y="3528720"/>
            <a:ext cx="3479760" cy="260172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5" descr="http://active-personnel.ru/wp-content/uploads/2012/09/15-%D0%BD%D1%8F%D0%BD%D1%8F-%D0%B2%D0%BE%D1%81%D0%BF%D0%B8%D1%82%D0%B0%D1%82%D0%B5%D0%BB%D1%8C-e1346498807169.jpg"/>
          <p:cNvPicPr/>
          <p:nvPr/>
        </p:nvPicPr>
        <p:blipFill>
          <a:blip r:embed="rId2"/>
          <a:stretch/>
        </p:blipFill>
        <p:spPr>
          <a:xfrm>
            <a:off x="0" y="214200"/>
            <a:ext cx="142884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Цель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6840" y="1285560"/>
            <a:ext cx="84726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Georgia"/>
              </a:rPr>
              <a:t>	</a:t>
            </a:r>
            <a:r>
              <a:rPr b="1" lang="ru-RU" sz="2800" spc="-1" strike="noStrike">
                <a:solidFill>
                  <a:srgbClr val="0070c0"/>
                </a:solidFill>
                <a:latin typeface="Georgia"/>
              </a:rPr>
              <a:t>	</a:t>
            </a:r>
            <a:r>
              <a:rPr b="1" lang="ru-RU" sz="2800" spc="-1" strike="noStrike">
                <a:solidFill>
                  <a:srgbClr val="0070c0"/>
                </a:solidFill>
                <a:latin typeface="Georgia"/>
              </a:rPr>
              <a:t>Повышение профессиональной компетентности педагогов ДОО в вопросах  взаимодействия с семьёй воспитанник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Картинки по запросу картинка общение"/>
          <p:cNvPicPr/>
          <p:nvPr/>
        </p:nvPicPr>
        <p:blipFill>
          <a:blip r:embed="rId1"/>
          <a:stretch/>
        </p:blipFill>
        <p:spPr>
          <a:xfrm>
            <a:off x="4143240" y="3143160"/>
            <a:ext cx="4680000" cy="34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42920"/>
            <a:ext cx="8472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Повестка дня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928440"/>
            <a:ext cx="8229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70c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70c0"/>
                </a:solidFill>
                <a:latin typeface="Georgia"/>
              </a:rPr>
              <a:t>Вступление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70c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70c0"/>
                </a:solidFill>
                <a:latin typeface="Georgia"/>
              </a:rPr>
              <a:t>Итоги тематического контроля по теме: «Качество и результативность работы коллектива по вовлечению родителей  в образовательный процесс ДОУ»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70c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70c0"/>
                </a:solidFill>
                <a:latin typeface="Georgia"/>
              </a:rPr>
              <a:t>Формы и методы работы с семьёй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70c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70c0"/>
                </a:solidFill>
                <a:latin typeface="Georgia"/>
              </a:rPr>
              <a:t>Практико – ориентированные формы, направленные на сотрудничество с семьями воспитанников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70c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70c0"/>
                </a:solidFill>
                <a:latin typeface="Georgia"/>
              </a:rPr>
              <a:t>Решения педсовета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Рисунок 3" descr="http://t.foto.radikal.ru/0704/0e/8c4831f07b2bt.jpg"/>
          <p:cNvPicPr/>
          <p:nvPr/>
        </p:nvPicPr>
        <p:blipFill>
          <a:blip r:embed="rId1"/>
          <a:stretch/>
        </p:blipFill>
        <p:spPr>
          <a:xfrm>
            <a:off x="6643800" y="4714920"/>
            <a:ext cx="1714320" cy="17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Роль семьи в дошкольном образовании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714240"/>
            <a:ext cx="82296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Georgia"/>
              </a:rPr>
              <a:t>Статья 44 Федерального закона </a:t>
            </a:r>
            <a:r>
              <a:rPr b="1" lang="ru-RU" sz="2000" spc="-1" strike="noStrike">
                <a:solidFill>
                  <a:srgbClr val="0070c0"/>
                </a:solidFill>
                <a:latin typeface="Georgia"/>
              </a:rPr>
              <a:t>«Об образовании в Российской Федерации» </a:t>
            </a:r>
            <a:r>
              <a:rPr b="0" lang="ru-RU" sz="2000" spc="-1" strike="noStrike">
                <a:solidFill>
                  <a:srgbClr val="0070c0"/>
                </a:solidFill>
                <a:latin typeface="Georgia"/>
              </a:rPr>
              <a:t>обязывает педагогов и родителей стать не только равноправными, но и ответственными участниками образовательного процесс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Georgia"/>
              </a:rPr>
              <a:t>Современная семья</a:t>
            </a:r>
            <a:r>
              <a:rPr b="0" lang="ru-RU" sz="2000" spc="-1" strike="noStrike">
                <a:solidFill>
                  <a:srgbClr val="0070c0"/>
                </a:solidFill>
                <a:latin typeface="Georgia"/>
              </a:rPr>
              <a:t> все чаще нуждается в разнообразных знаниях: медицинских, педагогических, психологических, юридических: Деятельность педагогического коллектива детского сада не может оставаться в стороне от изменяющейся ситуации в социуме. Работа с семьей должна учитывать современные подходы к этой проблеме. Главная тенденция обучать родителей самостоятельному решению жизненных задач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4" descr="C:\Users\1\Desktop\Camera\IMG_20170427_173017.jpg"/>
          <p:cNvPicPr/>
          <p:nvPr/>
        </p:nvPicPr>
        <p:blipFill>
          <a:blip r:embed="rId1"/>
          <a:stretch/>
        </p:blipFill>
        <p:spPr>
          <a:xfrm>
            <a:off x="7215120" y="4357800"/>
            <a:ext cx="1884600" cy="235728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5" descr="https://fs00.infourok.ru/images/doc/183/209611/img8.jpg"/>
          <p:cNvPicPr/>
          <p:nvPr/>
        </p:nvPicPr>
        <p:blipFill>
          <a:blip r:embed="rId2"/>
          <a:srcRect l="6535" t="66745" r="65669" b="6252"/>
          <a:stretch/>
        </p:blipFill>
        <p:spPr>
          <a:xfrm>
            <a:off x="0" y="4429080"/>
            <a:ext cx="221472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27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Справка по итогам тематического контроля в ДОУ по теме: </a:t>
            </a:r>
            <a:r>
              <a:rPr b="1" i="1" lang="ru-RU" sz="2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«Качество и результативность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i="1" lang="ru-RU" sz="2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работы коллектива по вовлечению родителей  в образовательный процесс ДОУ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499760"/>
            <a:ext cx="8229600" cy="40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70c0"/>
                </a:solidFill>
                <a:uFillTx/>
                <a:latin typeface="Georgia"/>
              </a:rPr>
              <a:t>Рекомендации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Georgia"/>
              </a:rPr>
              <a:t>1.  Уровень профессионализма педагог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Georgia"/>
              </a:rPr>
              <a:t>2.   Анализ планов работы с родителям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Georgia"/>
              </a:rPr>
              <a:t>3.   Экспертиза условий сред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4" descr="C:\Users\1\Desktop\Camera\IMG_20170419_173837.jpg"/>
          <p:cNvPicPr/>
          <p:nvPr/>
        </p:nvPicPr>
        <p:blipFill>
          <a:blip r:embed="rId1"/>
          <a:stretch/>
        </p:blipFill>
        <p:spPr>
          <a:xfrm>
            <a:off x="7429680" y="4572000"/>
            <a:ext cx="17143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i="1" lang="ru-RU" sz="28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Формы и методы работы с семьёй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42560" y="928800"/>
            <a:ext cx="8543880" cy="56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70c0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70c0"/>
                </a:solidFill>
                <a:latin typeface="Georgia"/>
              </a:rPr>
              <a:t>Традиционные: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70c0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70c0"/>
                </a:solidFill>
                <a:latin typeface="Georgia"/>
              </a:rPr>
              <a:t>Нетрадиционные: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2400" spc="-1" strike="noStrike">
                <a:solidFill>
                  <a:srgbClr val="0070c0"/>
                </a:solidFill>
                <a:latin typeface="Calibri"/>
              </a:rPr>
              <a:t>Использование </a:t>
            </a:r>
            <a:r>
              <a:rPr b="1" i="1" lang="ru-RU" sz="2400" spc="-1" strike="noStrike">
                <a:solidFill>
                  <a:srgbClr val="0070c0"/>
                </a:solidFill>
                <a:latin typeface="Calibri"/>
              </a:rPr>
              <a:t>нетрадиционных форм совместно с традиционными формами взаимодействия</a:t>
            </a:r>
            <a:r>
              <a:rPr b="0" i="1" lang="ru-RU" sz="2400" spc="-1" strike="noStrike">
                <a:solidFill>
                  <a:srgbClr val="0070c0"/>
                </a:solidFill>
                <a:latin typeface="Calibri"/>
              </a:rPr>
              <a:t> дошкольного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i="1" lang="ru-RU" sz="2400" spc="-1" strike="noStrike">
                <a:solidFill>
                  <a:srgbClr val="0070c0"/>
                </a:solidFill>
                <a:latin typeface="Calibri"/>
              </a:rPr>
              <a:t>образовательного учреждения с </a:t>
            </a:r>
            <a:r>
              <a:rPr b="1" i="1" lang="ru-RU" sz="2400" spc="-1" strike="noStrike">
                <a:solidFill>
                  <a:srgbClr val="0070c0"/>
                </a:solidFill>
                <a:latin typeface="Calibri"/>
              </a:rPr>
              <a:t>семьей</a:t>
            </a:r>
            <a:r>
              <a:rPr b="0" i="1" lang="ru-RU" sz="2400" spc="-1" strike="noStrike">
                <a:solidFill>
                  <a:srgbClr val="0070c0"/>
                </a:solidFill>
                <a:latin typeface="Calibri"/>
              </a:rPr>
              <a:t> способствует повышению эффективности </a:t>
            </a:r>
            <a:r>
              <a:rPr b="1" i="1" lang="ru-RU" sz="2400" spc="-1" strike="noStrike">
                <a:solidFill>
                  <a:srgbClr val="0070c0"/>
                </a:solidFill>
                <a:latin typeface="Calibri"/>
              </a:rPr>
              <a:t>работы с родителями</a:t>
            </a:r>
            <a:r>
              <a:rPr b="0" lang="ru-RU" sz="2800" spc="-1" strike="noStrike">
                <a:solidFill>
                  <a:srgbClr val="0070c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4" descr="C:\Users\1\Desktop\Camera\IMG_20170419_173344.jpg"/>
          <p:cNvPicPr/>
          <p:nvPr/>
        </p:nvPicPr>
        <p:blipFill>
          <a:blip r:embed="rId1"/>
          <a:stretch/>
        </p:blipFill>
        <p:spPr>
          <a:xfrm>
            <a:off x="6191280" y="4643280"/>
            <a:ext cx="295272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 </a:t>
            </a:r>
            <a:br>
              <a:rPr sz="2400"/>
            </a:b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рактико-ориентированные формы направленные на сотрудничество с семьями воспитанников</a:t>
            </a:r>
            <a:br>
              <a:rPr sz="2200"/>
            </a:br>
            <a:br>
              <a:rPr sz="25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28556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Georgia"/>
              </a:rPr>
              <a:t>«Сотрудничество»</a:t>
            </a:r>
            <a:r>
              <a:rPr b="0" lang="ru-RU" sz="2000" spc="-1" strike="noStrike">
                <a:solidFill>
                  <a:srgbClr val="0070c0"/>
                </a:solidFill>
                <a:latin typeface="Georgia"/>
              </a:rPr>
              <a:t>  - это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Georgia"/>
              </a:rPr>
              <a:t>«Содружество»</a:t>
            </a:r>
            <a:r>
              <a:rPr b="0" lang="ru-RU" sz="2000" spc="-1" strike="noStrike">
                <a:solidFill>
                  <a:srgbClr val="0070c0"/>
                </a:solidFill>
                <a:latin typeface="Georgia"/>
              </a:rPr>
              <a:t>  - это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70c0"/>
                </a:solidFill>
                <a:latin typeface="Georgia"/>
              </a:rPr>
              <a:t>«</a:t>
            </a:r>
            <a:r>
              <a:rPr b="1" i="1" lang="ru-RU" sz="2000" spc="-1" strike="noStrike">
                <a:solidFill>
                  <a:srgbClr val="0070c0"/>
                </a:solidFill>
                <a:latin typeface="Georgia"/>
              </a:rPr>
              <a:t>Взаимодействие</a:t>
            </a:r>
            <a:r>
              <a:rPr b="0" i="1" lang="ru-RU" sz="2000" spc="-1" strike="noStrike">
                <a:solidFill>
                  <a:srgbClr val="0070c0"/>
                </a:solidFill>
                <a:latin typeface="Georgia"/>
              </a:rPr>
              <a:t>»</a:t>
            </a:r>
            <a:r>
              <a:rPr b="0" lang="ru-RU" sz="2000" spc="-1" strike="noStrike">
                <a:solidFill>
                  <a:srgbClr val="0070c0"/>
                </a:solidFill>
                <a:latin typeface="Georgia"/>
              </a:rPr>
              <a:t>  - это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Рисунок 3" descr="http://www.edu.cap.ru/home/3699/image/kartinki/f0a268733062.jpg"/>
          <p:cNvPicPr/>
          <p:nvPr/>
        </p:nvPicPr>
        <p:blipFill>
          <a:blip r:embed="rId1"/>
          <a:stretch/>
        </p:blipFill>
        <p:spPr>
          <a:xfrm>
            <a:off x="214200" y="5286240"/>
            <a:ext cx="2122560" cy="128592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4" descr="http://detsad84.gorodku.ru/wp-content/uploads/2016/09/%D1%81%D0%B5%D0%BC%D1%8C%D1%8F.jpg"/>
          <p:cNvPicPr/>
          <p:nvPr/>
        </p:nvPicPr>
        <p:blipFill>
          <a:blip r:embed="rId2"/>
          <a:srcRect l="22275" t="47994" r="23348" b="8479"/>
          <a:stretch/>
        </p:blipFill>
        <p:spPr>
          <a:xfrm>
            <a:off x="4929120" y="785880"/>
            <a:ext cx="3643560" cy="22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Решение педсовет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500040" y="642600"/>
            <a:ext cx="82296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1. По итогам проведения тематической проверки считать работу педагогического коллектива по взаимодействию с родителями удовлетворительно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2. Использовать в работе с родителями инновационные формы и методы для активизации  родителей с целью повышения их правовой и педагогической культур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3. Способствовать активному участию родителей в жизни ДОУ через вовлечение в образовательный процесс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Рисунок 3" descr="http://severcity.info/wp-content/uploads/2012/07/%D1%81%D0%B5%D0%BC%D1%8C%D1%8F2.jpg"/>
          <p:cNvPicPr/>
          <p:nvPr/>
        </p:nvPicPr>
        <p:blipFill>
          <a:blip r:embed="rId1"/>
          <a:stretch/>
        </p:blipFill>
        <p:spPr>
          <a:xfrm>
            <a:off x="2428920" y="3825720"/>
            <a:ext cx="5214960" cy="30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307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br>
              <a:rPr sz="2700"/>
            </a:br>
            <a:r>
              <a:rPr b="1" lang="ru-RU" sz="4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Мониторинг</a:t>
            </a:r>
            <a:br>
              <a:rPr sz="2400"/>
            </a:br>
            <a:br>
              <a:rPr sz="28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143080"/>
            <a:ext cx="822960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Рисунок 3" descr="http://www.edu.cap.ru/home/3699/image/kartinki/f0a268733062.jpg"/>
          <p:cNvPicPr/>
          <p:nvPr/>
        </p:nvPicPr>
        <p:blipFill>
          <a:blip r:embed="rId1"/>
          <a:stretch/>
        </p:blipFill>
        <p:spPr>
          <a:xfrm>
            <a:off x="6858000" y="5429160"/>
            <a:ext cx="2122560" cy="11048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C:\Users\1\Desktop\Camera\IMG_20170419_172412.jpg"/>
          <p:cNvPicPr/>
          <p:nvPr/>
        </p:nvPicPr>
        <p:blipFill>
          <a:blip r:embed="rId2"/>
          <a:stretch/>
        </p:blipFill>
        <p:spPr>
          <a:xfrm>
            <a:off x="4667400" y="3500280"/>
            <a:ext cx="4476600" cy="335772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5" descr="http://presentaci.ru/uploads/1153_199836.png"/>
          <p:cNvPicPr/>
          <p:nvPr/>
        </p:nvPicPr>
        <p:blipFill>
          <a:blip r:embed="rId3"/>
          <a:srcRect l="12272" t="40535" r="51862" b="18298"/>
          <a:stretch/>
        </p:blipFill>
        <p:spPr>
          <a:xfrm>
            <a:off x="214200" y="142920"/>
            <a:ext cx="192888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6T15:14:41Z</dcterms:created>
  <dc:creator>User</dc:creator>
  <dc:description/>
  <dc:language>en-US</dc:language>
  <cp:lastModifiedBy>1</cp:lastModifiedBy>
  <dcterms:modified xsi:type="dcterms:W3CDTF">2017-05-24T05:31:35Z</dcterms:modified>
  <cp:revision>41</cp:revision>
  <dc:subject/>
  <dc:title>МДОУ детский сад «Дружба» р.п.Дергачи</dc:title>
</cp:coreProperties>
</file>