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329-DB00-4F94-B279-A362F9B6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104-1E87-49B1-89AA-F029385F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DC8-F5FD-4033-A4D9-CA6D8A94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A5B-69B3-4B16-82F3-01C3ABCC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EA4-D939-4E69-A96F-2192BDB4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59E-ED43-4602-8B2F-B6538E9A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A35-E573-45FC-BDAE-FBE889A1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CD3-EE6D-4778-987B-EF064F15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808-F48A-40B2-B6EA-DF5F1233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750-82C9-4356-BB0A-1958BE84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6CC-ACA6-4DF3-8EC8-4C6C9A1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2BB-49D2-4BF1-AB64-C193070F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71B8-CDBE-4EC5-9953-720950921D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http://jkuhnya.ru/wp-content/uploads/2016/11/soda-s-uksusom-ustranyat-zasor.jpg"/>
          <p:cNvPicPr/>
          <p:nvPr/>
        </p:nvPicPr>
        <p:blipFill>
          <a:blip r:embed="rId1"/>
          <a:stretch/>
        </p:blipFill>
        <p:spPr>
          <a:xfrm>
            <a:off x="2857680" y="4464000"/>
            <a:ext cx="3479760" cy="2322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s://i09.fotocdn.net/s27/40/public_pin_m/362/2660722983.jpg"/>
          <p:cNvPicPr/>
          <p:nvPr/>
        </p:nvPicPr>
        <p:blipFill>
          <a:blip r:embed="rId2"/>
          <a:stretch/>
        </p:blipFill>
        <p:spPr>
          <a:xfrm>
            <a:off x="333360" y="87480"/>
            <a:ext cx="3586320" cy="3346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372360" y="374760"/>
            <a:ext cx="3028680" cy="3028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https://arhivurokov.ru/multiurok/b/d/5/bd55f404d800daa737872cb114a283425ffb577b/phpZWpOlM_1flashcards_k_uch_2_kl_rainbow_english_afanas_evoy_i_mikheevo_6_4.jpeg"/>
          <p:cNvPicPr/>
          <p:nvPr/>
        </p:nvPicPr>
        <p:blipFill>
          <a:blip r:embed="rId4"/>
          <a:stretch/>
        </p:blipFill>
        <p:spPr>
          <a:xfrm>
            <a:off x="4859280" y="0"/>
            <a:ext cx="2100240" cy="351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5"/>
          <a:stretch/>
        </p:blipFill>
        <p:spPr>
          <a:xfrm>
            <a:off x="6012000" y="3421080"/>
            <a:ext cx="3132000" cy="2492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6"/>
          <a:stretch/>
        </p:blipFill>
        <p:spPr>
          <a:xfrm>
            <a:off x="108000" y="3403440"/>
            <a:ext cx="28796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Группа 79" descr=""/>
          <p:cNvPicPr/>
          <p:nvPr/>
        </p:nvPicPr>
        <p:blipFill>
          <a:blip r:embed="rId1"/>
          <a:stretch/>
        </p:blipFill>
        <p:spPr>
          <a:xfrm>
            <a:off x="103320" y="36360"/>
            <a:ext cx="8907480" cy="675504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65" descr=""/>
          <p:cNvPicPr/>
          <p:nvPr/>
        </p:nvPicPr>
        <p:blipFill>
          <a:blip r:embed="rId2"/>
          <a:stretch/>
        </p:blipFill>
        <p:spPr>
          <a:xfrm>
            <a:off x="749160" y="-122400"/>
            <a:ext cx="7791480" cy="1444680"/>
          </a:xfrm>
          <a:prstGeom prst="rect">
            <a:avLst/>
          </a:prstGeom>
          <a:ln w="0">
            <a:noFill/>
          </a:ln>
        </p:spPr>
      </p:pic>
      <p:sp>
        <p:nvSpPr>
          <p:cNvPr id="103" name="Полилиния 67"/>
          <p:cNvSpPr/>
          <p:nvPr/>
        </p:nvSpPr>
        <p:spPr>
          <a:xfrm rot="4803000">
            <a:off x="7738560" y="5491080"/>
            <a:ext cx="954360" cy="1528920"/>
          </a:xfrm>
          <a:prstGeom prst="pie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Группа 56" descr=""/>
          <p:cNvPicPr/>
          <p:nvPr/>
        </p:nvPicPr>
        <p:blipFill>
          <a:blip r:embed="rId3"/>
          <a:stretch/>
        </p:blipFill>
        <p:spPr>
          <a:xfrm>
            <a:off x="566640" y="1176480"/>
            <a:ext cx="73947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Группа 94" descr=""/>
          <p:cNvPicPr/>
          <p:nvPr/>
        </p:nvPicPr>
        <p:blipFill>
          <a:blip r:embed="rId1"/>
          <a:stretch/>
        </p:blipFill>
        <p:spPr>
          <a:xfrm>
            <a:off x="103320" y="36360"/>
            <a:ext cx="8907480" cy="6755040"/>
          </a:xfrm>
          <a:prstGeom prst="rect">
            <a:avLst/>
          </a:prstGeom>
          <a:ln w="0">
            <a:noFill/>
          </a:ln>
        </p:spPr>
      </p:pic>
      <p:sp>
        <p:nvSpPr>
          <p:cNvPr id="48" name="Полилиния 85"/>
          <p:cNvSpPr/>
          <p:nvPr/>
        </p:nvSpPr>
        <p:spPr>
          <a:xfrm rot="1826400">
            <a:off x="817200" y="5249880"/>
            <a:ext cx="554040" cy="6811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Группа 69" descr=""/>
          <p:cNvPicPr/>
          <p:nvPr/>
        </p:nvPicPr>
        <p:blipFill>
          <a:blip r:embed="rId2"/>
          <a:stretch/>
        </p:blipFill>
        <p:spPr>
          <a:xfrm>
            <a:off x="2139840" y="5254560"/>
            <a:ext cx="399276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6"/>
          <p:cNvSpPr/>
          <p:nvPr/>
        </p:nvSpPr>
        <p:spPr>
          <a:xfrm>
            <a:off x="324000" y="4437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-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(a-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)(a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7"/>
          <p:cNvSpPr/>
          <p:nvPr/>
        </p:nvSpPr>
        <p:spPr>
          <a:xfrm>
            <a:off x="250920" y="371628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-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)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a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-2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8"/>
          <p:cNvSpPr/>
          <p:nvPr/>
        </p:nvSpPr>
        <p:spPr>
          <a:xfrm>
            <a:off x="250920" y="298764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в)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a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2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9"/>
          <p:cNvSpPr/>
          <p:nvPr/>
        </p:nvSpPr>
        <p:spPr>
          <a:xfrm>
            <a:off x="250920" y="2205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в)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a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3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3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в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92"/>
          <p:cNvSpPr/>
          <p:nvPr/>
        </p:nvSpPr>
        <p:spPr>
          <a:xfrm flipV="1">
            <a:off x="684360" y="5013360"/>
            <a:ext cx="8632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Скругленный прямоугольник 93"/>
          <p:cNvGrpSpPr/>
          <p:nvPr/>
        </p:nvGrpSpPr>
        <p:grpSpPr>
          <a:xfrm>
            <a:off x="-6480" y="19080"/>
            <a:ext cx="9156960" cy="6802560"/>
            <a:chOff x="-6480" y="19080"/>
            <a:chExt cx="9156960" cy="6802560"/>
          </a:xfrm>
        </p:grpSpPr>
        <p:pic>
          <p:nvPicPr>
            <p:cNvPr id="56" name="Скругленный прямоугольник 93" descr=""/>
            <p:cNvPicPr/>
            <p:nvPr/>
          </p:nvPicPr>
          <p:blipFill>
            <a:blip r:embed="rId3"/>
            <a:stretch/>
          </p:blipFill>
          <p:spPr>
            <a:xfrm>
              <a:off x="-6480" y="19080"/>
              <a:ext cx="9156960" cy="68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42960" y="669960"/>
              <a:ext cx="785808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TextBox 65" descr=""/>
          <p:cNvPicPr/>
          <p:nvPr/>
        </p:nvPicPr>
        <p:blipFill>
          <a:blip r:embed="rId4"/>
          <a:stretch/>
        </p:blipFill>
        <p:spPr>
          <a:xfrm>
            <a:off x="1500120" y="171360"/>
            <a:ext cx="7790040" cy="1444680"/>
          </a:xfrm>
          <a:prstGeom prst="rect">
            <a:avLst/>
          </a:prstGeom>
          <a:ln w="0">
            <a:noFill/>
          </a:ln>
        </p:spPr>
      </p:pic>
      <p:sp>
        <p:nvSpPr>
          <p:cNvPr id="59" name="TextBox 84"/>
          <p:cNvSpPr/>
          <p:nvPr/>
        </p:nvSpPr>
        <p:spPr>
          <a:xfrm>
            <a:off x="2681280" y="2212920"/>
            <a:ext cx="604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«Решение задач на смеси и растворы с помощью уравнений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Группа 94" descr=""/>
          <p:cNvPicPr/>
          <p:nvPr/>
        </p:nvPicPr>
        <p:blipFill>
          <a:blip r:embed="rId1"/>
          <a:stretch/>
        </p:blipFill>
        <p:spPr>
          <a:xfrm>
            <a:off x="103320" y="36360"/>
            <a:ext cx="8907480" cy="6755040"/>
          </a:xfrm>
          <a:prstGeom prst="rect">
            <a:avLst/>
          </a:prstGeom>
          <a:ln w="0">
            <a:noFill/>
          </a:ln>
        </p:spPr>
      </p:pic>
      <p:sp>
        <p:nvSpPr>
          <p:cNvPr id="61" name="Полилиния 85"/>
          <p:cNvSpPr/>
          <p:nvPr/>
        </p:nvSpPr>
        <p:spPr>
          <a:xfrm rot="1826400">
            <a:off x="817200" y="5249880"/>
            <a:ext cx="554040" cy="6811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Группа 69" descr=""/>
          <p:cNvPicPr/>
          <p:nvPr/>
        </p:nvPicPr>
        <p:blipFill>
          <a:blip r:embed="rId2"/>
          <a:stretch/>
        </p:blipFill>
        <p:spPr>
          <a:xfrm>
            <a:off x="2139840" y="5254560"/>
            <a:ext cx="3992760" cy="1622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86"/>
          <p:cNvSpPr/>
          <p:nvPr/>
        </p:nvSpPr>
        <p:spPr>
          <a:xfrm>
            <a:off x="324000" y="4437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-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(a-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)(a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7"/>
          <p:cNvSpPr/>
          <p:nvPr/>
        </p:nvSpPr>
        <p:spPr>
          <a:xfrm>
            <a:off x="250920" y="371628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-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)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a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-2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8"/>
          <p:cNvSpPr/>
          <p:nvPr/>
        </p:nvSpPr>
        <p:spPr>
          <a:xfrm>
            <a:off x="250920" y="298764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в)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a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2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9"/>
          <p:cNvSpPr/>
          <p:nvPr/>
        </p:nvSpPr>
        <p:spPr>
          <a:xfrm>
            <a:off x="250920" y="2205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в)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=a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3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3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+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Monotype Corsiva"/>
              </a:rPr>
              <a:t>a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в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+в</a:t>
            </a:r>
            <a:r>
              <a:rPr b="1" lang="ru-RU" sz="1800" spc="-1" strike="noStrike" baseline="30000">
                <a:solidFill>
                  <a:srgbClr val="000066"/>
                </a:solidFill>
                <a:latin typeface="Monotype Corsiv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92"/>
          <p:cNvSpPr/>
          <p:nvPr/>
        </p:nvSpPr>
        <p:spPr>
          <a:xfrm flipV="1">
            <a:off x="684360" y="5013360"/>
            <a:ext cx="8632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Скругленный прямоугольник 93"/>
          <p:cNvGrpSpPr/>
          <p:nvPr/>
        </p:nvGrpSpPr>
        <p:grpSpPr>
          <a:xfrm>
            <a:off x="-6480" y="19080"/>
            <a:ext cx="9156960" cy="6802560"/>
            <a:chOff x="-6480" y="19080"/>
            <a:chExt cx="9156960" cy="6802560"/>
          </a:xfrm>
        </p:grpSpPr>
        <p:pic>
          <p:nvPicPr>
            <p:cNvPr id="69" name="Скругленный прямоугольник 93" descr=""/>
            <p:cNvPicPr/>
            <p:nvPr/>
          </p:nvPicPr>
          <p:blipFill>
            <a:blip r:embed="rId3"/>
            <a:stretch/>
          </p:blipFill>
          <p:spPr>
            <a:xfrm>
              <a:off x="-6480" y="19080"/>
              <a:ext cx="9156960" cy="68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42960" y="669960"/>
              <a:ext cx="785808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TextBox 65" descr=""/>
          <p:cNvPicPr/>
          <p:nvPr/>
        </p:nvPicPr>
        <p:blipFill>
          <a:blip r:embed="rId4"/>
          <a:stretch/>
        </p:blipFill>
        <p:spPr>
          <a:xfrm>
            <a:off x="1500120" y="171360"/>
            <a:ext cx="7790040" cy="1444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84"/>
          <p:cNvSpPr/>
          <p:nvPr/>
        </p:nvSpPr>
        <p:spPr>
          <a:xfrm>
            <a:off x="2681280" y="2212920"/>
            <a:ext cx="604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научиться решать задачи  на смеси и растворы с помощью уравнений разных ви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75\Desktop\Рисунок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84"/>
          <p:cNvSpPr/>
          <p:nvPr/>
        </p:nvSpPr>
        <p:spPr>
          <a:xfrm>
            <a:off x="271440" y="1425600"/>
            <a:ext cx="62834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Что такое смес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акую смесь называют раствор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Что означает понятие «массовая доля вещества в растворе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extBox 3" descr=""/>
          <p:cNvPicPr/>
          <p:nvPr/>
        </p:nvPicPr>
        <p:blipFill>
          <a:blip r:embed="rId2"/>
          <a:stretch/>
        </p:blipFill>
        <p:spPr>
          <a:xfrm>
            <a:off x="176040" y="55440"/>
            <a:ext cx="9114120" cy="120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6554880" y="1833480"/>
            <a:ext cx="262872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Users\75\Desktop\Рисунок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2"/>
          <a:stretch/>
        </p:blipFill>
        <p:spPr>
          <a:xfrm>
            <a:off x="23760" y="55440"/>
            <a:ext cx="9412200" cy="120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027840" y="1773360"/>
            <a:ext cx="3019320" cy="2614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84"/>
          <p:cNvSpPr/>
          <p:nvPr/>
        </p:nvSpPr>
        <p:spPr>
          <a:xfrm>
            <a:off x="133200" y="1125360"/>
            <a:ext cx="8902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Как решаются задачи на смеси и раствор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75\Desktop\Рисунок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60200" y="727200"/>
          <a:ext cx="4195800" cy="1218960"/>
        </p:xfrm>
        <a:graphic>
          <a:graphicData uri="http://schemas.openxmlformats.org/drawingml/2006/table">
            <a:tbl>
              <a:tblPr/>
              <a:tblGrid>
                <a:gridCol w="1190880"/>
                <a:gridCol w="880920"/>
                <a:gridCol w="708120"/>
                <a:gridCol w="1415880"/>
              </a:tblGrid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5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0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е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+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5(x+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572000" y="836640"/>
          <a:ext cx="3816360" cy="914400"/>
        </p:xfrm>
        <a:graphic>
          <a:graphicData uri="http://schemas.openxmlformats.org/drawingml/2006/table">
            <a:tbl>
              <a:tblPr/>
              <a:tblGrid>
                <a:gridCol w="1224000"/>
                <a:gridCol w="1944720"/>
                <a:gridCol w="647640"/>
              </a:tblGrid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ес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+10+1+30=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г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851120" y="3497400"/>
          <a:ext cx="4489200" cy="1218960"/>
        </p:xfrm>
        <a:graphic>
          <a:graphicData uri="http://schemas.openxmlformats.org/drawingml/2006/table">
            <a:tbl>
              <a:tblPr/>
              <a:tblGrid>
                <a:gridCol w="1224000"/>
                <a:gridCol w="576000"/>
                <a:gridCol w="648000"/>
                <a:gridCol w="2041200"/>
              </a:tblGrid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 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5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ив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ес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6(x+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5613120" y="1994400"/>
            <a:ext cx="191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1/x=100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=30*51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=15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твет: 15,3 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Левая фигурная скобка 8"/>
          <p:cNvSpPr/>
          <p:nvPr/>
        </p:nvSpPr>
        <p:spPr>
          <a:xfrm>
            <a:off x="2305080" y="8639280"/>
            <a:ext cx="266760" cy="5047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504720"/>
              <a:gd name="textAreaBottom" fmla="*/ 49788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76"/>
                  <a:pt x="10800" y="951"/>
                </a:cubicBezTo>
                <a:lnTo>
                  <a:pt x="10800" y="9849"/>
                </a:lnTo>
                <a:cubicBezTo>
                  <a:pt x="10800" y="10325"/>
                  <a:pt x="5400" y="10800"/>
                  <a:pt x="0" y="10800"/>
                </a:cubicBezTo>
                <a:cubicBezTo>
                  <a:pt x="5400" y="10800"/>
                  <a:pt x="10800" y="11276"/>
                  <a:pt x="10800" y="11751"/>
                </a:cubicBezTo>
                <a:lnTo>
                  <a:pt x="10800" y="20649"/>
                </a:lnTo>
                <a:cubicBezTo>
                  <a:pt x="10800" y="211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 flipV="1" rot="10800000">
            <a:off x="468360" y="4799520"/>
            <a:ext cx="768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+y=5                                                  0,025x-0,046x=0,046y-0,06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0,025x+0,06y=0,046(x+y)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0,021x=-0,014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0,021x=0,014(5-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0,021x=0,07-0,01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0,035x=0,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X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твет: 2 ли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24000" y="1890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1 ря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1522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25x+0,70y=0,45x+0,45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25x-0,45x=0,45y-0,70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0,20x=-0,25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x=25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/y=25/20=5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Ответ: 5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326560" y="189000"/>
            <a:ext cx="26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2 ря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2779920" y="2905200"/>
            <a:ext cx="26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3 ря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Левая фигурная скобка 13"/>
          <p:cNvSpPr/>
          <p:nvPr/>
        </p:nvSpPr>
        <p:spPr>
          <a:xfrm>
            <a:off x="250920" y="4869000"/>
            <a:ext cx="371520" cy="576000"/>
          </a:xfrm>
          <a:custGeom>
            <a:avLst/>
            <a:gdLst>
              <a:gd name="textAreaLeft" fmla="*/ 237240 w 371520"/>
              <a:gd name="textAreaRight" fmla="*/ 371880 w 371520"/>
              <a:gd name="textAreaTop" fmla="*/ 9360 h 576000"/>
              <a:gd name="textAreaBottom" fmla="*/ 5666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0"/>
                  <a:pt x="10800" y="1160"/>
                </a:cubicBezTo>
                <a:lnTo>
                  <a:pt x="10800" y="9640"/>
                </a:lnTo>
                <a:cubicBezTo>
                  <a:pt x="10800" y="10220"/>
                  <a:pt x="5400" y="10800"/>
                  <a:pt x="0" y="10800"/>
                </a:cubicBezTo>
                <a:cubicBezTo>
                  <a:pt x="5400" y="10800"/>
                  <a:pt x="10800" y="11380"/>
                  <a:pt x="10800" y="11960"/>
                </a:cubicBezTo>
                <a:lnTo>
                  <a:pt x="10800" y="20440"/>
                </a:lnTo>
                <a:cubicBezTo>
                  <a:pt x="10800" y="210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7732800" y="5070600"/>
            <a:ext cx="1420560" cy="174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3"/>
          <a:stretch/>
        </p:blipFill>
        <p:spPr>
          <a:xfrm rot="20451000">
            <a:off x="7462800" y="3290760"/>
            <a:ext cx="825480" cy="129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s://www.syl.ru/misc/i/ai/290531/1593664.jpg"/>
          <p:cNvPicPr/>
          <p:nvPr/>
        </p:nvPicPr>
        <p:blipFill>
          <a:blip r:embed="rId4"/>
          <a:stretch/>
        </p:blipFill>
        <p:spPr>
          <a:xfrm rot="881400">
            <a:off x="8288280" y="3290760"/>
            <a:ext cx="93996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75\Desktop\Рисунок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3" descr=""/>
          <p:cNvPicPr/>
          <p:nvPr/>
        </p:nvPicPr>
        <p:blipFill>
          <a:blip r:embed="rId2"/>
          <a:stretch/>
        </p:blipFill>
        <p:spPr>
          <a:xfrm>
            <a:off x="176040" y="55440"/>
            <a:ext cx="9114120" cy="120672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" descr=""/>
          <p:cNvPicPr/>
          <p:nvPr/>
        </p:nvPicPr>
        <p:blipFill>
          <a:blip r:embed="rId3"/>
          <a:stretch/>
        </p:blipFill>
        <p:spPr>
          <a:xfrm>
            <a:off x="6480" y="1133640"/>
            <a:ext cx="92599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75\Desktop\Рисунок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75\Desktop\Рисунок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06:44:47Z</dcterms:created>
  <dc:creator>Ольга</dc:creator>
  <dc:description/>
  <dc:language>en-US</dc:language>
  <cp:lastModifiedBy>Пользователь</cp:lastModifiedBy>
  <dcterms:modified xsi:type="dcterms:W3CDTF">2017-12-08T00:04:05Z</dcterms:modified>
  <cp:revision>57</cp:revision>
  <dc:subject/>
  <dc:title>Слайд 1</dc:title>
</cp:coreProperties>
</file>