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67B-FFEB-44BA-9706-648AC1DA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22928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B98-F297-4FA9-A64D-2A16B169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639-0768-4016-AD70-296E784A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7C1-4C8E-4F45-9D56-34051A81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F4E8-CFAD-4843-87EA-1984060C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7FD8-8551-4B62-B85F-26C2C713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DF3F-A60B-418D-A120-B7B6F4C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68A1-97E4-4D69-BC38-9E8F2157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1264-48F8-4E89-A9EF-E3C4FDA3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770B-62CD-4F27-8CB4-AC2034F7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C605-DC46-4CD7-BED7-E4EAA0A0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40A-8938-466E-9A39-A763AE50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348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908E-5473-4662-ADEA-DE72B70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BAC-FEAF-4B46-BA0D-DD6A249D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240" y="422928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B397-A3C4-4CA8-8300-CDB7B398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348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F3CC-568B-4FFA-AE2D-49D424D1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24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0880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5720" y="422928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148A-0A11-4BDF-BA7A-368D0B07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961-B811-4D19-97D2-8A3EA7FC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9FA-1CAA-4CB6-A84C-167DC313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74F-B90A-4209-B611-429C52D5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6F1-5799-4ED5-96AC-E9840D82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412-BEB3-4969-9A14-C6F41559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22928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403-6FFA-40E0-A848-BEB2999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361-7ACA-4E69-A961-DFC1B1C6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92DBD-D087-4507-BA19-9489CB2629A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560" cy="1051200"/>
            <a:chOff x="0" y="2438280"/>
            <a:chExt cx="900756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520" y="2546280"/>
              <a:ext cx="709560" cy="473040"/>
              <a:chOff x="290520" y="2546280"/>
              <a:chExt cx="709560" cy="47304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520" y="2546280"/>
                <a:ext cx="436680" cy="4730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3200" y="2546280"/>
                <a:ext cx="32688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360" y="2968560"/>
              <a:ext cx="735120" cy="473040"/>
              <a:chOff x="414360" y="2968560"/>
              <a:chExt cx="735120" cy="47304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360" y="2968560"/>
                <a:ext cx="420840" cy="4730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2640" y="2968560"/>
                <a:ext cx="36684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5480"/>
              <a:ext cx="55872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5040" y="2438280"/>
              <a:ext cx="3024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6080" y="3260520"/>
              <a:ext cx="869148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C56F2C-D77E-4716-986A-460BDC364A1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1"/>
          <p:cNvSpPr txBox="1"/>
          <p:nvPr/>
        </p:nvSpPr>
        <p:spPr>
          <a:xfrm>
            <a:off x="1835280" y="549360"/>
            <a:ext cx="5545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тельская конференция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3" descr="C:\Users\lla\Desktop\slide_1[1].jpg"/>
          <p:cNvPicPr/>
          <p:nvPr/>
        </p:nvPicPr>
        <p:blipFill>
          <a:blip r:embed="rId1"/>
          <a:stretch/>
        </p:blipFill>
        <p:spPr>
          <a:xfrm>
            <a:off x="2050920" y="21272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РУЖ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2017800"/>
            <a:ext cx="86277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доровый ребёнок – успешный ребё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движные игры </a:t>
            </a:r>
            <a:r>
              <a:rPr b="1" lang="ru-RU" sz="2000" spc="-1" strike="noStrike">
                <a:solidFill>
                  <a:srgbClr val="009973"/>
                </a:solidFill>
                <a:latin typeface="Tahoma"/>
              </a:rPr>
              <a:t>Щербакова Лариса Анатоль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ники и умниц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Шахматы </a:t>
            </a:r>
            <a:r>
              <a:rPr b="1" lang="ru-RU" sz="2000" spc="-1" strike="noStrike">
                <a:solidFill>
                  <a:srgbClr val="009973"/>
                </a:solidFill>
                <a:latin typeface="Tahoma"/>
              </a:rPr>
              <a:t>Малков Роман Сергее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олшебный мир кни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ноцветная радуга   </a:t>
            </a:r>
            <a:r>
              <a:rPr b="1" lang="ru-RU" sz="2000" spc="-1" strike="noStrike">
                <a:solidFill>
                  <a:srgbClr val="009973"/>
                </a:solidFill>
                <a:latin typeface="Tahoma"/>
              </a:rPr>
              <a:t>Смирнова Наталья Александ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збука дорожного дви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Школа общения  </a:t>
            </a:r>
            <a:r>
              <a:rPr b="1" lang="ru-RU" sz="2000" spc="-1" strike="noStrike">
                <a:solidFill>
                  <a:srgbClr val="009973"/>
                </a:solidFill>
                <a:latin typeface="Tahoma"/>
              </a:rPr>
              <a:t>Егорова Людмила Владими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рогою доб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Школа развития реч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" descr="C:\Users\lla\Desktop\34558371[1].jpg"/>
          <p:cNvPicPr/>
          <p:nvPr/>
        </p:nvPicPr>
        <p:blipFill>
          <a:blip r:embed="rId1"/>
          <a:stretch/>
        </p:blipFill>
        <p:spPr>
          <a:xfrm>
            <a:off x="6456240" y="-125280"/>
            <a:ext cx="2748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1"/>
          <p:cNvSpPr txBox="1"/>
          <p:nvPr/>
        </p:nvSpPr>
        <p:spPr>
          <a:xfrm>
            <a:off x="1835280" y="2205000"/>
            <a:ext cx="5472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3" descr="C:\Users\lla\Desktop\1.jpg"/>
          <p:cNvPicPr/>
          <p:nvPr/>
        </p:nvPicPr>
        <p:blipFill>
          <a:blip r:embed="rId1"/>
          <a:stretch/>
        </p:blipFill>
        <p:spPr>
          <a:xfrm>
            <a:off x="3132000" y="620640"/>
            <a:ext cx="3961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017800"/>
            <a:ext cx="90741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удности в  адаптации первоклассни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неурочная деятельн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1 класс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2"/>
          <p:cNvSpPr txBox="1"/>
          <p:nvPr/>
        </p:nvSpPr>
        <p:spPr>
          <a:xfrm>
            <a:off x="1763640" y="333360"/>
            <a:ext cx="6048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естка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ГО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DejaVu Sans"/>
              </a:rPr>
              <a:t>Приказ Министерства образования и науки РФ от 26 ноября 2010 года № 1241 «О внесении изменений в федеральный государственный образовательный стандарт начального общего образования, утвержденный приказом Министерства образования и науки РФ от 6 октября 2009 года № 373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№Е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№Е"/>
              </a:rPr>
              <a:t>Основная образовательная программа начального общего образования реализуется образовательным учреждением через урочную и внеурочную деятельность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№Е"/>
              </a:rPr>
              <a:t>«Основная образовательная программа основного общего образования реализуется образовательным учреждением через урочную и внеурочную деятельно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2314440" y="2878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№Е"/>
              </a:rPr>
              <a:t>«Основная образовательная программа основного общего образования реализуется образовательным учреждением через урочную и внеурочную деятельно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ГО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000" y="1989000"/>
            <a:ext cx="8483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DejaVu Sans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DejaVu Sans"/>
              </a:rPr>
              <a:t>Министерство образования и науки РФ от 18 августа 2017 года № 09-1672 «О направлении методических рекомендаций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DejaVu Sans"/>
              </a:rPr>
              <a:t>Внеурочная деятельность является неотъемлемой и обязательной частью ООПНО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DejaVu Sans"/>
              </a:rPr>
              <a:t>Участие во внеурочной деятельности является для обучающихся обязательны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DejaVu Sans"/>
              </a:rPr>
              <a:t>Формы реализации внеурочной деятельности образовательная организация определяет самостоятель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DejaVu Sans"/>
              </a:rPr>
              <a:t>Организация, осуществляющая образовательную деятельность, в установленном ею порядке может осуществлять зачет результатов освоения образовательных программ в других организациях, осуществляющих образовательную деятельнос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№Е"/>
              </a:rPr>
              <a:t>«Основная образовательная программа основного общего образования реализуется образовательным учреждением через урочную и внеурочную деятельно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2314440" y="2878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№Е"/>
              </a:rPr>
              <a:t>«Основная образовательная программа основного общего образования реализуется образовательным учреждением через урочную и внеурочную деятельно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ГО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989000"/>
            <a:ext cx="8483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DejaVu Sans"/>
              </a:rPr>
              <a:t>5. Численность обучающихся внеурочной деятельности должна соответствовать численности обучающихся по основным общеобразовательным программ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№Е"/>
              </a:rPr>
              <a:t>«Основная образовательная программа основного общего образования реализуется образовательным учреждением через урочную и внеурочную деятельно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314440" y="2878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№Е"/>
              </a:rPr>
              <a:t>«Основная образовательная программа основного общего образования реализуется образовательным учреждением через урочную и внеурочную деятельно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DejaVu Sans"/>
              </a:rPr>
              <a:t>Планируемые результаты воспитания и развития учащихся начальной школ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Arial"/>
                <a:ea typeface="DejaVu Sans"/>
              </a:rPr>
              <a:t>Первый уровень результатов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– приобретение школьником социальных знаний (1-й класс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Arial"/>
                <a:ea typeface="DejaVu Sans"/>
              </a:rPr>
              <a:t>Второй уровень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 – получение школьником опыта переживания и позитивного отношения к базовым ценностям обще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(2-3-й клас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Arial"/>
                <a:ea typeface="DejaVu Sans"/>
              </a:rPr>
              <a:t>Третий уровень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получение школьником опыта самостоятельного общественного действия (4-й класс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WordArt 2"/>
          <p:cNvSpPr txBox="1"/>
          <p:nvPr/>
        </p:nvSpPr>
        <p:spPr>
          <a:xfrm>
            <a:off x="2268360" y="692280"/>
            <a:ext cx="525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равления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6" descr="http://fs1.ppt4web.ru/images/3258/55376/640/img13.jpg"/>
          <p:cNvPicPr/>
          <p:nvPr/>
        </p:nvPicPr>
        <p:blipFill>
          <a:blip r:embed="rId1"/>
          <a:stretch/>
        </p:blipFill>
        <p:spPr>
          <a:xfrm>
            <a:off x="1849320" y="1844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ГО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2240" y="2017800"/>
            <a:ext cx="77691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ормы организации образовательного процесса,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чередование учебной и внеурочной деятельност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рамках реализации основной образовательной программы начального общего образования определяет образовательное учрежд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058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WordArt 2"/>
          <p:cNvSpPr txBox="1"/>
          <p:nvPr/>
        </p:nvSpPr>
        <p:spPr>
          <a:xfrm>
            <a:off x="1835280" y="476280"/>
            <a:ext cx="5905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жим работы в 1 классе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06720" y="2346480"/>
          <a:ext cx="5921280" cy="3576600"/>
        </p:xfrm>
        <a:graphic>
          <a:graphicData uri="http://schemas.openxmlformats.org/drawingml/2006/table">
            <a:tbl>
              <a:tblPr/>
              <a:tblGrid>
                <a:gridCol w="2901960"/>
                <a:gridCol w="2895480"/>
                <a:gridCol w="123840"/>
              </a:tblGrid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у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:00 – 8: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у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:55 – 9: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ческая пау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:30– 10: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у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:10 – 10: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у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:05 – 11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у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:50 – 12: 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:40 – 12: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еуроч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ня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:20 – 12: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заня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:05 – 13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урок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:25  - 13: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еуроч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ня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:05 – 13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заня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:50 – 14: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38:12Z</dcterms:created>
  <dc:creator>ххх</dc:creator>
  <dc:description/>
  <dc:language>en-US</dc:language>
  <cp:lastModifiedBy>Левина Лариса Анатольевна</cp:lastModifiedBy>
  <dcterms:modified xsi:type="dcterms:W3CDTF">2017-10-30T10:59:51Z</dcterms:modified>
  <cp:revision>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