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1A8-3A03-4F9C-A7CB-A85D74EE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DB0-8B8E-45D6-9772-AF82D480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FF8-FCD1-4110-AE01-7F3C4A32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3F7-3C73-426A-83F9-18A93140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B3BC-FEBB-4D14-B8E1-681B698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880-74B0-402E-BCC6-0783BD79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A9B-B917-41FD-BE0E-33AF86C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48BA-6A40-4E45-9704-34F2877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755-4B0F-451D-8274-129BCE2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BF04-8857-47C0-BF90-E96B5B0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A74B-C67C-4B1E-A9CE-EFD17A5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BB8-3536-42A6-A339-946CAD6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1DA-4457-45BE-B4ED-225D370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726-C7CB-421A-BFFE-8BD021A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5DF-25F5-4DF4-8B41-2C00D15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CDF-0706-404B-8382-2CAAB1D4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B82C-1153-4E17-8C35-6AE91D21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684-4DAD-4487-9D78-6ADA830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033-CBF5-4124-9695-CC9821E5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62A-94C0-4E48-AE5B-044B1215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471-8551-4136-877A-1EA71D9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792-11E0-49EC-8505-E875C68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023-6855-46BC-99C1-3CC7CFC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CFE-6F8F-44DF-9A18-1AE5087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E13-BBE6-43C8-BF86-71CAD2A88A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EA8-0E3B-41FD-B43C-AA44B289A3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рганизационное родительское собрание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8000" y="3933360"/>
            <a:ext cx="6858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ченкина Елена Александ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, классный 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ОУ «СОШ ст. Евси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ость и общительност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ребенок видит кроме школы, тем самостоятельнее он становится. Он перестает стесняться, становится более общительным и приветливым и чувствует себя намного увере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контролировать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это ни странно, но чем меньше у ребенка свободного времени, тем лучше он с ним обра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он становится более сосредоточенным, умеет сконцентрироваться, когда это необходимо, а потом также быстро расслаб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85880" y="1643040"/>
          <a:ext cx="7929360" cy="4361040"/>
        </p:xfrm>
        <a:graphic>
          <a:graphicData uri="http://schemas.openxmlformats.org/drawingml/2006/table">
            <a:tbl>
              <a:tblPr/>
              <a:tblGrid>
                <a:gridCol w="947520"/>
                <a:gridCol w="4338720"/>
                <a:gridCol w="2643120"/>
              </a:tblGrid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уб любителей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ута  А.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0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матный  всеоб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манаев В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6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е исследования вокруг ме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аренко Ю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те С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с-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никова Т.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0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алёва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ительск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жникова-Моисеева В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- выбор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42848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уб любителей слова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хматный  всеобуч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ческие исследования вокруг меня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ьное телевидение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сс-центр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ормительское искусство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утбол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ёгкая атлетика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узыкальная школа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 - выб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кружков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кружка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 кружок -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 одного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ачи на 2015-16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ответственности и обяза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сознатель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олерантности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лера́нт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социологический термин, обозначающий терпимость к иному мировоззрению, образу жизни, поведению и обычая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привычки доводить начатое дело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учащим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Е заполнение днев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РЕМЯ приходить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ПАЗДЫВАТЬ на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ПУСКАТЬ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быть ГОТОВЫМ к каждому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ДИСЦИПЛИНЫ 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едение дневников считается обязательным для каждого обучающегося, начиная со 2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каз 31.08. 2015 «О режиме работы МКОУ «СОШ ст. Евсино» в 2015- 2016 учебном 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ункции домашнего зад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знаний и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знаний, умений и навыков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учащихся, желание знать как можно больше по предмету или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жим работы на 2015-1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 и его роль в самообразовании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я помочь, не пытайтесь сделать работу за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ТЕ ему найти смысл задания, НАПРАВЬТЕ его на нужное решение, помогите найти нужную информацию, не отмахивайтесь от вопросов, НАУЧИТЕ как можно работать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легчить своему ребенку выполнение домашних заданий, покупайте ему словари, энциклопедии, справочные пособия, справочники на информационных носителях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 реше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йте ситуацию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яйте упорство ребенка в достижении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жим работы на 2015-16 учебный год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учебного года – 35 уч. не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етверть – 01.09 – 01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етверть – 09.11 -  2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етверть – 11.01 – 20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четверть – 30.03 – 29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жим работы на 2015-16 учебный год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икулы: осенние – 2.11 – 8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ние – 28.12 – 1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нние – 21.03 – 29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ние – с 30. 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жим работы на 2015-16 учебный год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85920" y="1571760"/>
          <a:ext cx="7215120" cy="4809960"/>
        </p:xfrm>
        <a:graphic>
          <a:graphicData uri="http://schemas.openxmlformats.org/drawingml/2006/table">
            <a:tbl>
              <a:tblPr/>
              <a:tblGrid>
                <a:gridCol w="1803240"/>
                <a:gridCol w="1805040"/>
                <a:gridCol w="1803600"/>
                <a:gridCol w="180324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ин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авт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ин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б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385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1571400"/>
            <a:ext cx="8186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тельным элементом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федеральных государственных образовательных стандарт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наличие внеурочной деятельност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урочная деятельность также, как и деятельность обучающихся в рамках уроков, направлена на достижение результатов освоения основной образовательной программы, но при этом реализуется в формах, отличных от урочных на основании запросов обучающихся, выбора их родителей (законных представителей), а также с учетом имеющихся кадровых, материально-технических и иных услов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й из форм организации внеурочной деятельности является, в том числе, и кружковая рабо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56800" y="1500120"/>
            <a:ext cx="77583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мещение приятного с полез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занятия — это игра и смена деятельности. Ребенок может выбрать то, что ему действительно интересно, раскрыть свой потенциал и открыть новые тала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неурочные заняти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на круга общения и расширение кругозор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Дети приходят в различные кружки в соответствии со своими интересами, а значит, там намного проще найти друзей с родственными душ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ребёнка намного меньше шансов попасть в плохую компанию и делать от скуки разные глуп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5:25Z</dcterms:created>
  <dc:creator>Ученик</dc:creator>
  <dc:description/>
  <dc:language>en-US</dc:language>
  <cp:lastModifiedBy>User</cp:lastModifiedBy>
  <dcterms:modified xsi:type="dcterms:W3CDTF">2017-12-21T09:22:24Z</dcterms:modified>
  <cp:revision>21</cp:revision>
  <dc:subject/>
  <dc:title>Родительское собрание</dc:title>
</cp:coreProperties>
</file>