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7F0-4FA0-4787-851B-769CEC64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0B4-953F-4F65-8747-6FD08162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D01-9DFE-4C93-900E-9BA41AF9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600-F603-45AA-B5BD-EC4C93AB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FF13-69F5-482F-9A40-C96B7946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F390-9113-428C-8E1A-84739D7C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92EF-5A1A-437F-80A1-A0A52FEF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BB34-DBC5-49DA-8DE5-739ACA1C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DD13-68B9-44C3-A911-E3175E9B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0A69-BFC9-4158-9648-5971FA1C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FBFB-95D7-4CB0-B040-2567FA6D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FBB-945A-4388-995A-7EF52F2C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7AA0-962F-4114-91B9-D9EC8BB7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95BD-7CE5-49C6-BEF8-14EAD19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C00D-D1ED-4B45-94C4-B630539B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815C-40C4-4B17-8459-8ACE38F1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7817-7E93-4C92-8F71-3E5EED52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B8D-9CFA-4B32-93B3-1BDD16DF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A2E-CF8C-4704-8855-2A691A2F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2E0-3DA1-4CDC-BC9F-2DC1F389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A63-7A43-4782-BA57-995CE2B1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BF4-36ED-499F-9F5E-4D1453DB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4B9-7C0E-43EB-BADB-8D1E7AB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39D-1094-4543-BAA6-D8552D42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9E12-286B-4387-9452-67B2A5AACE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F802-6400-443B-8BD6-3C9E82479CD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m.wikipedia.org/wiki/&#1052;&#1094;&#1099;&#1088;&#1080;" TargetMode="External"/><Relationship Id="rId2" Type="http://schemas.openxmlformats.org/officeDocument/2006/relationships/hyperlink" Target="http://ru.m.wikipedia.org/wiki/&#1052;&#1094;&#1099;&#1088;&#1080;" TargetMode="External"/><Relationship Id="rId3" Type="http://schemas.openxmlformats.org/officeDocument/2006/relationships/hyperlink" Target="http://ru.m.wikipedia.org/wiki/&#1052;&#1094;&#1099;&#1088;&#1080;" TargetMode="External"/><Relationship Id="rId4" Type="http://schemas.openxmlformats.org/officeDocument/2006/relationships/hyperlink" Target="http://ru.m.wikipedia.org/wiki/&#1052;&#1094;&#1099;&#1088;&#1080;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58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Центр АРТ- образования, Всероссийский конкурс «Гордость Отчизны»: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 Юбилейные даты России в 2015 году(история и культура)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резентация к уроку по литературе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«Я долго жил, и жил в плену» (к 175-летию произведения М.Ю.Лермонтова «Мцыри»)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Рябинина Алёна Михайловна, учитель русского языка и литературы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Вильданова Эльмира, 7 Б класс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Муниципальное бюджетное общеобразовательное учреждение «Средняя общеобразовательная русско-татарская школа №111»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Республика Татарстан, г.Казань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 advTm="12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4103640" cy="3085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51280" y="3716280"/>
            <a:ext cx="475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основе поэмы — трагическая истор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льчика-горца, который был пленё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сским генералом. Тот повёз его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бой, но дорогой ребёнок заболе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нахи ближайшего монастыря пожал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ленького пленника и оставили ж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обители, где он и выро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5040360" cy="3786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674800" y="4508640"/>
            <a:ext cx="360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много лет тому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м, где, сливаяся, шум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нявшись, будто две сестр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руи Арагвы и Кур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л монастыр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3527280" cy="488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352764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51120" y="5157720"/>
            <a:ext cx="351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в час ночной, ужасный ча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гроза пугала ва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, столпясь при алтар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ниц лежали на земл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убежал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148360" y="1284120"/>
            <a:ext cx="37447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ушные кельи, атмосфер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олного смирения, умиротвореннос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ишины и покоя, кротость — это т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ротив чего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осстает герой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О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ищет жизни, полной тревог и борьб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е случайно, вспоминая отечеств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юноша вспоминает блеск кинжа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Жажда борения позволяет ем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редставлять себя настоящим удальцо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Но нынче я уверен в том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Что быть бы мог в краю отц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Не из последних удальц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3389400" cy="49672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48000" y="304560"/>
            <a:ext cx="34621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Он бежит из монастыря, потому что свободная душа юноши бунтует не столько против чуждой ему цивилизации, сколько против того, что ему навязано. Вот почему Мцыри воспринимает монастырь как тюрьму. Бегство оттуда — это порыв к свободе и попытка узнать жизнь, обрести самого себя. Три дня на воле символически воссоздают всю полноту жизни: «Ты хочешь знать, что делал я / На воле? Жил...»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908600" cy="33544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87840" y="1211400"/>
            <a:ext cx="311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стоящая жизнь для Мцыри 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преодоление препятств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чная гармония не для не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ен монастыря ненавистен геро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Я мало жил, и жил в пле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Таких две жизни за одн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Но только полную тревог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Я променял бы, если б мог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4038480" cy="5359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51480" y="492120"/>
            <a:ext cx="4124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свободе Мцыри был вс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и дня. Но эти три дня приобрет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него особое значение. Казало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ы он так мало увидел в столь короткий ср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видит картины могучей кавказской природы, прекрасную грузинку, наполняющую у потока кувшин вод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наконец, беспощадно сраж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могучим барсом. Все эти события 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охотные эпизоды, но впечат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кое что это человек проживает целую жиз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13280" cy="52452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76720" y="476280"/>
            <a:ext cx="302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раз монастыря в поэме — это символ действительности, враждеб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родной естественности и простоте, которой противодейству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цыри. Позиция Лермонтова определяется утверждением, 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природе человека — залог возможной гармонии, между тем как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стве, напротив, — источник дисгармо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813120" cy="5040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932360" y="1052640"/>
            <a:ext cx="345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деальная среда для Мцыри 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где люди вольны, как орл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обода — это еще одна жизне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нность героя. Юноша име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аменное сердце и тоскует 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стоящим человеческим страстя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му хочется познать любов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нависть, живое биение взволнован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ерд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181400" cy="53737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331488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219640" y="620640"/>
            <a:ext cx="326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чительное влияние на поэ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казал и грузинский фолькл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вказский материал в поэме насыщ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льклорными мотивами. Та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альный эпизод «Мцыри» — би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оя с барсом — основан на мотив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узинской народной поэзии, в частности хевсурской песни о тигре и юноше, тема которой наш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жение и в поэме Шота Рустав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Витязь в тигровой шку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61440" y="206064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ихаил Юрьевич Лермо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814-18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87640" y="4508640"/>
            <a:ext cx="586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Никогда никакая повесть    не производила на ме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оль сильного впечатления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М.Ю.Лермонтов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056120" cy="3990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19120" y="4379760"/>
            <a:ext cx="81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ульминацией поэмы является битва героя с барсом, где оба — человек и зверь — становятся равноправны­ми бойцами. Но и оба они встречают смер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к намечается грань разрыва, которая, углубляясь, показывает закономерность гибели Мцыри. Природа как будто мстит ему за то, что он отдалился от н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а заманивает в чащу, сталкивает с барсом, а потом нещадно палит зноем израненное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23840" y="430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0" y="4437000"/>
            <a:ext cx="90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обое место в поэме отведено природе. Она здесь не только живопис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он, но и действенная сила, заключающая в себе грозную опасность. И в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е время она приносит радость своей неповторимой красотой, ди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льностью, позволяет герою в полной мере проявить себя. В ней — велич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красота, которые отсутствуют в человеческом обще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824360" cy="3506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796000" y="260280"/>
            <a:ext cx="2287440" cy="35704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3665520" cy="4321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928400" y="563400"/>
            <a:ext cx="3859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, заслужил я жребий мо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гучий конь, в степи чуж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охого сбросив седо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родину издал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йдёт прямой и краткий путь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я пред ним?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мне печать свою тюрь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тавил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два взошла зар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лящий луч её обж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тюрьме воспитанный цветок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0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Давным-давно задумал я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Взглянуть на дальние поля.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Узнать, прекрасна ли земля,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Узнать, для воли иль тюрьмы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На этот свет родимся мы..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И теперь становится понятным сам смысл эпиграфа к поэме " Мцыри" (" Вкушая, вкусих мало меда, и се аз умираю"), взятый поэтом из церковной книги (Библии) и означающий: " Я попробовал немного меду (т. е. свободы), и вот я умираю". Смысл эпиграфа обобщенно выражает романтически окрашенную судьбу героя, который в своей жизни испытал немного радостей от обретенной свободы — всего три дня, суровых, полных опасностей, но сладостных и счастливых. И нет у него впереди больше ничего — только смерть..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Когда я стану умирать,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И, верь, тебе не долго ждать,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Ты перенесть меня вели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В наш сад, в то место, где цвели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Акаций белых два куста...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Там положить вели меня.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Сияньем голубого дня 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Упьюся я в последний раз.</a:t>
            </a:r>
            <a:br>
              <a:rPr sz="1400"/>
            </a:br>
            <a:r>
              <a:rPr b="1" lang="ru-RU" sz="1400" spc="-1" strike="noStrike">
                <a:solidFill>
                  <a:srgbClr val="eaeaea"/>
                </a:solidFill>
                <a:latin typeface="Tahoma"/>
              </a:rPr>
              <a:t>Оттуда виден и Кавказ! — его родина несбыточной мечты и упоения.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 advTm="12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Белинский пишет о поэме: «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Во всем, что ни говорит Мцыри, веет его собственным духом, поражает его собственной мощью»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 advTm="12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1916280"/>
            <a:ext cx="72360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исок использованной литерату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дроников И.Л. Лермонтов. Исследования и находк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, 19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Белинский В.Г. М.Ю.Лермонтов. Статьи и рецензии. Л., 19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М.Ю.Лермонтов в воспоминаниях современников. М., 19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Лермонтовская энциклопедия. М., 19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: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//ru.m.wikipedia.org/wiki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Мцы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/ lermontov. info/ refera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. http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/ Lit-helper. 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. http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/ M.fb.ru/article-164087/mtsyiri-istoriya-sozdani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304920"/>
            <a:ext cx="76388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«Мцы́ри» — романтическая  поэма М. Ю. Лермонтова,  написанная в 1839 году и опубликованная (с цензурными пропусками) в 1840 году в единственном прижизненном издании поэта — сборнике «Стихотворения М. Лермонтова». Она относится к поздним кавказским поэмам Лермонтова и считается одним из последних классических образцов русской     романтической поэзии.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 advTm="12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568680" cy="6048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84720" y="549360"/>
            <a:ext cx="4448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сланный весной 1837 года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вказ, Лермонтов проезжал по Военно-Грузинской дороге. Близ станции Мцхеты, под Тифлисом, существовал некогда монастырь. Здесь встретил поэт бродившего среди развалин и могильных плит дряхлого старика. Это был монах-горец. Старик рассказал Лермонтову, как ещё ребенком был взят в плен русскими и отдан на воспитание в этот монастыр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н вспоминал, как тосковал тогда по родине, как мечтал вернуться домой. Но постепенно свыкся со своей тюрьмой, втянулся в однообразную монастырскую жизнь и стал монахом. Рассказ старика, который в юности был в мцхетском монастыре послушником, или по-грузински «мцыри», отвечал собственны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ыслям Лермонтова, которые он вынаши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ного-много ле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680000" cy="3773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64680" y="1762200"/>
            <a:ext cx="312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полагаемое ме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речи Лермонтова 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ахом на Воен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зинской дороге 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цх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83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оэма – лирико-эпический жанр, повествовательное произведение с ярко выраженной лирической оценкой того, о чём повествуется.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 advTm="12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В грузинском языке слово «мцыри» (груз.  </a:t>
            </a:r>
            <a:r>
              <a:rPr b="1" lang="ka-GE" sz="2400" spc="-1" strike="noStrike">
                <a:solidFill>
                  <a:srgbClr val="eaeaea"/>
                </a:solidFill>
                <a:latin typeface="Tahoma"/>
              </a:rPr>
              <a:t>მწირი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) имеет двойное значение: в первом — «послушник», «неслужащий монах», а во втором — «пришелец», «чужеземец», прибывший добровольно или привезённый насильственно из чужих краев, одинокий человек, не имеющий родственников, близких.</a:t>
            </a: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 advTm="12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В начале поэма носила название «Бэри» с примечанием: «Бэри, по-грузински монах». Эпиграф к произведению тоже был другим. Изначально он гласил: «On n’a qu’une seule patrie» («У каждого есть только одно отечество»), но позже был изменён Лермонтовым на строки из 14 главы 1-й Книги царств:«Вкушая вкусих мало меда, и се аз умираю».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Это библейское изречение несёт в себе символическое значение нарушения 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 advTm="12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5904000" cy="323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12160" y="407664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астырь Джва́ри, где (предположительно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дят все основные события поэ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5:13:58Z</dcterms:created>
  <dc:creator>Admin</dc:creator>
  <dc:description/>
  <dc:language>en-US</dc:language>
  <cp:lastModifiedBy>Admin</cp:lastModifiedBy>
  <dcterms:modified xsi:type="dcterms:W3CDTF">2015-03-04T14:52:28Z</dcterms:modified>
  <cp:revision>6</cp:revision>
  <dc:subject/>
  <dc:title>Слайд 1</dc:title>
</cp:coreProperties>
</file>