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6.png" ContentType="image/png"/>
  <Override PartName="/ppt/media/image7.png" ContentType="image/png"/>
  <Override PartName="/ppt/media/image12.png" ContentType="image/png"/>
  <Override PartName="/ppt/media/image9.jpeg" ContentType="image/jpeg"/>
  <Override PartName="/ppt/media/image10.jpeg" ContentType="image/jpe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C7351-1E21-4787-A307-EC4CE4B4354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C456E-1F1D-46E4-9CC8-3DA0024A8B1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56C0E-D73F-4DD7-9D02-6C826475A8A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B8A95-08BB-44AD-94ED-740A15483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48E59-0A50-40D2-81B2-74FF85669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1C260-2628-492B-9FF1-B93DB73BD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4F517-7132-4A1A-97CF-A7263452C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16DBE-3C2E-4644-ACFB-B5060F4A8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518BD-318E-49F6-8B23-E6A4059D7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9D132-B957-49E3-9F6D-C1488BAEF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A4C87-B6CB-48E2-8B77-4CAD1B0A3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E1CD5-7174-4ABD-97E7-32E694CAC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9D2BA-CA80-47BF-97D2-A76125769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2A370-E5A0-402E-842F-1A5284A59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05C8C-6E27-483E-A215-4B1BACBC3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111A5-6CBE-4134-B2EB-63C55F7B06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jpeg"/><Relationship Id="rId3" Type="http://schemas.openxmlformats.org/officeDocument/2006/relationships/image" Target="../media/image5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расивые китайские фонарик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расивые китайские фонарики, кружась в танце падают на землю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Box 1"/>
          <p:cNvSpPr/>
          <p:nvPr/>
        </p:nvSpPr>
        <p:spPr>
          <a:xfrm>
            <a:off x="2627280" y="333360"/>
            <a:ext cx="5473800" cy="1944360"/>
          </a:xfrm>
          <a:prstGeom prst="flowChartAlternateProcess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моего цветка берёт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чёлка самый вкусный мёд.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меня всё ж обижают,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курку тонкую сдирают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Скругленный прямоугольник 2"/>
          <p:cNvSpPr/>
          <p:nvPr/>
        </p:nvSpPr>
        <p:spPr>
          <a:xfrm>
            <a:off x="611280" y="2637000"/>
            <a:ext cx="5113080" cy="396072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stretch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2" descr="http://pics.livejournal.com/piccat/pic/0000aha5/s640x480"/>
          <p:cNvPicPr/>
          <p:nvPr/>
        </p:nvPicPr>
        <p:blipFill>
          <a:blip r:embed="rId3"/>
          <a:stretch/>
        </p:blipFill>
        <p:spPr>
          <a:xfrm>
            <a:off x="5796000" y="2565360"/>
            <a:ext cx="334800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Листья липы похожи на маленькие сердечки, монетки, пятачк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Кружатся на ветру разноцветные сердечки лип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Словно монетки осыпаются под ноги желтые листочки лип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http://pics.livejournal.com/piccat/pic/00009ggb/s640x480"/>
          <p:cNvPicPr/>
          <p:nvPr/>
        </p:nvPicPr>
        <p:blipFill>
          <a:blip r:embed="rId2"/>
          <a:stretch/>
        </p:blipFill>
        <p:spPr>
          <a:xfrm rot="18522600">
            <a:off x="5859360" y="-169920"/>
            <a:ext cx="2676600" cy="40323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" descr="http://pics.livejournal.com/piccat/pic/000067rp/s640x480"/>
          <p:cNvPicPr/>
          <p:nvPr/>
        </p:nvPicPr>
        <p:blipFill>
          <a:blip r:embed="rId3"/>
          <a:stretch/>
        </p:blipFill>
        <p:spPr>
          <a:xfrm>
            <a:off x="539640" y="0"/>
            <a:ext cx="3865680" cy="35002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" descr="C:\Users\Helen\Desktop\Новая папка (3)\list-osina-osen-101.jpg"/>
          <p:cNvPicPr/>
          <p:nvPr/>
        </p:nvPicPr>
        <p:blipFill>
          <a:blip r:embed="rId4"/>
          <a:srcRect l="16126" t="5000" r="11290" b="17861"/>
          <a:stretch/>
        </p:blipFill>
        <p:spPr>
          <a:xfrm rot="2156400">
            <a:off x="4067280" y="2205000"/>
            <a:ext cx="1512720" cy="23036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" descr="http://pics.livejournal.com/piccat/pic/0000aha5/s640x480"/>
          <p:cNvPicPr/>
          <p:nvPr/>
        </p:nvPicPr>
        <p:blipFill>
          <a:blip r:embed="rId5"/>
          <a:stretch/>
        </p:blipFill>
        <p:spPr>
          <a:xfrm>
            <a:off x="5292720" y="3438360"/>
            <a:ext cx="3440160" cy="34196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" descr="D:\клипарты\осень\899e400b5ce2.png"/>
          <p:cNvPicPr/>
          <p:nvPr/>
        </p:nvPicPr>
        <p:blipFill>
          <a:blip r:embed="rId6"/>
          <a:stretch/>
        </p:blipFill>
        <p:spPr>
          <a:xfrm>
            <a:off x="900000" y="3429000"/>
            <a:ext cx="3095640" cy="321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Box 1"/>
          <p:cNvSpPr/>
          <p:nvPr/>
        </p:nvSpPr>
        <p:spPr>
          <a:xfrm>
            <a:off x="2627280" y="404640"/>
            <a:ext cx="4753080" cy="2404800"/>
          </a:xfrm>
          <a:prstGeom prst="flowChartAlternateProcess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из крошки-бочки вылез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ешки пустил и вырос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л высок я и могуч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боюсь ни гроз, ни ту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"/>
          <p:cNvPicPr/>
          <p:nvPr/>
        </p:nvPicPr>
        <p:blipFill>
          <a:blip r:embed="rId2"/>
          <a:stretch/>
        </p:blipFill>
        <p:spPr>
          <a:xfrm>
            <a:off x="1332000" y="2997360"/>
            <a:ext cx="3647880" cy="2735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5" name="Picture 2" descr="http://pics.livejournal.com/piccat/pic/000067rp/s640x480"/>
          <p:cNvPicPr/>
          <p:nvPr/>
        </p:nvPicPr>
        <p:blipFill>
          <a:blip r:embed="rId3"/>
          <a:stretch/>
        </p:blipFill>
        <p:spPr>
          <a:xfrm>
            <a:off x="5724360" y="3068640"/>
            <a:ext cx="302112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Медные, кирпичные, бурые, коричневые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Могучий старый дуб расстается со своей листвой без жалост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Он отпускает их как корабли в свободное плавани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Box 1"/>
          <p:cNvSpPr/>
          <p:nvPr/>
        </p:nvSpPr>
        <p:spPr>
          <a:xfrm>
            <a:off x="2627280" y="404640"/>
            <a:ext cx="4753080" cy="1944360"/>
          </a:xfrm>
          <a:prstGeom prst="flowChartAlternateProcess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оит Алён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ток зелёны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нкий стан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лый сарафа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"/>
          <p:cNvPicPr/>
          <p:nvPr/>
        </p:nvPicPr>
        <p:blipFill>
          <a:blip r:embed="rId2"/>
          <a:stretch/>
        </p:blipFill>
        <p:spPr>
          <a:xfrm>
            <a:off x="2627280" y="115920"/>
            <a:ext cx="4835520" cy="64562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" descr="http://pics.livejournal.com/piccat/pic/00009ggb/s640x480"/>
          <p:cNvPicPr/>
          <p:nvPr/>
        </p:nvPicPr>
        <p:blipFill>
          <a:blip r:embed="rId3"/>
          <a:stretch/>
        </p:blipFill>
        <p:spPr>
          <a:xfrm>
            <a:off x="219240" y="1622520"/>
            <a:ext cx="2676240" cy="40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Края у листьев березы резные, а лист похож на сердечко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Кружатся, летят, сыплются, вьются, парят в воздухе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Сыплются, словно золотой дождик, резные листочки кудрявой берез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Ярко-желтые с резным краем листья белоствольной березы парят в воздух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Box 1"/>
          <p:cNvSpPr/>
          <p:nvPr/>
        </p:nvSpPr>
        <p:spPr>
          <a:xfrm>
            <a:off x="1258920" y="549360"/>
            <a:ext cx="7705800" cy="3786840"/>
          </a:xfrm>
          <a:prstGeom prst="flowChartAlternateProcess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 встречает самым первым осени прихо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ужит в воздухе весёл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стьев хорово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емлю быстро укрыва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олотым ковром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сть родная засыпа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лгим зимним сн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3" descr=""/>
          <p:cNvPicPr/>
          <p:nvPr/>
        </p:nvPicPr>
        <p:blipFill>
          <a:blip r:embed="rId2"/>
          <a:stretch/>
        </p:blipFill>
        <p:spPr>
          <a:xfrm>
            <a:off x="468360" y="260280"/>
            <a:ext cx="8496360" cy="63579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3" descr="D:\клипарты\осень\899e400b5ce2.png"/>
          <p:cNvPicPr/>
          <p:nvPr/>
        </p:nvPicPr>
        <p:blipFill>
          <a:blip r:embed="rId3"/>
          <a:stretch/>
        </p:blipFill>
        <p:spPr>
          <a:xfrm>
            <a:off x="6048360" y="333360"/>
            <a:ext cx="3095640" cy="321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Они крупны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Большие, тяжелые, огромны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На звезды, на ладошки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Медленно опускаются на землю тяжелые листья клен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Плавно и не торопясь, летят к земле огромные кленовые листь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Оранжевые звезды кленовых листьев плавно опускаются на землю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Box 1"/>
          <p:cNvSpPr/>
          <p:nvPr/>
        </p:nvSpPr>
        <p:spPr>
          <a:xfrm>
            <a:off x="2627280" y="549360"/>
            <a:ext cx="5473800" cy="1022760"/>
          </a:xfrm>
          <a:prstGeom prst="flowChartAlternateProcess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кто не пугает, а вся дрожи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2" descr=""/>
          <p:cNvPicPr/>
          <p:nvPr/>
        </p:nvPicPr>
        <p:blipFill>
          <a:blip r:embed="rId2"/>
          <a:stretch/>
        </p:blipFill>
        <p:spPr>
          <a:xfrm>
            <a:off x="900000" y="1557360"/>
            <a:ext cx="3571920" cy="47624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" descr="C:\Users\Helen\Desktop\Новая папка (3)\list-osina-osen-101.jpg"/>
          <p:cNvPicPr/>
          <p:nvPr/>
        </p:nvPicPr>
        <p:blipFill>
          <a:blip r:embed="rId3"/>
          <a:srcRect l="16126" t="5000" r="11290" b="17861"/>
          <a:stretch/>
        </p:blipFill>
        <p:spPr>
          <a:xfrm rot="2332800">
            <a:off x="6070320" y="3370320"/>
            <a:ext cx="2208240" cy="35352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C:\Users\Helen\Desktop\Новая папка (3)\осина.jpg"/>
          <p:cNvPicPr/>
          <p:nvPr/>
        </p:nvPicPr>
        <p:blipFill>
          <a:blip r:embed="rId4"/>
          <a:srcRect l="0" t="0" r="0" b="5105"/>
          <a:stretch/>
        </p:blipFill>
        <p:spPr>
          <a:xfrm>
            <a:off x="4788000" y="1268280"/>
            <a:ext cx="262404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6T19:17:29Z</dcterms:created>
  <dc:creator>User</dc:creator>
  <dc:description/>
  <dc:language>en-US</dc:language>
  <cp:lastModifiedBy>SERG</cp:lastModifiedBy>
  <dcterms:modified xsi:type="dcterms:W3CDTF">2014-10-08T20:38:54Z</dcterms:modified>
  <cp:revision>28</cp:revision>
  <dc:subject/>
  <dc:title>Слайд 1</dc:title>
</cp:coreProperties>
</file>