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0E07-14FA-411D-B053-6F1843EE58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DAD1-9C44-43AB-B87D-1B3B5AE9E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CD89-CDDB-469C-BC35-3D82BA24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4DEC-3816-454A-8B48-A1B49BF59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29DF-52BD-4765-9AFE-7C01D7FFC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D9BC-1997-4CFF-A5D7-CA39EAB6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DA18-0335-4814-B651-23D9BDEC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183F-F0C9-4451-BA3C-7EE96202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D181-D45E-4F6A-A781-C10F6D29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8926-C82C-4B65-8FA9-CB40C2E5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780A-0DBE-4741-ACA8-429F80D4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4580-0D2A-4020-A4C9-95A7A684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A438-326B-4651-930F-AF282F9B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EB36-F00B-48C4-A5E1-A251606AE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6629400" cy="5410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228600"/>
            <a:ext cx="8534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В Африке акулы, в Африке гориллы, в Африке большие злые крокодилы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                                                    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К.И. Чуков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773920" y="34513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71440" y="2743200"/>
            <a:ext cx="2514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Афр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80520" y="304920"/>
            <a:ext cx="4038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осорог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не слишком дружелюбны. Этих животных легко узнать по двум рогам – большому и маленькому. После еды носорог отдыхает где-нибудь в тени, укрывшись от палящего солнца. Ему также нравится поваляться в грязи – так животное защищается от укусов насеком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800240" y="228600"/>
            <a:ext cx="3886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иппопота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или бегемот) в переводе означает «речная лошадь». Почти всё время бегемот проводит в озере или в реке. Часто  на поверхности остаются видны лишь ноздри и глаза. Это огромное млекопитающее весом свыше трёх тонн может переходить реку по д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48320" y="2819520"/>
            <a:ext cx="426708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afrika zhivotnye savanny 7 Африка. Животные Африки: Животные Саванны"/>
          <p:cNvPicPr/>
          <p:nvPr/>
        </p:nvPicPr>
        <p:blipFill>
          <a:blip r:embed="rId2"/>
          <a:stretch/>
        </p:blipFill>
        <p:spPr>
          <a:xfrm>
            <a:off x="457200" y="2743200"/>
            <a:ext cx="41148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фриканский крокоди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198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рокодил – это крупное пресноводное пресмыкающееся, или рептилия. И вдобавок очень опасное. С виду сонный крокодил молнией бросается на жертв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afrika zhivotnye savanny 4 Африка. Животные Африки: Животные Саванны"/>
          <p:cNvPicPr/>
          <p:nvPr/>
        </p:nvPicPr>
        <p:blipFill>
          <a:blip r:embed="rId1"/>
          <a:stretch/>
        </p:blipFill>
        <p:spPr>
          <a:xfrm>
            <a:off x="2666880" y="1752480"/>
            <a:ext cx="60962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533520" y="30492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рау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самая крупная птица в мире: самец может быть больше человека. Летать он не умеет, однако очень быстро бегает, а напавшего противника бьет клю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723920" y="228240"/>
            <a:ext cx="40388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зовый фламинго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онии розовых фламинго заселяют берега африканских озёр, крупные птицы, черпают клювом воду и отфильтровывают съедобные водоросли. Содержащийся в этих водорослях пигмент и придаёт оперению птиц такую яркую окраску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afrika zhivotnye savanny 1 Африка. Животные Африки: Животные Саванны"/>
          <p:cNvPicPr/>
          <p:nvPr/>
        </p:nvPicPr>
        <p:blipFill>
          <a:blip r:embed="rId1"/>
          <a:stretch/>
        </p:blipFill>
        <p:spPr>
          <a:xfrm>
            <a:off x="5029200" y="2819520"/>
            <a:ext cx="3889440" cy="3352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afrika zhivotnye pustyni saxara 4 Африка: Животные пустыни Сахара"/>
          <p:cNvPicPr/>
          <p:nvPr/>
        </p:nvPicPr>
        <p:blipFill>
          <a:blip r:embed="rId2"/>
          <a:stretch/>
        </p:blipFill>
        <p:spPr>
          <a:xfrm>
            <a:off x="380880" y="2819520"/>
            <a:ext cx="434340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0520" y="457200"/>
            <a:ext cx="403884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ушканчи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этот маленький грызун чуть  крупнее мыши, а вот хвост у него в двое длиннее 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ушканчи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может совершать прыжки до 2 метров в дли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8320" y="457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рика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Эти грызуны живут колониями и целый день толкутся рядом, греясь на солнышке, встав на задние лапы, Эти забавные «семейки» все время оглядываются по сторонам, будто кого-то ждут. У норки всегда находится «часовой». При виде опасности зверек тут же предупреждает осталь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afrika zhivotnye pustyni saxara 9 Африка: Животные пустыни Сахара"/>
          <p:cNvPicPr/>
          <p:nvPr/>
        </p:nvPicPr>
        <p:blipFill>
          <a:blip r:embed="rId1"/>
          <a:stretch/>
        </p:blipFill>
        <p:spPr>
          <a:xfrm>
            <a:off x="457200" y="2895480"/>
            <a:ext cx="4038480" cy="3276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afrika zhivotnye pustyni saxara 6 Африка: Животные пустыни Сахара"/>
          <p:cNvPicPr/>
          <p:nvPr/>
        </p:nvPicPr>
        <p:blipFill>
          <a:blip r:embed="rId2"/>
          <a:stretch/>
        </p:blipFill>
        <p:spPr>
          <a:xfrm>
            <a:off x="4724280" y="2971800"/>
            <a:ext cx="403884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-528012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920" y="22824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-178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мур Индри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дри – самый шумный и крупный из всех лемуров. Он редко слезает с деревьев, где прыгает с ветки на ветку. Иногда лемур совершает прыжки на 10 метров, чтобы достать цветок, плод или сочный побег. А хвост у него – один из самых маленьк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495320" y="304920"/>
            <a:ext cx="40388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шачий лемур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шачьего лемура легко узнать по длинному полосатому хвосту. Заметив опасность, лемур размахивает хвостом, источающим неприятный запах, и  эти отпугивает вра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afrika zhivotnye savanny 13 Африка. Животные Африки: Животные Саванны"/>
          <p:cNvPicPr/>
          <p:nvPr/>
        </p:nvPicPr>
        <p:blipFill>
          <a:blip r:embed="rId1"/>
          <a:stretch/>
        </p:blipFill>
        <p:spPr>
          <a:xfrm>
            <a:off x="533520" y="2666880"/>
            <a:ext cx="4038480" cy="3581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afrika zhivotnye savanny 14 Африка. Животные Африки: Животные Саванны"/>
          <p:cNvPicPr/>
          <p:nvPr/>
        </p:nvPicPr>
        <p:blipFill>
          <a:blip r:embed="rId2"/>
          <a:stretch/>
        </p:blipFill>
        <p:spPr>
          <a:xfrm>
            <a:off x="4876920" y="2666880"/>
            <a:ext cx="40464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315200" y="-84636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8600"/>
            <a:ext cx="4038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авианы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авианы живут семьями и постоянно кочуют с места на место в поисках пищи: растений, насекомых, птиц и даже молодых газелей. Ночью на время сна павианы забираются высоко на дерево, чтобы их не смогла обнаружить панте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495320" y="457200"/>
            <a:ext cx="403884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илопа Куду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уду — одна из антилоп, живущих на просторах саванны. Всегда, прежде чем убежать от врага, эти антилопы совершают впечатляющие прыж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afrika zhivotnye savanny 10 Африка. Животные Африки: Животные Саванны"/>
          <p:cNvPicPr/>
          <p:nvPr/>
        </p:nvPicPr>
        <p:blipFill>
          <a:blip r:embed="rId1"/>
          <a:stretch/>
        </p:blipFill>
        <p:spPr>
          <a:xfrm>
            <a:off x="4495680" y="2514600"/>
            <a:ext cx="4318200" cy="3886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afrika zhivotnye savanny 17 Африка. Животные Африки: Животные Саванны"/>
          <p:cNvPicPr/>
          <p:nvPr/>
        </p:nvPicPr>
        <p:blipFill>
          <a:blip r:embed="rId2"/>
          <a:stretch/>
        </p:blipFill>
        <p:spPr>
          <a:xfrm>
            <a:off x="380880" y="2514600"/>
            <a:ext cx="3962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533160"/>
            <a:ext cx="40384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азель Орик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ернобы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— маленькая светло-сера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азел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 прямыми острыми рогами, которые могут достигать целого метр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8320" y="380880"/>
            <a:ext cx="4038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ен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— маленький сородич лисицы. У него большие уши, из-за которых он выглядит очень забавно. Фенек проводит почти весь день в логовище, устроенном в земле. А ночью выходит на охо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afrika zhivotnye pustyni saxara 1 Африка: Животные пустыни Сахара"/>
          <p:cNvPicPr/>
          <p:nvPr/>
        </p:nvPicPr>
        <p:blipFill>
          <a:blip r:embed="rId1"/>
          <a:stretch/>
        </p:blipFill>
        <p:spPr>
          <a:xfrm>
            <a:off x="4495680" y="2743200"/>
            <a:ext cx="4343400" cy="3406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frika zhivotnye pustyni saxara 2 Африка: Животные пустыни Сахара"/>
          <p:cNvPicPr/>
          <p:nvPr/>
        </p:nvPicPr>
        <p:blipFill>
          <a:blip r:embed="rId2"/>
          <a:stretch/>
        </p:blipFill>
        <p:spPr>
          <a:xfrm>
            <a:off x="380880" y="2743200"/>
            <a:ext cx="4038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04920" y="53352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Ящериц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В пустыне разновидностей ящериц очень много, также как и змеи они обитают в каменистых и песчаных местах и ведут ночной образ жизни, а днем отсыпаются, зарывшись в песок или спрятавшись в камня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0" y="457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огатая гадю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это ядовитая змея, в основном обитает в песчаных районах. Ее легко отличить от других змей по ее рожкам, расположенными над глазами. Часто она остается незамеченной, так как полностью зарывается в песок, оставляя снаружи только голов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afrika zhivotnye pustyni saxara 7 Африка: Животные пустыни Сахара"/>
          <p:cNvPicPr/>
          <p:nvPr/>
        </p:nvPicPr>
        <p:blipFill>
          <a:blip r:embed="rId1"/>
          <a:stretch/>
        </p:blipFill>
        <p:spPr>
          <a:xfrm>
            <a:off x="4724280" y="3048120"/>
            <a:ext cx="4191120" cy="3336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afrika zhivotnye pustyni saxara 10 Африка: Животные пустыни Сахара"/>
          <p:cNvPicPr/>
          <p:nvPr/>
        </p:nvPicPr>
        <p:blipFill>
          <a:blip r:embed="rId2"/>
          <a:stretch/>
        </p:blipFill>
        <p:spPr>
          <a:xfrm>
            <a:off x="457200" y="3048120"/>
            <a:ext cx="411480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 же необычного таит в себе Африка? Какие секреты природы она скрывает? Каков он, животный мир Африки? Человек, наверное, не скоро разгадает все ее тайны, но приблизиться к ним можно, посетив заповедники в тропической Африке. Там собрана большая коллекция животных в естественных условиях, в том числе и таких, которые существуют только в Афр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238880" cy="426708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8610480" y="6248520"/>
            <a:ext cx="304920" cy="4334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33440"/>
              <a:gd name="textAreaBottom" fmla="*/ 414000 h 433440"/>
            </a:gdLst>
            <a:ahLst/>
            <a:rect l="textAreaLeft" t="textAreaTop" r="textAreaRight" b="textAreaBottom"/>
            <a:pathLst>
              <a:path w="21600" h="30693">
                <a:moveTo>
                  <a:pt x="0" y="0"/>
                </a:moveTo>
                <a:lnTo>
                  <a:pt x="21600" y="0"/>
                </a:lnTo>
                <a:lnTo>
                  <a:pt x="21600" y="30693"/>
                </a:lnTo>
                <a:lnTo>
                  <a:pt x="0" y="30693"/>
                </a:lnTo>
                <a:close/>
              </a:path>
              <a:path fill="lightenLess" w="21600" h="306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693">
                <a:moveTo>
                  <a:pt x="21600" y="0"/>
                </a:moveTo>
                <a:lnTo>
                  <a:pt x="21600" y="30693"/>
                </a:lnTo>
                <a:lnTo>
                  <a:pt x="20200" y="29293"/>
                </a:lnTo>
                <a:lnTo>
                  <a:pt x="20200" y="1400"/>
                </a:lnTo>
                <a:close/>
              </a:path>
              <a:path fill="darkenLess" w="21600" h="30693">
                <a:moveTo>
                  <a:pt x="21600" y="30693"/>
                </a:moveTo>
                <a:lnTo>
                  <a:pt x="0" y="30693"/>
                </a:lnTo>
                <a:lnTo>
                  <a:pt x="1400" y="29293"/>
                </a:lnTo>
                <a:lnTo>
                  <a:pt x="20200" y="29293"/>
                </a:lnTo>
                <a:close/>
              </a:path>
              <a:path fill="lighten" w="21600" h="30693">
                <a:moveTo>
                  <a:pt x="0" y="306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9293"/>
                </a:lnTo>
                <a:close/>
              </a:path>
              <a:path fill="darken" w="21600" h="30693">
                <a:moveTo>
                  <a:pt x="7301" y="15347"/>
                </a:moveTo>
                <a:lnTo>
                  <a:pt x="17806" y="8340"/>
                </a:lnTo>
                <a:lnTo>
                  <a:pt x="17806" y="22353"/>
                </a:lnTo>
                <a:close/>
              </a:path>
              <a:path fill="darken" w="21600" h="30693">
                <a:moveTo>
                  <a:pt x="3794" y="8340"/>
                </a:moveTo>
                <a:lnTo>
                  <a:pt x="5456" y="8340"/>
                </a:lnTo>
                <a:lnTo>
                  <a:pt x="5456" y="22353"/>
                </a:lnTo>
                <a:lnTo>
                  <a:pt x="3794" y="2235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9760" y="-2675160"/>
            <a:ext cx="759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фрика – край пустынь и саванн, в котором и человек, и животные живут по законам природы. Саванны и редколесья занимают более 40% материка, там обитают : носороги, газели, буйволы, слоны, гепарды, шакалы… Пустыни занимают огромные пространства континента.  В них обитает большое количество тушканчиков, песчанок, шакалов.. Во влажных экваториальных лесах можно встретить: гориллу, бегемота, мартышек, шимпанзе и крокодилов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733920" y="1219320"/>
            <a:ext cx="5029200" cy="5105160"/>
            <a:chOff x="3733920" y="1219320"/>
            <a:chExt cx="5029200" cy="5105160"/>
          </a:xfrm>
        </p:grpSpPr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733920" y="1219320"/>
              <a:ext cx="5029200" cy="51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 txBox="1"/>
            <p:nvPr/>
          </p:nvSpPr>
          <p:spPr>
            <a:xfrm>
              <a:off x="3733920" y="1219320"/>
              <a:ext cx="5029200" cy="510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219320" y="30492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фр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фриканский сл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5909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амое крупное из современных наземных животных. Масса  может достигать 7,5 т, высота в плечах — до 4 м, длина тела 6—7,5 м. Имеет большие уши. На хоботе, образованном вытянутым носом и верхней губой, которые срослись, имеются 2 «пальца»  Слонов украшают большие бивни весом до 50 кг.. Держатся слоны стадами. Питаются ветками, листьями деревьев и кус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048120" y="1143000"/>
            <a:ext cx="5638680" cy="4983120"/>
            <a:chOff x="3048120" y="1143000"/>
            <a:chExt cx="5638680" cy="4983120"/>
          </a:xfrm>
        </p:grpSpPr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3048120" y="1143000"/>
              <a:ext cx="5638680" cy="498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 txBox="1"/>
            <p:nvPr/>
          </p:nvSpPr>
          <p:spPr>
            <a:xfrm>
              <a:off x="3048120" y="1143000"/>
              <a:ext cx="5638680" cy="4983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ира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28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амое высокое парнокопытное, ростом  не меньше, чем двухэтажный дом.  Длинная шея помогает животному щипать сочную листву высоких акаций способны развивать скорость до 50 км/ч. Жирафы редко живут в одиночку и чаще всего объединяются с антилопами или страус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124080" y="1219320"/>
            <a:ext cx="5562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рблю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ерблюд-животное, наиболее приспособленное к жизни в пустыне. Не зря его называют «кораблем пустыни»: день за днем он может шагать по пескам с тяжелым грузом на спине. Когда верблюд пьет, то может поглотить сразу до 130 литров воды! В Сахаре обитаю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ромадеры (одногорбые верблюды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однако во всем мире их называют просто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ерблюдам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afrika zhivotnye pustyni saxara 3 Африка: Животные пустыни Сахара"/>
          <p:cNvPicPr/>
          <p:nvPr/>
        </p:nvPicPr>
        <p:blipFill>
          <a:blip r:embed="rId1"/>
          <a:stretch/>
        </p:blipFill>
        <p:spPr>
          <a:xfrm>
            <a:off x="3048120" y="1295280"/>
            <a:ext cx="541008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ебры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819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зебр полосатые не только туловище, но даже грива, хвост и кожа. Лишь кончики морды и хвоста черные. Однако одинаковых зебр нет – у каждой из них свой черно-белый рисунок. Подобная окраска помогает зебрам прятаться, ведь их злейшие враги – львы и пантеры – всегда начеку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afrika zhivotnye savanny 2 Африка. Животные Африки: Животные Саванны"/>
          <p:cNvPicPr/>
          <p:nvPr/>
        </p:nvPicPr>
        <p:blipFill>
          <a:blip r:embed="rId1"/>
          <a:stretch/>
        </p:blipFill>
        <p:spPr>
          <a:xfrm>
            <a:off x="3505320" y="1066680"/>
            <a:ext cx="5467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ев и львица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0574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ев – самый крупный представитель кошачьих в Африке. Этот царь зверей никого не боится. Его рев слышен на много километров вокруг. Удивительно, но охотятся не львы, а львицы. За один раз лев съедает свыше 10 кг мя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afrika zhivotnye savanny 5 Африка. Животные Африки: Животные Саванны"/>
          <p:cNvPicPr/>
          <p:nvPr/>
        </p:nvPicPr>
        <p:blipFill>
          <a:blip r:embed="rId1"/>
          <a:stretch/>
        </p:blipFill>
        <p:spPr>
          <a:xfrm>
            <a:off x="2590920" y="1219320"/>
            <a:ext cx="62481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276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еопар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4382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нте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ил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опар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— одинокий хищник, прекрасно лазающий по деревьям. Именно сидя на дереве, пантера любит подстерегать добычу. Часто, после удачной охоты хищник затаскивает добычу на дерево, подальше от многочисленных прожорливых вориш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86200" y="304920"/>
            <a:ext cx="5029200" cy="3200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962520" y="3505320"/>
            <a:ext cx="48765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7632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епард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2860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епард большой любитель антилоп. Он не такой сильный, как пантера, но зато великолепный бегун. Это самое быстрое млекопитающее на планете: гепард развивает скорость до 100 км/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afrika zhivotnye savanny 8 Африка. Животные Африки: Животные Саванны"/>
          <p:cNvPicPr/>
          <p:nvPr/>
        </p:nvPicPr>
        <p:blipFill>
          <a:blip r:embed="rId1"/>
          <a:stretch/>
        </p:blipFill>
        <p:spPr>
          <a:xfrm>
            <a:off x="2895480" y="1219320"/>
            <a:ext cx="5943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4T16:53:57Z</dcterms:created>
  <dc:creator>Лана</dc:creator>
  <dc:description/>
  <dc:language>en-US</dc:language>
  <cp:lastModifiedBy>Лана</cp:lastModifiedBy>
  <dcterms:modified xsi:type="dcterms:W3CDTF">2017-12-22T12:23:5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