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CB4C-F9D3-4D1A-A151-804A13E72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9440" y="4587480"/>
            <a:ext cx="86043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C117-D995-4016-AEC4-BDDF5FE6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9440" y="458748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8360" y="458748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4F78-6CD6-4B06-BBCA-79109375E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8600" y="210132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9440" y="458748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8600" y="458748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7760" y="458748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5866-3E71-43D7-AA7B-19CB60DF6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43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39440" y="458748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43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CA1E-BDF0-48D7-84F5-5A904689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48360" y="458748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39440" y="4587480"/>
            <a:ext cx="86043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39440" y="4587480"/>
            <a:ext cx="86043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39440" y="458748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48360" y="458748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8600" y="210132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39440" y="458748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8600" y="458748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57760" y="458748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43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7953-EC53-45F5-A0EF-30D6900F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39440" y="458748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148360" y="458748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39440" y="4587480"/>
            <a:ext cx="86043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39440" y="4587480"/>
            <a:ext cx="86043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39440" y="458748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148360" y="458748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648600" y="210132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739440" y="458748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648600" y="458748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557760" y="458748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43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6FA4-37A5-4926-8478-6BE0A1C1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39440" y="458748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148360" y="458748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39440" y="4587480"/>
            <a:ext cx="86043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39440" y="4587480"/>
            <a:ext cx="86043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39440" y="458748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148360" y="458748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648600" y="210132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39440" y="458748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648600" y="458748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557760" y="458748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3DB7-A60D-4FE1-BD15-247ADFC1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43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39440" y="458748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148360" y="458748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39440" y="4587480"/>
            <a:ext cx="86043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739440" y="4587480"/>
            <a:ext cx="86043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39440" y="458748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148360" y="458748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51B9-7FEE-4A5E-B668-66983F377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48600" y="210132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739440" y="458748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48600" y="458748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557760" y="458748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43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39440" y="458748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148360" y="458748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739440" y="4587480"/>
            <a:ext cx="86043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9440" y="458748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6D74-CEF3-4A69-8534-E6B59885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739440" y="4587480"/>
            <a:ext cx="86043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39440" y="458748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5148360" y="458748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648600" y="210132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739440" y="458748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648600" y="458748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557760" y="458748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8360" y="458748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D765-7218-4335-A887-0319F0A7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9440" y="4587480"/>
            <a:ext cx="86043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027C-6D05-41D4-BD7F-DA74C2B5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4E17D0-F555-4E35-860C-7D21243958EE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5120" y="0"/>
            <a:ext cx="961560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fffbf0"/>
              </a:gs>
              <a:gs pos="100000">
                <a:srgbClr val="ffffcc"/>
              </a:gs>
            </a:gsLst>
            <a:lin ang="0"/>
          </a:gradFill>
          <a:ln cap="sq" w="9360">
            <a:solidFill>
              <a:srgbClr val="33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43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eb613d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61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30080" y="2100240"/>
            <a:ext cx="860616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20728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0728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20728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20728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20728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0728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93772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65120" y="0"/>
            <a:ext cx="961560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fffbf0"/>
              </a:gs>
              <a:gs pos="100000">
                <a:srgbClr val="ffffcc"/>
              </a:gs>
            </a:gsLst>
            <a:lin ang="0"/>
          </a:gradFill>
          <a:ln cap="sq" w="9360">
            <a:solidFill>
              <a:srgbClr val="33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43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2049480"/>
            <a:ext cx="612720" cy="5511960"/>
          </a:xfrm>
          <a:custGeom>
            <a:avLst/>
            <a:gdLst>
              <a:gd name="textAreaLeft" fmla="*/ 360 w 612720"/>
              <a:gd name="textAreaRight" fmla="*/ 612360 w 612720"/>
              <a:gd name="textAreaTop" fmla="*/ 360 h 5511960"/>
              <a:gd name="textAreaBottom" fmla="*/ 5511600 h 5511960"/>
            </a:gdLst>
            <a:ahLst/>
            <a:rect l="textAreaLeft" t="textAreaTop" r="textAreaRight" b="textAreaBottom"/>
            <a:pathLst>
              <a:path w="21600" h="194210">
                <a:moveTo>
                  <a:pt x="55" y="0"/>
                </a:moveTo>
                <a:arcTo wR="55" hR="55" stAng="16200000" swAng="-5400000"/>
                <a:lnTo>
                  <a:pt x="0" y="194155"/>
                </a:lnTo>
                <a:arcTo wR="55" hR="55" stAng="10800000" swAng="-5400000"/>
                <a:lnTo>
                  <a:pt x="21545" y="194210"/>
                </a:lnTo>
                <a:arcTo wR="55" hR="55" stAng="5400000" swAng="-5400000"/>
                <a:lnTo>
                  <a:pt x="21600" y="55"/>
                </a:lnTo>
                <a:arcTo wR="55" hR="55" stAng="0" swAng="-5400000"/>
                <a:close/>
              </a:path>
            </a:pathLst>
          </a:custGeom>
          <a:solidFill>
            <a:srgbClr val="dc2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7480" y="0"/>
            <a:ext cx="9363240" cy="1917720"/>
          </a:xfrm>
          <a:prstGeom prst="roundRect">
            <a:avLst>
              <a:gd name="adj" fmla="val 79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40880" y="2387160"/>
            <a:ext cx="86043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1905120"/>
            <a:ext cx="10080720" cy="195120"/>
          </a:xfrm>
          <a:prstGeom prst="roundRect">
            <a:avLst>
              <a:gd name="adj" fmla="val 819"/>
            </a:avLst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47560" y="0"/>
            <a:ext cx="182520" cy="755964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892913">
                <a:moveTo>
                  <a:pt x="189" y="0"/>
                </a:moveTo>
                <a:arcTo wR="189" hR="189" stAng="16200000" swAng="-5400000"/>
                <a:lnTo>
                  <a:pt x="0" y="892724"/>
                </a:lnTo>
                <a:arcTo wR="189" hR="189" stAng="10800000" swAng="-5400000"/>
                <a:lnTo>
                  <a:pt x="21411" y="89291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700" spc="-1" strike="noStrike">
                <a:solidFill>
                  <a:srgbClr val="0000ff"/>
                </a:solidFill>
                <a:latin typeface="Times New Roman"/>
              </a:rPr>
              <a:t>Мои любимые стихи Анны Ахматовой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792000" y="2195640"/>
            <a:ext cx="3841920" cy="45003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4608360" y="4226040"/>
            <a:ext cx="5281920" cy="27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рниенко Ольг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ченица 11 класса «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БОУ СОШ№7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читель: О.С.Лоскутников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5400720" y="539640"/>
            <a:ext cx="4500360" cy="67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Мужест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Мы знаем, что ныне лежит на веса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И что совершается нын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Час мужества пробил на наших часах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И мужество нас не покин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Не страшно под пулями мертвыми лечь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Не горько остаться без кров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И мы сохраним тебя, русская речь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Великое русское слов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Свободным и чистым тебя пронесем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И внукам дадим, и от плена спас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Наве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179280" y="2179800"/>
            <a:ext cx="4859280" cy="3039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60360" y="360360"/>
            <a:ext cx="4319640" cy="39592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5580000" y="2879640"/>
            <a:ext cx="3600360" cy="4500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5400720" y="789120"/>
            <a:ext cx="388764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Arial"/>
              </a:rPr>
              <a:t>Анна Андреевна Ахмат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84160" y="4751280"/>
            <a:ext cx="429912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msmincho"/>
              </a:rPr>
              <a:t>(1889–1966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msmincho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msmincho"/>
              </a:rPr>
              <a:t>русский поэ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500720" y="1800360"/>
            <a:ext cx="5219640" cy="56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768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Times New Roman"/>
              </a:rPr>
              <a:t>И как будто по ошиб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Times New Roman"/>
              </a:rPr>
              <a:t>Я сказала: "Ты…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Times New Roman"/>
              </a:rPr>
              <a:t>Озарила тень улы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Times New Roman"/>
              </a:rPr>
              <a:t>Милые чер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Times New Roman"/>
              </a:rPr>
              <a:t>От подобных оговор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Times New Roman"/>
              </a:rPr>
              <a:t>Всякий вспыхнет взор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Times New Roman"/>
              </a:rPr>
              <a:t>Я люблю тебя, как сор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Times New Roman"/>
              </a:rPr>
              <a:t>Ласковых сесте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Times New Roman"/>
              </a:rPr>
              <a:t>                               </a:t>
            </a:r>
            <a:r>
              <a:rPr b="1" lang="ru-RU" sz="2800" spc="-1" strike="noStrike">
                <a:solidFill>
                  <a:srgbClr val="000080"/>
                </a:solidFill>
                <a:latin typeface="Times New Roman"/>
              </a:rPr>
              <a:t>19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179280" y="360360"/>
            <a:ext cx="4140360" cy="3060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39640" y="900000"/>
            <a:ext cx="4680000" cy="36007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5859360" y="2160720"/>
            <a:ext cx="404172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56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80099"/>
                </a:solidFill>
                <a:latin typeface="Times New Roman"/>
              </a:rPr>
              <a:t>Он любил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80099"/>
                </a:solidFill>
                <a:latin typeface="Times New Roman"/>
              </a:rPr>
              <a:t>Он любил три вещи на свет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80099"/>
                </a:solidFill>
                <a:latin typeface="Times New Roman"/>
              </a:rPr>
              <a:t>За вечерней пенье, белых павлин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80099"/>
                </a:solidFill>
                <a:latin typeface="Times New Roman"/>
              </a:rPr>
              <a:t>И стертые карты Амери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80099"/>
                </a:solidFill>
                <a:latin typeface="Times New Roman"/>
              </a:rPr>
              <a:t>Не любил, когда плачут дети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80099"/>
                </a:solidFill>
                <a:latin typeface="Times New Roman"/>
              </a:rPr>
              <a:t>Не любил чая с малино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80099"/>
                </a:solidFill>
                <a:latin typeface="Times New Roman"/>
              </a:rPr>
              <a:t>И женской истери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80099"/>
                </a:solidFill>
                <a:latin typeface="Times New Roman"/>
              </a:rPr>
              <a:t>…</a:t>
            </a:r>
            <a:r>
              <a:rPr b="1" lang="ru-RU" sz="2600" spc="-1" strike="noStrike">
                <a:solidFill>
                  <a:srgbClr val="280099"/>
                </a:solidFill>
                <a:latin typeface="Times New Roman"/>
              </a:rPr>
              <a:t>А я была его жено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80099"/>
                </a:solidFill>
                <a:latin typeface="Times New Roman"/>
              </a:rPr>
              <a:t>                                    </a:t>
            </a:r>
            <a:r>
              <a:rPr b="1" lang="ru-RU" sz="2600" spc="-1" strike="noStrike">
                <a:solidFill>
                  <a:srgbClr val="280099"/>
                </a:solidFill>
                <a:latin typeface="Times New Roman"/>
              </a:rPr>
              <a:t>19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4680000" y="569880"/>
            <a:ext cx="4859280" cy="68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56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ЛЮБОВ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То змейкой, свернувшись клубком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У самого сердца колдует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То целые дни голубк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На белом окошке воркует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То в инее ярком блеснет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очудится в дреме левкоя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Но верно и тайно веде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т радости и от поко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Умеет так сладко рыда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 молитве тоскующей скрипки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И страшно ее угада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 еще незнакомой улыбк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720720" y="1440000"/>
            <a:ext cx="2643120" cy="3600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959280" y="539640"/>
            <a:ext cx="5580000" cy="63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жала руки под темной вуалью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"Отчего ты сегодня бледна?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Оттого, что я терпкой печал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поила его допья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забуду? Он вышел, шатая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скривился мучительно рот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 сбежала, перил не касая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 бежала за ним до вор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дыхаясь, я крикнула: "Шут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се, что было. Уйдешь, я умру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лыбнулся спокойно и жут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сказал мне: "Не стой на ветру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0" y="1979640"/>
            <a:ext cx="3906720" cy="4006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700360" y="281160"/>
            <a:ext cx="5280120" cy="70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ЕЧЕР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Звенела музыка в сад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аким невыразимым гор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вежо и остро пахли мор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 блюде устрицы во льд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н мне сказал: "Я верный друг!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 моего коснулся платья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ак не похожи на объять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икосновенья этих ру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ак гладят кошек или птиц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ак на наездниц смотрят стройных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Лишь смех в глазах его спокой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д легким золотом ресниц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 скорбных скрипок голо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ют за стелющимся дымо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"Благослови же небеса 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ы первый раз одна с любимым"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5722920" y="360360"/>
            <a:ext cx="4537080" cy="72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Я научилась просто, мудро жить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мотреть на небо и молиться Богу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 долго перед вечером бродить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Чтоб утомить ненужную тревог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огда шуршат в овраге лопух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 никнет гроздь рябины желто-красной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лагаю я веселые стих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 жизни тленной, тленной и прекрасн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Я возвращаюсь. Лижет мне ладон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ушистый кот, мурлыкает умильней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 яркий загорается огон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 башенке озерной лесопиль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Лишь изредка прорезывает тиш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рик аиста, слетевшего на крыш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 если в дверь мою ты постучишь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не кажется, я даже не услыш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179280" y="1619280"/>
            <a:ext cx="5219640" cy="3419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5759280" y="743040"/>
            <a:ext cx="3840480" cy="24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а женщина боль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а женщина од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уж в могиле, сын в тюрьм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молитесь обо м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20720" y="3240000"/>
            <a:ext cx="5580000" cy="37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упало каменное сл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мою еще живую груд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ичего, ведь я была гото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равлюсь с этим как-нибуд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меня сегодня много де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до память до конца уби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до, чтоб душа окамене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до снова научиться ж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1260360" y="179280"/>
            <a:ext cx="2160720" cy="30607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7199280" y="4724280"/>
            <a:ext cx="1847880" cy="2476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6T16:57:00Z</dcterms:created>
  <dc:creator/>
  <dc:description/>
  <dc:language>en-US</dc:language>
  <cp:lastModifiedBy/>
  <cp:revision>1</cp:revision>
  <dc:subject/>
  <dc:title/>
</cp:coreProperties>
</file>